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90.jpeg" ContentType="image/jpeg"/>
  <Override PartName="/ppt/media/image17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5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117.jpeg" ContentType="image/jpeg"/>
  <Override PartName="/ppt/media/image190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83.jpeg" ContentType="image/jpeg"/>
  <Override PartName="/ppt/media/image116.jpeg" ContentType="image/jpeg"/>
  <Override PartName="/ppt/media/image20.jpeg" ContentType="image/jpeg"/>
  <Override PartName="/ppt/media/image109.jpeg" ContentType="image/jpeg"/>
  <Override PartName="/ppt/media/image18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0.jpeg" ContentType="image/jpeg"/>
  <Override PartName="/ppt/media/image41.jpeg" ContentType="image/jpeg"/>
  <Override PartName="/ppt/media/image211.jpeg" ContentType="image/jpeg"/>
  <Override PartName="/ppt/media/image118.jpeg" ContentType="image/jpeg"/>
  <Override PartName="/ppt/media/image191.jpeg" ContentType="image/jpeg"/>
  <Override PartName="/ppt/media/image101.jpeg" ContentType="image/jpeg"/>
  <Override PartName="/ppt/media/image81.jpeg" ContentType="image/jpeg"/>
  <Override PartName="/ppt/media/image22.jpeg" ContentType="image/jpeg"/>
  <Override PartName="/ppt/media/image184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05.jpeg" ContentType="image/jpeg"/>
  <Override PartName="/ppt/media/image119.jpeg" ContentType="image/jpeg"/>
  <Override PartName="/ppt/media/image192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185.jpeg" ContentType="image/jpeg"/>
  <Override PartName="/ppt/media/image2.jpeg" ContentType="image/jpeg"/>
  <Override PartName="/ppt/media/image36.jpeg" ContentType="image/jpeg"/>
  <Override PartName="/ppt/media/image20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186.jpeg" ContentType="image/jpeg"/>
  <Override PartName="/ppt/media/image3.jpeg" ContentType="image/jpeg"/>
  <Override PartName="/ppt/media/image37.jpeg" ContentType="image/jpeg"/>
  <Override PartName="/ppt/media/image207.jpeg" ContentType="image/jpeg"/>
  <Override PartName="/ppt/media/image104.jpeg" ContentType="image/jpeg"/>
  <Override PartName="/ppt/media/image84.jpeg" ContentType="image/jpeg"/>
  <Override PartName="/ppt/media/image25.jpeg" ContentType="image/jpeg"/>
  <Override PartName="/ppt/media/image187.jpeg" ContentType="image/jpeg"/>
  <Override PartName="/ppt/media/image4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131.jpeg" ContentType="image/jpeg"/>
  <Override PartName="/ppt/media/image148.jpeg" ContentType="image/jpeg"/>
  <Override PartName="/ppt/media/image52.jpeg" ContentType="image/jpeg"/>
  <Override PartName="/ppt/media/image132.jpeg" ContentType="image/jpeg"/>
  <Override PartName="/ppt/media/image149.jpeg" ContentType="image/jpeg"/>
  <Override PartName="/ppt/media/image53.jpeg" ContentType="image/jpeg"/>
  <Override PartName="/ppt/media/image140.jpeg" ContentType="image/jpeg"/>
  <Override PartName="/ppt/media/image141.jpeg" ContentType="image/jpeg"/>
  <Override PartName="/ppt/media/image142.jpeg" ContentType="image/jpeg"/>
  <Override PartName="/ppt/media/image143.jpeg" ContentType="image/jpeg"/>
  <Override PartName="/ppt/media/image146.jpeg" ContentType="image/jpeg"/>
  <Override PartName="/ppt/media/image150.jpeg" ContentType="image/jpeg"/>
  <Override PartName="/ppt/media/image167.jpeg" ContentType="image/jpeg"/>
  <Override PartName="/ppt/media/image151.jpeg" ContentType="image/jpeg"/>
  <Override PartName="/ppt/media/image168.jpeg" ContentType="image/jpeg"/>
  <Override PartName="/ppt/media/image6.jpeg" ContentType="image/jpeg"/>
  <Override PartName="/ppt/media/image152.jpeg" ContentType="image/jpeg"/>
  <Override PartName="/ppt/media/image169.jpeg" ContentType="image/jpeg"/>
  <Override PartName="/ppt/media/image153.jpeg" ContentType="image/jpeg"/>
  <Override PartName="/ppt/media/image128.jpeg" ContentType="image/jpeg"/>
  <Override PartName="/ppt/media/image154.jpeg" ContentType="image/jpeg"/>
  <Override PartName="/ppt/media/image129.jpeg" ContentType="image/jpeg"/>
  <Override PartName="/ppt/media/image155.jpeg" ContentType="image/jpeg"/>
  <Override PartName="/ppt/media/image176.jpeg" ContentType="image/jpeg"/>
  <Override PartName="/ppt/media/image179.jpeg" ContentType="image/jpeg"/>
  <Override PartName="/ppt/media/image195.jpeg" ContentType="image/jpeg"/>
  <Override PartName="/ppt/media/image157.jpeg" ContentType="image/jpeg"/>
  <Override PartName="/ppt/media/image196.jpeg" ContentType="image/jpeg"/>
  <Override PartName="/ppt/media/image158.jpeg" ContentType="image/jpeg"/>
  <Override PartName="/ppt/media/image197.jpeg" ContentType="image/jpeg"/>
  <Override PartName="/ppt/media/image198.jpeg" ContentType="image/jpeg"/>
  <Override PartName="/ppt/media/image208.jpeg" ContentType="image/jpeg"/>
  <Override PartName="/ppt/media/image199.jpeg" ContentType="image/jpeg"/>
  <Override PartName="/ppt/media/image59.jpeg" ContentType="image/jpeg"/>
  <Override PartName="/ppt/media/image138.jpeg" ContentType="image/jpeg"/>
  <Override PartName="/ppt/media/image212.jpeg" ContentType="image/jpeg"/>
  <Override PartName="/ppt/media/image42.jpeg" ContentType="image/jpeg"/>
  <Override PartName="/ppt/media/image209.jpeg" ContentType="image/jpeg"/>
  <Override PartName="/ppt/media/image177.jpeg" ContentType="image/jpeg"/>
  <Override PartName="/ppt/media/image193.jpeg" ContentType="image/jpeg"/>
  <Override PartName="/ppt/media/image178.jpeg" ContentType="image/jpeg"/>
  <Override PartName="/ppt/media/image194.jpeg" ContentType="image/jpeg"/>
  <Override PartName="/ppt/media/image219.jpeg" ContentType="image/jpeg"/>
  <Override PartName="/ppt/media/image49.jpeg" ContentType="image/jpeg"/>
  <Override PartName="/ppt/media/image156.jpeg" ContentType="image/jpeg"/>
  <Override PartName="/ppt/media/image175.jpeg" ContentType="image/jpeg"/>
  <Override PartName="/ppt/media/image145.jpeg" ContentType="image/jpeg"/>
  <Override PartName="/ppt/media/image171.jpeg" ContentType="image/jpeg"/>
  <Override PartName="/ppt/media/image165.jpeg" ContentType="image/jpeg"/>
  <Override PartName="/ppt/media/image144.jpeg" ContentType="image/jpeg"/>
  <Override PartName="/ppt/media/image170.jpeg" ContentType="image/jpeg"/>
  <Override PartName="/ppt/media/image137.jpeg" ContentType="image/jpeg"/>
  <Override PartName="/ppt/media/image58.jpeg" ContentType="image/jpeg"/>
  <Override PartName="/ppt/media/image48.jpeg" ContentType="image/jpeg"/>
  <Override PartName="/ppt/media/image218.jpeg" ContentType="image/jpeg"/>
  <Override PartName="/ppt/media/image164.jpeg" ContentType="image/jpeg"/>
  <Override PartName="/ppt/media/image166.jpeg" ContentType="image/jpeg"/>
  <Override PartName="/ppt/media/image136.jpeg" ContentType="image/jpeg"/>
  <Override PartName="/ppt/media/image57.jpeg" ContentType="image/jpeg"/>
  <Override PartName="/ppt/media/image163.jpeg" ContentType="image/jpeg"/>
  <Override PartName="/ppt/media/image135.jpeg" ContentType="image/jpeg"/>
  <Override PartName="/ppt/media/image56.jpeg" ContentType="image/jpeg"/>
  <Override PartName="/ppt/media/image162.jpeg" ContentType="image/jpeg"/>
  <Override PartName="/ppt/media/image134.jpeg" ContentType="image/jpeg"/>
  <Override PartName="/ppt/media/image55.jpeg" ContentType="image/jpeg"/>
  <Override PartName="/ppt/media/image161.jpeg" ContentType="image/jpeg"/>
  <Override PartName="/ppt/media/image133.jpeg" ContentType="image/jpeg"/>
  <Override PartName="/ppt/media/image54.jpeg" ContentType="image/jpeg"/>
  <Override PartName="/ppt/media/image160.jpeg" ContentType="image/jpeg"/>
  <Override PartName="/ppt/media/image217.jpeg" ContentType="image/jpeg"/>
  <Override PartName="/ppt/media/image47.jpeg" ContentType="image/jpeg"/>
  <Override PartName="/ppt/media/image216.jpeg" ContentType="image/jpeg"/>
  <Override PartName="/ppt/media/image46.jpeg" ContentType="image/jpeg"/>
  <Override PartName="/ppt/media/image215.jpeg" ContentType="image/jpeg"/>
  <Override PartName="/ppt/media/image45.jpeg" ContentType="image/jpeg"/>
  <Override PartName="/ppt/media/image214.jpeg" ContentType="image/jpeg"/>
  <Override PartName="/ppt/media/image44.jpeg" ContentType="image/jpeg"/>
  <Override PartName="/ppt/media/image7.jpeg" ContentType="image/jpeg"/>
  <Override PartName="/ppt/media/image213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204.jpeg" ContentType="image/jpeg"/>
  <Override PartName="/ppt/media/image34.jpeg" ContentType="image/jpeg"/>
  <Override PartName="/ppt/media/image203.jpeg" ContentType="image/jpeg"/>
  <Override PartName="/ppt/media/image33.jpeg" ContentType="image/jpeg"/>
  <Override PartName="/ppt/media/image32.jpeg" ContentType="image/jpeg"/>
  <Override PartName="/ppt/media/image202.jpeg" ContentType="image/jpeg"/>
  <Override PartName="/ppt/media/image31.jpeg" ContentType="image/jpeg"/>
  <Override PartName="/ppt/media/image201.jpeg" ContentType="image/jpeg"/>
  <Override PartName="/ppt/media/image200.jpeg" ContentType="image/jpeg"/>
  <Override PartName="/ppt/media/image30.jpeg" ContentType="image/jpeg"/>
  <Override PartName="/ppt/media/image9.jpeg" ContentType="image/jpeg"/>
  <Override PartName="/ppt/media/image17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80.jpeg" ContentType="image/jpeg"/>
  <Override PartName="/ppt/media/image107.jpeg" ContentType="image/jpeg"/>
  <Override PartName="/ppt/media/image40.jpeg" ContentType="image/jpeg"/>
  <Override PartName="/ppt/media/image21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72.jpeg" ContentType="image/jpeg"/>
  <Override PartName="/ppt/media/image10.jpeg" ContentType="image/jpeg"/>
  <Override PartName="/ppt/media/image86.jpeg" ContentType="image/jpeg"/>
  <Override PartName="/ppt/media/image106.jpeg" ContentType="image/jpeg"/>
  <Override PartName="/ppt/media/image27.jpeg" ContentType="image/jpeg"/>
  <Override PartName="/ppt/media/image189.jpeg" ContentType="image/jpeg"/>
  <Override PartName="/ppt/media/image29.jpeg" ContentType="image/jpeg"/>
  <Override PartName="/ppt/media/image88.jpeg" ContentType="image/jpeg"/>
  <Override PartName="/ppt/media/image181.jpeg" ContentType="image/jpeg"/>
  <Override PartName="/ppt/media/image108.jpeg" ContentType="image/jpeg"/>
  <Override PartName="/ppt/media/image12.jpeg" ContentType="image/jpeg"/>
  <Override PartName="/ppt/media/image174.jpeg" ContentType="image/jpeg"/>
  <Override PartName="/ppt/media/image38.jpeg" ContentType="image/jpeg"/>
  <Override PartName="/ppt/media/image97.jpeg" ContentType="image/jpeg"/>
  <Override PartName="/ppt/media/image5.jpeg" ContentType="image/jpeg"/>
  <Override PartName="/ppt/media/image188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14F-6BDC-41F1-9D2E-464D96C3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E3E-2DF8-4541-8E07-9BE5AA3F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02F-858C-415A-894E-C23F4B50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BD8-9881-4DA9-952E-26469FFC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DDC-6DFC-4589-A934-8FE8C0A7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A90-9593-4706-8BDD-2B9BC1E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27D-B8B0-47A2-B667-43774A17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52B-05B6-4AEC-9844-77D96ED8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DB8-3CBA-4E1F-B2E0-62CA3867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140-D396-47F1-B5B2-8672180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549-30A1-4A6F-ABE2-D631BECF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B08-20C9-4CA3-8BF2-9FAB3C7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07FC04-8C42-410E-9402-DC7910FD503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28.jpeg"/><Relationship Id="rId28" Type="http://schemas.openxmlformats.org/officeDocument/2006/relationships/image" Target="../media/image29.jpeg"/><Relationship Id="rId29" Type="http://schemas.openxmlformats.org/officeDocument/2006/relationships/image" Target="../media/image30.jpeg"/><Relationship Id="rId30" Type="http://schemas.openxmlformats.org/officeDocument/2006/relationships/image" Target="../media/image31.jpeg"/><Relationship Id="rId31" Type="http://schemas.openxmlformats.org/officeDocument/2006/relationships/image" Target="../media/image32.jpeg"/><Relationship Id="rId32" Type="http://schemas.openxmlformats.org/officeDocument/2006/relationships/image" Target="../media/image33.jpeg"/><Relationship Id="rId33" Type="http://schemas.openxmlformats.org/officeDocument/2006/relationships/image" Target="../media/image34.jpeg"/><Relationship Id="rId34" Type="http://schemas.openxmlformats.org/officeDocument/2006/relationships/image" Target="../media/image35.jpeg"/><Relationship Id="rId35" Type="http://schemas.openxmlformats.org/officeDocument/2006/relationships/image" Target="../media/image36.jpeg"/><Relationship Id="rId36" Type="http://schemas.openxmlformats.org/officeDocument/2006/relationships/image" Target="../media/image37.jpeg"/><Relationship Id="rId37" Type="http://schemas.openxmlformats.org/officeDocument/2006/relationships/image" Target="../media/image38.jpeg"/><Relationship Id="rId38" Type="http://schemas.openxmlformats.org/officeDocument/2006/relationships/image" Target="../media/image39.jpeg"/><Relationship Id="rId39" Type="http://schemas.openxmlformats.org/officeDocument/2006/relationships/image" Target="../media/image40.jpeg"/><Relationship Id="rId40" Type="http://schemas.openxmlformats.org/officeDocument/2006/relationships/image" Target="../media/image41.jpeg"/><Relationship Id="rId41" Type="http://schemas.openxmlformats.org/officeDocument/2006/relationships/image" Target="../media/image42.jpeg"/><Relationship Id="rId42" Type="http://schemas.openxmlformats.org/officeDocument/2006/relationships/image" Target="../media/image43.jpeg"/><Relationship Id="rId43" Type="http://schemas.openxmlformats.org/officeDocument/2006/relationships/image" Target="../media/image44.jpeg"/><Relationship Id="rId44" Type="http://schemas.openxmlformats.org/officeDocument/2006/relationships/image" Target="../media/image45.jpeg"/><Relationship Id="rId45" Type="http://schemas.openxmlformats.org/officeDocument/2006/relationships/image" Target="../media/image46.jpeg"/><Relationship Id="rId46" Type="http://schemas.openxmlformats.org/officeDocument/2006/relationships/image" Target="../media/image47.jpeg"/><Relationship Id="rId47" Type="http://schemas.openxmlformats.org/officeDocument/2006/relationships/image" Target="../media/image48.jpeg"/><Relationship Id="rId48" Type="http://schemas.openxmlformats.org/officeDocument/2006/relationships/image" Target="../media/image49.jpeg"/><Relationship Id="rId49" Type="http://schemas.openxmlformats.org/officeDocument/2006/relationships/image" Target="../media/image50.jpeg"/><Relationship Id="rId50" Type="http://schemas.openxmlformats.org/officeDocument/2006/relationships/image" Target="../media/image51.jpeg"/><Relationship Id="rId51" Type="http://schemas.openxmlformats.org/officeDocument/2006/relationships/image" Target="../media/image52.jpeg"/><Relationship Id="rId52" Type="http://schemas.openxmlformats.org/officeDocument/2006/relationships/image" Target="../media/image53.jpeg"/><Relationship Id="rId53" Type="http://schemas.openxmlformats.org/officeDocument/2006/relationships/image" Target="../media/image54.jpeg"/><Relationship Id="rId54" Type="http://schemas.openxmlformats.org/officeDocument/2006/relationships/image" Target="../media/image55.jpeg"/><Relationship Id="rId55" Type="http://schemas.openxmlformats.org/officeDocument/2006/relationships/image" Target="../media/image56.jpeg"/><Relationship Id="rId56" Type="http://schemas.openxmlformats.org/officeDocument/2006/relationships/image" Target="../media/image57.jpeg"/><Relationship Id="rId57" Type="http://schemas.openxmlformats.org/officeDocument/2006/relationships/image" Target="../media/image58.jpeg"/><Relationship Id="rId58" Type="http://schemas.openxmlformats.org/officeDocument/2006/relationships/image" Target="../media/image59.jpeg"/><Relationship Id="rId59" Type="http://schemas.openxmlformats.org/officeDocument/2006/relationships/image" Target="../media/image60.jpeg"/><Relationship Id="rId60" Type="http://schemas.openxmlformats.org/officeDocument/2006/relationships/image" Target="../media/image61.jpeg"/><Relationship Id="rId61" Type="http://schemas.openxmlformats.org/officeDocument/2006/relationships/image" Target="../media/image62.jpeg"/><Relationship Id="rId62" Type="http://schemas.openxmlformats.org/officeDocument/2006/relationships/image" Target="../media/image63.jpeg"/><Relationship Id="rId63" Type="http://schemas.openxmlformats.org/officeDocument/2006/relationships/image" Target="../media/image64.jpeg"/><Relationship Id="rId64" Type="http://schemas.openxmlformats.org/officeDocument/2006/relationships/image" Target="../media/image65.jpeg"/><Relationship Id="rId65" Type="http://schemas.openxmlformats.org/officeDocument/2006/relationships/image" Target="../media/image66.jpeg"/><Relationship Id="rId66" Type="http://schemas.openxmlformats.org/officeDocument/2006/relationships/image" Target="../media/image67.jpeg"/><Relationship Id="rId67" Type="http://schemas.openxmlformats.org/officeDocument/2006/relationships/image" Target="../media/image68.jpeg"/><Relationship Id="rId68" Type="http://schemas.openxmlformats.org/officeDocument/2006/relationships/image" Target="../media/image69.jpeg"/><Relationship Id="rId69" Type="http://schemas.openxmlformats.org/officeDocument/2006/relationships/image" Target="../media/image70.jpeg"/><Relationship Id="rId70" Type="http://schemas.openxmlformats.org/officeDocument/2006/relationships/image" Target="../media/image71.jpeg"/><Relationship Id="rId71" Type="http://schemas.openxmlformats.org/officeDocument/2006/relationships/image" Target="../media/image72.jpeg"/><Relationship Id="rId72" Type="http://schemas.openxmlformats.org/officeDocument/2006/relationships/image" Target="../media/image73.jpeg"/><Relationship Id="rId73" Type="http://schemas.openxmlformats.org/officeDocument/2006/relationships/image" Target="../media/image74.jpeg"/><Relationship Id="rId74" Type="http://schemas.openxmlformats.org/officeDocument/2006/relationships/image" Target="../media/image75.jpeg"/><Relationship Id="rId75" Type="http://schemas.openxmlformats.org/officeDocument/2006/relationships/image" Target="../media/image76.jpeg"/><Relationship Id="rId76" Type="http://schemas.openxmlformats.org/officeDocument/2006/relationships/image" Target="../media/image77.jpeg"/><Relationship Id="rId77" Type="http://schemas.openxmlformats.org/officeDocument/2006/relationships/image" Target="../media/image78.jpeg"/><Relationship Id="rId78" Type="http://schemas.openxmlformats.org/officeDocument/2006/relationships/image" Target="../media/image79.jpeg"/><Relationship Id="rId79" Type="http://schemas.openxmlformats.org/officeDocument/2006/relationships/image" Target="../media/image80.jpeg"/><Relationship Id="rId80" Type="http://schemas.openxmlformats.org/officeDocument/2006/relationships/image" Target="../media/image81.jpeg"/><Relationship Id="rId81" Type="http://schemas.openxmlformats.org/officeDocument/2006/relationships/image" Target="../media/image82.jpeg"/><Relationship Id="rId82" Type="http://schemas.openxmlformats.org/officeDocument/2006/relationships/image" Target="../media/image83.jpeg"/><Relationship Id="rId83" Type="http://schemas.openxmlformats.org/officeDocument/2006/relationships/image" Target="../media/image84.jpeg"/><Relationship Id="rId84" Type="http://schemas.openxmlformats.org/officeDocument/2006/relationships/image" Target="../media/image85.jpeg"/><Relationship Id="rId85" Type="http://schemas.openxmlformats.org/officeDocument/2006/relationships/image" Target="../media/image86.jpeg"/><Relationship Id="rId86" Type="http://schemas.openxmlformats.org/officeDocument/2006/relationships/image" Target="../media/image87.jpeg"/><Relationship Id="rId87" Type="http://schemas.openxmlformats.org/officeDocument/2006/relationships/image" Target="../media/image88.jpeg"/><Relationship Id="rId88" Type="http://schemas.openxmlformats.org/officeDocument/2006/relationships/image" Target="../media/image89.jpeg"/><Relationship Id="rId89" Type="http://schemas.openxmlformats.org/officeDocument/2006/relationships/image" Target="../media/image90.jpeg"/><Relationship Id="rId90" Type="http://schemas.openxmlformats.org/officeDocument/2006/relationships/image" Target="../media/image91.jpeg"/><Relationship Id="rId91" Type="http://schemas.openxmlformats.org/officeDocument/2006/relationships/image" Target="../media/image92.jpeg"/><Relationship Id="rId92" Type="http://schemas.openxmlformats.org/officeDocument/2006/relationships/image" Target="../media/image93.jpeg"/><Relationship Id="rId93" Type="http://schemas.openxmlformats.org/officeDocument/2006/relationships/image" Target="../media/image94.jpeg"/><Relationship Id="rId94" Type="http://schemas.openxmlformats.org/officeDocument/2006/relationships/image" Target="../media/image95.jpeg"/><Relationship Id="rId95" Type="http://schemas.openxmlformats.org/officeDocument/2006/relationships/image" Target="../media/image96.jpeg"/><Relationship Id="rId96" Type="http://schemas.openxmlformats.org/officeDocument/2006/relationships/image" Target="../media/image97.jpeg"/><Relationship Id="rId97" Type="http://schemas.openxmlformats.org/officeDocument/2006/relationships/image" Target="../media/image98.jpeg"/><Relationship Id="rId98" Type="http://schemas.openxmlformats.org/officeDocument/2006/relationships/image" Target="../media/image99.jpeg"/><Relationship Id="rId99" Type="http://schemas.openxmlformats.org/officeDocument/2006/relationships/image" Target="../media/image100.jpeg"/><Relationship Id="rId100" Type="http://schemas.openxmlformats.org/officeDocument/2006/relationships/image" Target="../media/image101.jpeg"/><Relationship Id="rId101" Type="http://schemas.openxmlformats.org/officeDocument/2006/relationships/image" Target="../media/image102.jpeg"/><Relationship Id="rId102" Type="http://schemas.openxmlformats.org/officeDocument/2006/relationships/image" Target="../media/image103.jpeg"/><Relationship Id="rId103" Type="http://schemas.openxmlformats.org/officeDocument/2006/relationships/image" Target="../media/image104.jpeg"/><Relationship Id="rId104" Type="http://schemas.openxmlformats.org/officeDocument/2006/relationships/image" Target="../media/image105.jpeg"/><Relationship Id="rId105" Type="http://schemas.openxmlformats.org/officeDocument/2006/relationships/image" Target="../media/image106.jpeg"/><Relationship Id="rId106" Type="http://schemas.openxmlformats.org/officeDocument/2006/relationships/image" Target="../media/image107.jpeg"/><Relationship Id="rId107" Type="http://schemas.openxmlformats.org/officeDocument/2006/relationships/image" Target="../media/image108.jpeg"/><Relationship Id="rId108" Type="http://schemas.openxmlformats.org/officeDocument/2006/relationships/image" Target="../media/image109.jpeg"/><Relationship Id="rId10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image" Target="../media/image114.jpeg"/><Relationship Id="rId6" Type="http://schemas.openxmlformats.org/officeDocument/2006/relationships/image" Target="../media/image115.jpeg"/><Relationship Id="rId7" Type="http://schemas.openxmlformats.org/officeDocument/2006/relationships/image" Target="../media/image116.jpeg"/><Relationship Id="rId8" Type="http://schemas.openxmlformats.org/officeDocument/2006/relationships/image" Target="../media/image117.jpeg"/><Relationship Id="rId9" Type="http://schemas.openxmlformats.org/officeDocument/2006/relationships/image" Target="../media/image118.jpeg"/><Relationship Id="rId10" Type="http://schemas.openxmlformats.org/officeDocument/2006/relationships/image" Target="../media/image119.jpeg"/><Relationship Id="rId11" Type="http://schemas.openxmlformats.org/officeDocument/2006/relationships/image" Target="../media/image120.jpeg"/><Relationship Id="rId12" Type="http://schemas.openxmlformats.org/officeDocument/2006/relationships/image" Target="../media/image121.jpeg"/><Relationship Id="rId13" Type="http://schemas.openxmlformats.org/officeDocument/2006/relationships/image" Target="../media/image122.jpeg"/><Relationship Id="rId14" Type="http://schemas.openxmlformats.org/officeDocument/2006/relationships/image" Target="../media/image123.jpeg"/><Relationship Id="rId15" Type="http://schemas.openxmlformats.org/officeDocument/2006/relationships/image" Target="../media/image124.jpeg"/><Relationship Id="rId16" Type="http://schemas.openxmlformats.org/officeDocument/2006/relationships/image" Target="../media/image125.jpeg"/><Relationship Id="rId17" Type="http://schemas.openxmlformats.org/officeDocument/2006/relationships/image" Target="../media/image126.jpeg"/><Relationship Id="rId18" Type="http://schemas.openxmlformats.org/officeDocument/2006/relationships/image" Target="../media/image127.jpeg"/><Relationship Id="rId19" Type="http://schemas.openxmlformats.org/officeDocument/2006/relationships/image" Target="../media/image128.jpeg"/><Relationship Id="rId20" Type="http://schemas.openxmlformats.org/officeDocument/2006/relationships/image" Target="../media/image129.jpeg"/><Relationship Id="rId21" Type="http://schemas.openxmlformats.org/officeDocument/2006/relationships/image" Target="../media/image130.jpeg"/><Relationship Id="rId22" Type="http://schemas.openxmlformats.org/officeDocument/2006/relationships/image" Target="../media/image131.jpeg"/><Relationship Id="rId23" Type="http://schemas.openxmlformats.org/officeDocument/2006/relationships/image" Target="../media/image132.jpeg"/><Relationship Id="rId24" Type="http://schemas.openxmlformats.org/officeDocument/2006/relationships/image" Target="../media/image133.jpeg"/><Relationship Id="rId25" Type="http://schemas.openxmlformats.org/officeDocument/2006/relationships/image" Target="../media/image134.jpeg"/><Relationship Id="rId26" Type="http://schemas.openxmlformats.org/officeDocument/2006/relationships/image" Target="../media/image135.jpeg"/><Relationship Id="rId27" Type="http://schemas.openxmlformats.org/officeDocument/2006/relationships/image" Target="../media/image136.jpeg"/><Relationship Id="rId28" Type="http://schemas.openxmlformats.org/officeDocument/2006/relationships/image" Target="../media/image137.jpeg"/><Relationship Id="rId29" Type="http://schemas.openxmlformats.org/officeDocument/2006/relationships/image" Target="../media/image138.jpeg"/><Relationship Id="rId30" Type="http://schemas.openxmlformats.org/officeDocument/2006/relationships/image" Target="../media/image139.jpeg"/><Relationship Id="rId31" Type="http://schemas.openxmlformats.org/officeDocument/2006/relationships/image" Target="../media/image140.jpeg"/><Relationship Id="rId3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image" Target="../media/image143.jpeg"/><Relationship Id="rId4" Type="http://schemas.openxmlformats.org/officeDocument/2006/relationships/image" Target="../media/image144.jpeg"/><Relationship Id="rId5" Type="http://schemas.openxmlformats.org/officeDocument/2006/relationships/image" Target="../media/image145.jpeg"/><Relationship Id="rId6" Type="http://schemas.openxmlformats.org/officeDocument/2006/relationships/image" Target="../media/image146.jpeg"/><Relationship Id="rId7" Type="http://schemas.openxmlformats.org/officeDocument/2006/relationships/image" Target="../media/image147.jpeg"/><Relationship Id="rId8" Type="http://schemas.openxmlformats.org/officeDocument/2006/relationships/image" Target="../media/image148.jpeg"/><Relationship Id="rId9" Type="http://schemas.openxmlformats.org/officeDocument/2006/relationships/image" Target="../media/image149.jpeg"/><Relationship Id="rId10" Type="http://schemas.openxmlformats.org/officeDocument/2006/relationships/image" Target="../media/image150.jpeg"/><Relationship Id="rId11" Type="http://schemas.openxmlformats.org/officeDocument/2006/relationships/image" Target="../media/image151.jpeg"/><Relationship Id="rId12" Type="http://schemas.openxmlformats.org/officeDocument/2006/relationships/image" Target="../media/image152.jpeg"/><Relationship Id="rId13" Type="http://schemas.openxmlformats.org/officeDocument/2006/relationships/image" Target="../media/image153.jpeg"/><Relationship Id="rId14" Type="http://schemas.openxmlformats.org/officeDocument/2006/relationships/image" Target="../media/image154.jpeg"/><Relationship Id="rId15" Type="http://schemas.openxmlformats.org/officeDocument/2006/relationships/image" Target="../media/image155.jpeg"/><Relationship Id="rId16" Type="http://schemas.openxmlformats.org/officeDocument/2006/relationships/image" Target="../media/image156.jpeg"/><Relationship Id="rId17" Type="http://schemas.openxmlformats.org/officeDocument/2006/relationships/image" Target="../media/image157.jpeg"/><Relationship Id="rId18" Type="http://schemas.openxmlformats.org/officeDocument/2006/relationships/image" Target="../media/image158.jpeg"/><Relationship Id="rId19" Type="http://schemas.openxmlformats.org/officeDocument/2006/relationships/image" Target="../media/image159.jpeg"/><Relationship Id="rId20" Type="http://schemas.openxmlformats.org/officeDocument/2006/relationships/image" Target="../media/image160.jpeg"/><Relationship Id="rId21" Type="http://schemas.openxmlformats.org/officeDocument/2006/relationships/image" Target="../media/image161.jpeg"/><Relationship Id="rId22" Type="http://schemas.openxmlformats.org/officeDocument/2006/relationships/image" Target="../media/image162.jpeg"/><Relationship Id="rId23" Type="http://schemas.openxmlformats.org/officeDocument/2006/relationships/image" Target="../media/image163.jpeg"/><Relationship Id="rId24" Type="http://schemas.openxmlformats.org/officeDocument/2006/relationships/image" Target="../media/image164.jpeg"/><Relationship Id="rId25" Type="http://schemas.openxmlformats.org/officeDocument/2006/relationships/image" Target="../media/image165.jpeg"/><Relationship Id="rId26" Type="http://schemas.openxmlformats.org/officeDocument/2006/relationships/image" Target="../media/image166.jpeg"/><Relationship Id="rId27" Type="http://schemas.openxmlformats.org/officeDocument/2006/relationships/image" Target="../media/image167.jpeg"/><Relationship Id="rId28" Type="http://schemas.openxmlformats.org/officeDocument/2006/relationships/image" Target="../media/image168.jpeg"/><Relationship Id="rId29" Type="http://schemas.openxmlformats.org/officeDocument/2006/relationships/image" Target="../media/image169.jpeg"/><Relationship Id="rId30" Type="http://schemas.openxmlformats.org/officeDocument/2006/relationships/image" Target="../media/image170.jpeg"/><Relationship Id="rId31" Type="http://schemas.openxmlformats.org/officeDocument/2006/relationships/image" Target="../media/image171.jpeg"/><Relationship Id="rId32" Type="http://schemas.openxmlformats.org/officeDocument/2006/relationships/image" Target="../media/image172.jpeg"/><Relationship Id="rId33" Type="http://schemas.openxmlformats.org/officeDocument/2006/relationships/image" Target="../media/image173.jpeg"/><Relationship Id="rId34" Type="http://schemas.openxmlformats.org/officeDocument/2006/relationships/image" Target="../media/image174.jpeg"/><Relationship Id="rId35" Type="http://schemas.openxmlformats.org/officeDocument/2006/relationships/image" Target="../media/image175.jpeg"/><Relationship Id="rId36" Type="http://schemas.openxmlformats.org/officeDocument/2006/relationships/image" Target="../media/image176.jpeg"/><Relationship Id="rId37" Type="http://schemas.openxmlformats.org/officeDocument/2006/relationships/image" Target="../media/image177.jpeg"/><Relationship Id="rId38" Type="http://schemas.openxmlformats.org/officeDocument/2006/relationships/image" Target="../media/image178.jpeg"/><Relationship Id="rId39" Type="http://schemas.openxmlformats.org/officeDocument/2006/relationships/image" Target="../media/image179.jpeg"/><Relationship Id="rId40" Type="http://schemas.openxmlformats.org/officeDocument/2006/relationships/image" Target="../media/image180.jpeg"/><Relationship Id="rId41" Type="http://schemas.openxmlformats.org/officeDocument/2006/relationships/image" Target="../media/image181.jpeg"/><Relationship Id="rId42" Type="http://schemas.openxmlformats.org/officeDocument/2006/relationships/image" Target="../media/image182.jpeg"/><Relationship Id="rId43" Type="http://schemas.openxmlformats.org/officeDocument/2006/relationships/image" Target="../media/image183.jpeg"/><Relationship Id="rId44" Type="http://schemas.openxmlformats.org/officeDocument/2006/relationships/image" Target="../media/image184.jpeg"/><Relationship Id="rId45" Type="http://schemas.openxmlformats.org/officeDocument/2006/relationships/image" Target="../media/image185.jpeg"/><Relationship Id="rId46" Type="http://schemas.openxmlformats.org/officeDocument/2006/relationships/image" Target="../media/image186.jpeg"/><Relationship Id="rId47" Type="http://schemas.openxmlformats.org/officeDocument/2006/relationships/image" Target="../media/image187.jpeg"/><Relationship Id="rId48" Type="http://schemas.openxmlformats.org/officeDocument/2006/relationships/image" Target="../media/image188.jpeg"/><Relationship Id="rId49" Type="http://schemas.openxmlformats.org/officeDocument/2006/relationships/image" Target="../media/image189.jpeg"/><Relationship Id="rId50" Type="http://schemas.openxmlformats.org/officeDocument/2006/relationships/image" Target="../media/image190.jpeg"/><Relationship Id="rId51" Type="http://schemas.openxmlformats.org/officeDocument/2006/relationships/image" Target="../media/image191.jpeg"/><Relationship Id="rId52" Type="http://schemas.openxmlformats.org/officeDocument/2006/relationships/image" Target="../media/image192.jpeg"/><Relationship Id="rId53" Type="http://schemas.openxmlformats.org/officeDocument/2006/relationships/image" Target="../media/image193.jpeg"/><Relationship Id="rId54" Type="http://schemas.openxmlformats.org/officeDocument/2006/relationships/image" Target="../media/image194.jpeg"/><Relationship Id="rId55" Type="http://schemas.openxmlformats.org/officeDocument/2006/relationships/image" Target="../media/image195.jpeg"/><Relationship Id="rId56" Type="http://schemas.openxmlformats.org/officeDocument/2006/relationships/image" Target="../media/image196.jpeg"/><Relationship Id="rId57" Type="http://schemas.openxmlformats.org/officeDocument/2006/relationships/image" Target="../media/image197.jpeg"/><Relationship Id="rId58" Type="http://schemas.openxmlformats.org/officeDocument/2006/relationships/image" Target="../media/image198.jpeg"/><Relationship Id="rId59" Type="http://schemas.openxmlformats.org/officeDocument/2006/relationships/image" Target="../media/image199.jpeg"/><Relationship Id="rId60" Type="http://schemas.openxmlformats.org/officeDocument/2006/relationships/image" Target="../media/image200.jpeg"/><Relationship Id="rId61" Type="http://schemas.openxmlformats.org/officeDocument/2006/relationships/image" Target="../media/image201.jpeg"/><Relationship Id="rId62" Type="http://schemas.openxmlformats.org/officeDocument/2006/relationships/image" Target="../media/image202.jpeg"/><Relationship Id="rId63" Type="http://schemas.openxmlformats.org/officeDocument/2006/relationships/image" Target="../media/image203.jpeg"/><Relationship Id="rId64" Type="http://schemas.openxmlformats.org/officeDocument/2006/relationships/image" Target="../media/image204.jpeg"/><Relationship Id="rId65" Type="http://schemas.openxmlformats.org/officeDocument/2006/relationships/image" Target="../media/image205.jpeg"/><Relationship Id="rId66" Type="http://schemas.openxmlformats.org/officeDocument/2006/relationships/image" Target="../media/image206.jpeg"/><Relationship Id="rId67" Type="http://schemas.openxmlformats.org/officeDocument/2006/relationships/image" Target="../media/image207.jpeg"/><Relationship Id="rId68" Type="http://schemas.openxmlformats.org/officeDocument/2006/relationships/image" Target="../media/image208.jpeg"/><Relationship Id="rId69" Type="http://schemas.openxmlformats.org/officeDocument/2006/relationships/image" Target="../media/image209.jpeg"/><Relationship Id="rId70" Type="http://schemas.openxmlformats.org/officeDocument/2006/relationships/image" Target="../media/image210.jpeg"/><Relationship Id="rId71" Type="http://schemas.openxmlformats.org/officeDocument/2006/relationships/image" Target="../media/image211.jpeg"/><Relationship Id="rId72" Type="http://schemas.openxmlformats.org/officeDocument/2006/relationships/image" Target="../media/image212.jpeg"/><Relationship Id="rId73" Type="http://schemas.openxmlformats.org/officeDocument/2006/relationships/image" Target="../media/image213.jpeg"/><Relationship Id="rId74" Type="http://schemas.openxmlformats.org/officeDocument/2006/relationships/image" Target="../media/image214.jpeg"/><Relationship Id="rId75" Type="http://schemas.openxmlformats.org/officeDocument/2006/relationships/image" Target="../media/image215.jpeg"/><Relationship Id="rId76" Type="http://schemas.openxmlformats.org/officeDocument/2006/relationships/image" Target="../media/image216.jpeg"/><Relationship Id="rId77" Type="http://schemas.openxmlformats.org/officeDocument/2006/relationships/image" Target="../media/image217.jpeg"/><Relationship Id="rId7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3"/>
          <p:cNvSpPr/>
          <p:nvPr/>
        </p:nvSpPr>
        <p:spPr>
          <a:xfrm>
            <a:off x="4031640" y="4271760"/>
            <a:ext cx="247320" cy="135000"/>
          </a:xfrm>
          <a:custGeom>
            <a:avLst/>
            <a:gdLst>
              <a:gd name="textAreaLeft" fmla="*/ 0 w 247320"/>
              <a:gd name="textAreaRight" fmla="*/ 247680 w 2473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47738" h="135356">
                <a:moveTo>
                  <a:pt x="186880" y="135356"/>
                </a:moveTo>
                <a:lnTo>
                  <a:pt x="60705" y="135356"/>
                </a:lnTo>
                <a:lnTo>
                  <a:pt x="31178" y="7759"/>
                </a:lnTo>
                <a:lnTo>
                  <a:pt x="0" y="7759"/>
                </a:lnTo>
                <a:lnTo>
                  <a:pt x="0" y="0"/>
                </a:lnTo>
                <a:lnTo>
                  <a:pt x="37286" y="0"/>
                </a:lnTo>
                <a:lnTo>
                  <a:pt x="66865" y="127660"/>
                </a:lnTo>
                <a:lnTo>
                  <a:pt x="180784" y="127660"/>
                </a:lnTo>
                <a:lnTo>
                  <a:pt x="210299" y="0"/>
                </a:lnTo>
                <a:lnTo>
                  <a:pt x="247738" y="0"/>
                </a:lnTo>
                <a:lnTo>
                  <a:pt x="247738" y="7759"/>
                </a:lnTo>
                <a:lnTo>
                  <a:pt x="216446" y="7759"/>
                </a:lnTo>
                <a:lnTo>
                  <a:pt x="186880" y="13535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4105080" y="4308120"/>
            <a:ext cx="100440" cy="87120"/>
          </a:xfrm>
          <a:custGeom>
            <a:avLst/>
            <a:gdLst>
              <a:gd name="textAreaLeft" fmla="*/ 0 w 100440"/>
              <a:gd name="textAreaRight" fmla="*/ 100800 w 1004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00800" h="87591">
                <a:moveTo>
                  <a:pt x="95770" y="87591"/>
                </a:moveTo>
                <a:lnTo>
                  <a:pt x="0" y="5867"/>
                </a:lnTo>
                <a:lnTo>
                  <a:pt x="5029" y="0"/>
                </a:lnTo>
                <a:lnTo>
                  <a:pt x="100800" y="81686"/>
                </a:lnTo>
                <a:lnTo>
                  <a:pt x="95770" y="87591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4105080" y="4308120"/>
            <a:ext cx="100440" cy="87120"/>
          </a:xfrm>
          <a:custGeom>
            <a:avLst/>
            <a:gdLst>
              <a:gd name="textAreaLeft" fmla="*/ 0 w 100440"/>
              <a:gd name="textAreaRight" fmla="*/ 100800 w 1004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00774" h="87591">
                <a:moveTo>
                  <a:pt x="5029" y="87591"/>
                </a:moveTo>
                <a:lnTo>
                  <a:pt x="0" y="81686"/>
                </a:lnTo>
                <a:lnTo>
                  <a:pt x="95770" y="0"/>
                </a:lnTo>
                <a:lnTo>
                  <a:pt x="100774" y="5867"/>
                </a:lnTo>
                <a:lnTo>
                  <a:pt x="5029" y="87591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4322880" y="4271760"/>
            <a:ext cx="247320" cy="135000"/>
          </a:xfrm>
          <a:custGeom>
            <a:avLst/>
            <a:gdLst>
              <a:gd name="textAreaLeft" fmla="*/ 0 w 247320"/>
              <a:gd name="textAreaRight" fmla="*/ 247680 w 2473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47802" h="135356">
                <a:moveTo>
                  <a:pt x="186855" y="135356"/>
                </a:moveTo>
                <a:lnTo>
                  <a:pt x="60680" y="135356"/>
                </a:lnTo>
                <a:lnTo>
                  <a:pt x="31115" y="7759"/>
                </a:lnTo>
                <a:lnTo>
                  <a:pt x="0" y="7759"/>
                </a:lnTo>
                <a:lnTo>
                  <a:pt x="0" y="0"/>
                </a:lnTo>
                <a:lnTo>
                  <a:pt x="37312" y="0"/>
                </a:lnTo>
                <a:lnTo>
                  <a:pt x="66840" y="127660"/>
                </a:lnTo>
                <a:lnTo>
                  <a:pt x="180759" y="127660"/>
                </a:lnTo>
                <a:lnTo>
                  <a:pt x="210299" y="0"/>
                </a:lnTo>
                <a:lnTo>
                  <a:pt x="247802" y="0"/>
                </a:lnTo>
                <a:lnTo>
                  <a:pt x="247802" y="7759"/>
                </a:lnTo>
                <a:lnTo>
                  <a:pt x="216446" y="7759"/>
                </a:lnTo>
                <a:lnTo>
                  <a:pt x="186855" y="13535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4391640" y="4378680"/>
            <a:ext cx="107640" cy="12960"/>
          </a:xfrm>
          <a:custGeom>
            <a:avLst/>
            <a:gdLst>
              <a:gd name="textAreaLeft" fmla="*/ 0 w 107640"/>
              <a:gd name="textAreaRight" fmla="*/ 108000 w 1076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07924" h="13398">
                <a:moveTo>
                  <a:pt x="54978" y="13398"/>
                </a:moveTo>
                <a:lnTo>
                  <a:pt x="47561" y="11658"/>
                </a:lnTo>
                <a:lnTo>
                  <a:pt x="41160" y="8559"/>
                </a:lnTo>
                <a:lnTo>
                  <a:pt x="27724" y="12801"/>
                </a:lnTo>
                <a:lnTo>
                  <a:pt x="22580" y="11658"/>
                </a:lnTo>
                <a:lnTo>
                  <a:pt x="18541" y="9436"/>
                </a:lnTo>
                <a:lnTo>
                  <a:pt x="19761" y="5588"/>
                </a:lnTo>
                <a:lnTo>
                  <a:pt x="17602" y="8851"/>
                </a:lnTo>
                <a:lnTo>
                  <a:pt x="18338" y="4838"/>
                </a:lnTo>
                <a:lnTo>
                  <a:pt x="16141" y="8166"/>
                </a:lnTo>
                <a:lnTo>
                  <a:pt x="13360" y="7734"/>
                </a:lnTo>
                <a:lnTo>
                  <a:pt x="7505" y="10324"/>
                </a:lnTo>
                <a:lnTo>
                  <a:pt x="4457" y="12115"/>
                </a:lnTo>
                <a:lnTo>
                  <a:pt x="0" y="5854"/>
                </a:lnTo>
                <a:lnTo>
                  <a:pt x="8725" y="1041"/>
                </a:lnTo>
                <a:lnTo>
                  <a:pt x="15862" y="0"/>
                </a:lnTo>
                <a:lnTo>
                  <a:pt x="19786" y="1270"/>
                </a:lnTo>
                <a:lnTo>
                  <a:pt x="19037" y="5283"/>
                </a:lnTo>
                <a:lnTo>
                  <a:pt x="21183" y="1981"/>
                </a:lnTo>
                <a:lnTo>
                  <a:pt x="25069" y="4178"/>
                </a:lnTo>
                <a:lnTo>
                  <a:pt x="24396" y="8331"/>
                </a:lnTo>
                <a:lnTo>
                  <a:pt x="25831" y="4673"/>
                </a:lnTo>
                <a:lnTo>
                  <a:pt x="27279" y="5041"/>
                </a:lnTo>
                <a:lnTo>
                  <a:pt x="29006" y="8801"/>
                </a:lnTo>
                <a:lnTo>
                  <a:pt x="28892" y="4864"/>
                </a:lnTo>
                <a:lnTo>
                  <a:pt x="40246" y="863"/>
                </a:lnTo>
                <a:lnTo>
                  <a:pt x="46748" y="2413"/>
                </a:lnTo>
                <a:lnTo>
                  <a:pt x="52031" y="5219"/>
                </a:lnTo>
                <a:lnTo>
                  <a:pt x="51854" y="9232"/>
                </a:lnTo>
                <a:lnTo>
                  <a:pt x="53340" y="5588"/>
                </a:lnTo>
                <a:lnTo>
                  <a:pt x="54978" y="9575"/>
                </a:lnTo>
                <a:lnTo>
                  <a:pt x="54190" y="5765"/>
                </a:lnTo>
                <a:lnTo>
                  <a:pt x="55155" y="5460"/>
                </a:lnTo>
                <a:lnTo>
                  <a:pt x="57937" y="8559"/>
                </a:lnTo>
                <a:lnTo>
                  <a:pt x="56667" y="4762"/>
                </a:lnTo>
                <a:lnTo>
                  <a:pt x="66294" y="368"/>
                </a:lnTo>
                <a:lnTo>
                  <a:pt x="68554" y="203"/>
                </a:lnTo>
                <a:lnTo>
                  <a:pt x="76885" y="2857"/>
                </a:lnTo>
                <a:lnTo>
                  <a:pt x="83388" y="5156"/>
                </a:lnTo>
                <a:lnTo>
                  <a:pt x="99301" y="431"/>
                </a:lnTo>
                <a:lnTo>
                  <a:pt x="103873" y="1714"/>
                </a:lnTo>
                <a:lnTo>
                  <a:pt x="107924" y="5283"/>
                </a:lnTo>
                <a:lnTo>
                  <a:pt x="102780" y="11112"/>
                </a:lnTo>
                <a:lnTo>
                  <a:pt x="102158" y="10490"/>
                </a:lnTo>
                <a:lnTo>
                  <a:pt x="104444" y="7149"/>
                </a:lnTo>
                <a:lnTo>
                  <a:pt x="101472" y="9728"/>
                </a:lnTo>
                <a:lnTo>
                  <a:pt x="100749" y="9080"/>
                </a:lnTo>
                <a:lnTo>
                  <a:pt x="100800" y="8915"/>
                </a:lnTo>
                <a:lnTo>
                  <a:pt x="98742" y="8140"/>
                </a:lnTo>
                <a:lnTo>
                  <a:pt x="91414" y="10718"/>
                </a:lnTo>
                <a:lnTo>
                  <a:pt x="84404" y="12801"/>
                </a:lnTo>
                <a:lnTo>
                  <a:pt x="82486" y="12801"/>
                </a:lnTo>
                <a:lnTo>
                  <a:pt x="74599" y="10591"/>
                </a:lnTo>
                <a:lnTo>
                  <a:pt x="69621" y="8216"/>
                </a:lnTo>
                <a:lnTo>
                  <a:pt x="67932" y="7937"/>
                </a:lnTo>
                <a:lnTo>
                  <a:pt x="67678" y="7988"/>
                </a:lnTo>
                <a:lnTo>
                  <a:pt x="67183" y="7835"/>
                </a:lnTo>
                <a:lnTo>
                  <a:pt x="67259" y="7327"/>
                </a:lnTo>
                <a:lnTo>
                  <a:pt x="65481" y="4445"/>
                </a:lnTo>
                <a:lnTo>
                  <a:pt x="66230" y="8331"/>
                </a:lnTo>
                <a:lnTo>
                  <a:pt x="54978" y="1339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4392000" y="4356360"/>
            <a:ext cx="107280" cy="12960"/>
          </a:xfrm>
          <a:custGeom>
            <a:avLst/>
            <a:gdLst>
              <a:gd name="textAreaLeft" fmla="*/ 0 w 107280"/>
              <a:gd name="textAreaRight" fmla="*/ 107640 w 1072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07734" h="13487">
                <a:moveTo>
                  <a:pt x="53035" y="13487"/>
                </a:moveTo>
                <a:lnTo>
                  <a:pt x="43434" y="9664"/>
                </a:lnTo>
                <a:lnTo>
                  <a:pt x="40538" y="8674"/>
                </a:lnTo>
                <a:lnTo>
                  <a:pt x="40411" y="4724"/>
                </a:lnTo>
                <a:lnTo>
                  <a:pt x="39573" y="8597"/>
                </a:lnTo>
                <a:lnTo>
                  <a:pt x="27394" y="12839"/>
                </a:lnTo>
                <a:lnTo>
                  <a:pt x="24066" y="12471"/>
                </a:lnTo>
                <a:lnTo>
                  <a:pt x="17398" y="9029"/>
                </a:lnTo>
                <a:lnTo>
                  <a:pt x="18008" y="4851"/>
                </a:lnTo>
                <a:lnTo>
                  <a:pt x="16548" y="8458"/>
                </a:lnTo>
                <a:lnTo>
                  <a:pt x="16548" y="4305"/>
                </a:lnTo>
                <a:lnTo>
                  <a:pt x="15659" y="8051"/>
                </a:lnTo>
                <a:lnTo>
                  <a:pt x="13030" y="7734"/>
                </a:lnTo>
                <a:lnTo>
                  <a:pt x="5143" y="11620"/>
                </a:lnTo>
                <a:lnTo>
                  <a:pt x="3873" y="12395"/>
                </a:lnTo>
                <a:lnTo>
                  <a:pt x="0" y="5651"/>
                </a:lnTo>
                <a:lnTo>
                  <a:pt x="10960" y="317"/>
                </a:lnTo>
                <a:lnTo>
                  <a:pt x="15531" y="0"/>
                </a:lnTo>
                <a:lnTo>
                  <a:pt x="24790" y="4241"/>
                </a:lnTo>
                <a:lnTo>
                  <a:pt x="24066" y="8344"/>
                </a:lnTo>
                <a:lnTo>
                  <a:pt x="26225" y="4978"/>
                </a:lnTo>
                <a:lnTo>
                  <a:pt x="27787" y="5105"/>
                </a:lnTo>
                <a:lnTo>
                  <a:pt x="39992" y="863"/>
                </a:lnTo>
                <a:lnTo>
                  <a:pt x="41160" y="914"/>
                </a:lnTo>
                <a:lnTo>
                  <a:pt x="41135" y="4851"/>
                </a:lnTo>
                <a:lnTo>
                  <a:pt x="42646" y="1155"/>
                </a:lnTo>
                <a:lnTo>
                  <a:pt x="51701" y="5245"/>
                </a:lnTo>
                <a:lnTo>
                  <a:pt x="51523" y="9271"/>
                </a:lnTo>
                <a:lnTo>
                  <a:pt x="53009" y="5600"/>
                </a:lnTo>
                <a:lnTo>
                  <a:pt x="54571" y="5893"/>
                </a:lnTo>
                <a:lnTo>
                  <a:pt x="54076" y="8229"/>
                </a:lnTo>
                <a:lnTo>
                  <a:pt x="54648" y="9550"/>
                </a:lnTo>
                <a:lnTo>
                  <a:pt x="54571" y="5600"/>
                </a:lnTo>
                <a:lnTo>
                  <a:pt x="60845" y="2108"/>
                </a:lnTo>
                <a:lnTo>
                  <a:pt x="63576" y="5169"/>
                </a:lnTo>
                <a:lnTo>
                  <a:pt x="61874" y="1651"/>
                </a:lnTo>
                <a:lnTo>
                  <a:pt x="65849" y="406"/>
                </a:lnTo>
                <a:lnTo>
                  <a:pt x="68173" y="190"/>
                </a:lnTo>
                <a:lnTo>
                  <a:pt x="75463" y="2451"/>
                </a:lnTo>
                <a:lnTo>
                  <a:pt x="82156" y="5169"/>
                </a:lnTo>
                <a:lnTo>
                  <a:pt x="89852" y="2794"/>
                </a:lnTo>
                <a:lnTo>
                  <a:pt x="97434" y="482"/>
                </a:lnTo>
                <a:lnTo>
                  <a:pt x="98971" y="431"/>
                </a:lnTo>
                <a:lnTo>
                  <a:pt x="103543" y="1651"/>
                </a:lnTo>
                <a:lnTo>
                  <a:pt x="105448" y="3200"/>
                </a:lnTo>
                <a:lnTo>
                  <a:pt x="103517" y="6756"/>
                </a:lnTo>
                <a:lnTo>
                  <a:pt x="106210" y="4013"/>
                </a:lnTo>
                <a:lnTo>
                  <a:pt x="104368" y="7582"/>
                </a:lnTo>
                <a:lnTo>
                  <a:pt x="107010" y="4762"/>
                </a:lnTo>
                <a:lnTo>
                  <a:pt x="107734" y="5448"/>
                </a:lnTo>
                <a:lnTo>
                  <a:pt x="102374" y="11112"/>
                </a:lnTo>
                <a:lnTo>
                  <a:pt x="104368" y="7582"/>
                </a:lnTo>
                <a:lnTo>
                  <a:pt x="101625" y="10312"/>
                </a:lnTo>
                <a:lnTo>
                  <a:pt x="98425" y="8153"/>
                </a:lnTo>
                <a:lnTo>
                  <a:pt x="82156" y="12839"/>
                </a:lnTo>
                <a:lnTo>
                  <a:pt x="78562" y="12293"/>
                </a:lnTo>
                <a:lnTo>
                  <a:pt x="68173" y="8026"/>
                </a:lnTo>
                <a:lnTo>
                  <a:pt x="67868" y="8026"/>
                </a:lnTo>
                <a:lnTo>
                  <a:pt x="67589" y="7937"/>
                </a:lnTo>
                <a:lnTo>
                  <a:pt x="64351" y="9029"/>
                </a:lnTo>
                <a:lnTo>
                  <a:pt x="57810" y="12636"/>
                </a:lnTo>
                <a:lnTo>
                  <a:pt x="55397" y="13335"/>
                </a:lnTo>
                <a:lnTo>
                  <a:pt x="53035" y="1348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4393800" y="4334400"/>
            <a:ext cx="107640" cy="13320"/>
          </a:xfrm>
          <a:custGeom>
            <a:avLst/>
            <a:gdLst>
              <a:gd name="textAreaLeft" fmla="*/ 0 w 107640"/>
              <a:gd name="textAreaRight" fmla="*/ 108000 w 107640"/>
              <a:gd name="textAreaTop" fmla="*/ 0 h 13320"/>
              <a:gd name="textAreaBottom" fmla="*/ 13680 h 13320"/>
            </a:gdLst>
            <a:ahLst/>
            <a:rect l="textAreaLeft" t="textAreaTop" r="textAreaRight" b="textAreaBottom"/>
            <a:pathLst>
              <a:path w="107874" h="13550">
                <a:moveTo>
                  <a:pt x="54851" y="13550"/>
                </a:moveTo>
                <a:lnTo>
                  <a:pt x="50279" y="12788"/>
                </a:lnTo>
                <a:lnTo>
                  <a:pt x="48234" y="11836"/>
                </a:lnTo>
                <a:lnTo>
                  <a:pt x="48869" y="7721"/>
                </a:lnTo>
                <a:lnTo>
                  <a:pt x="47155" y="11175"/>
                </a:lnTo>
                <a:lnTo>
                  <a:pt x="40652" y="7911"/>
                </a:lnTo>
                <a:lnTo>
                  <a:pt x="24358" y="12877"/>
                </a:lnTo>
                <a:lnTo>
                  <a:pt x="18503" y="11518"/>
                </a:lnTo>
                <a:lnTo>
                  <a:pt x="9423" y="8140"/>
                </a:lnTo>
                <a:lnTo>
                  <a:pt x="7137" y="9410"/>
                </a:lnTo>
                <a:lnTo>
                  <a:pt x="5651" y="10921"/>
                </a:lnTo>
                <a:lnTo>
                  <a:pt x="0" y="5714"/>
                </a:lnTo>
                <a:lnTo>
                  <a:pt x="609" y="5041"/>
                </a:lnTo>
                <a:lnTo>
                  <a:pt x="4178" y="6959"/>
                </a:lnTo>
                <a:lnTo>
                  <a:pt x="1409" y="4267"/>
                </a:lnTo>
                <a:lnTo>
                  <a:pt x="5854" y="1092"/>
                </a:lnTo>
                <a:lnTo>
                  <a:pt x="9969" y="431"/>
                </a:lnTo>
                <a:lnTo>
                  <a:pt x="17640" y="2628"/>
                </a:lnTo>
                <a:lnTo>
                  <a:pt x="24803" y="5168"/>
                </a:lnTo>
                <a:lnTo>
                  <a:pt x="29425" y="4000"/>
                </a:lnTo>
                <a:lnTo>
                  <a:pt x="39242" y="279"/>
                </a:lnTo>
                <a:lnTo>
                  <a:pt x="43510" y="723"/>
                </a:lnTo>
                <a:lnTo>
                  <a:pt x="46329" y="1866"/>
                </a:lnTo>
                <a:lnTo>
                  <a:pt x="45758" y="6006"/>
                </a:lnTo>
                <a:lnTo>
                  <a:pt x="47459" y="2539"/>
                </a:lnTo>
                <a:lnTo>
                  <a:pt x="51498" y="4762"/>
                </a:lnTo>
                <a:lnTo>
                  <a:pt x="50330" y="8546"/>
                </a:lnTo>
                <a:lnTo>
                  <a:pt x="52959" y="5663"/>
                </a:lnTo>
                <a:lnTo>
                  <a:pt x="53289" y="9550"/>
                </a:lnTo>
                <a:lnTo>
                  <a:pt x="53924" y="5778"/>
                </a:lnTo>
                <a:lnTo>
                  <a:pt x="54851" y="9728"/>
                </a:lnTo>
                <a:lnTo>
                  <a:pt x="55117" y="5778"/>
                </a:lnTo>
                <a:lnTo>
                  <a:pt x="64490" y="1371"/>
                </a:lnTo>
                <a:lnTo>
                  <a:pt x="66802" y="4851"/>
                </a:lnTo>
                <a:lnTo>
                  <a:pt x="66052" y="1092"/>
                </a:lnTo>
                <a:lnTo>
                  <a:pt x="68110" y="901"/>
                </a:lnTo>
                <a:lnTo>
                  <a:pt x="81038" y="5117"/>
                </a:lnTo>
                <a:lnTo>
                  <a:pt x="83159" y="8546"/>
                </a:lnTo>
                <a:lnTo>
                  <a:pt x="82296" y="4762"/>
                </a:lnTo>
                <a:lnTo>
                  <a:pt x="83667" y="4190"/>
                </a:lnTo>
                <a:lnTo>
                  <a:pt x="85826" y="7327"/>
                </a:lnTo>
                <a:lnTo>
                  <a:pt x="84505" y="3606"/>
                </a:lnTo>
                <a:lnTo>
                  <a:pt x="87286" y="1968"/>
                </a:lnTo>
                <a:lnTo>
                  <a:pt x="89941" y="4990"/>
                </a:lnTo>
                <a:lnTo>
                  <a:pt x="88671" y="1269"/>
                </a:lnTo>
                <a:lnTo>
                  <a:pt x="91478" y="355"/>
                </a:lnTo>
                <a:lnTo>
                  <a:pt x="94906" y="0"/>
                </a:lnTo>
                <a:lnTo>
                  <a:pt x="101600" y="1892"/>
                </a:lnTo>
                <a:lnTo>
                  <a:pt x="107873" y="5536"/>
                </a:lnTo>
                <a:lnTo>
                  <a:pt x="104470" y="12458"/>
                </a:lnTo>
                <a:lnTo>
                  <a:pt x="94310" y="7721"/>
                </a:lnTo>
                <a:lnTo>
                  <a:pt x="89280" y="9804"/>
                </a:lnTo>
                <a:lnTo>
                  <a:pt x="86588" y="11290"/>
                </a:lnTo>
                <a:lnTo>
                  <a:pt x="84416" y="8026"/>
                </a:lnTo>
                <a:lnTo>
                  <a:pt x="85420" y="11785"/>
                </a:lnTo>
                <a:lnTo>
                  <a:pt x="81660" y="12877"/>
                </a:lnTo>
                <a:lnTo>
                  <a:pt x="78206" y="12700"/>
                </a:lnTo>
                <a:lnTo>
                  <a:pt x="67741" y="8711"/>
                </a:lnTo>
                <a:lnTo>
                  <a:pt x="65925" y="4990"/>
                </a:lnTo>
                <a:lnTo>
                  <a:pt x="66725" y="8813"/>
                </a:lnTo>
                <a:lnTo>
                  <a:pt x="58737" y="12610"/>
                </a:lnTo>
                <a:lnTo>
                  <a:pt x="56400" y="9283"/>
                </a:lnTo>
                <a:lnTo>
                  <a:pt x="57772" y="12928"/>
                </a:lnTo>
                <a:lnTo>
                  <a:pt x="54851" y="1355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320" bIns="-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4683600" y="4378680"/>
            <a:ext cx="107640" cy="12960"/>
          </a:xfrm>
          <a:custGeom>
            <a:avLst/>
            <a:gdLst>
              <a:gd name="textAreaLeft" fmla="*/ 0 w 107640"/>
              <a:gd name="textAreaRight" fmla="*/ 108000 w 1076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07924" h="13398">
                <a:moveTo>
                  <a:pt x="54952" y="13398"/>
                </a:moveTo>
                <a:lnTo>
                  <a:pt x="47587" y="11658"/>
                </a:lnTo>
                <a:lnTo>
                  <a:pt x="41071" y="8559"/>
                </a:lnTo>
                <a:lnTo>
                  <a:pt x="27711" y="12801"/>
                </a:lnTo>
                <a:lnTo>
                  <a:pt x="22542" y="11658"/>
                </a:lnTo>
                <a:lnTo>
                  <a:pt x="18580" y="9436"/>
                </a:lnTo>
                <a:lnTo>
                  <a:pt x="19748" y="5588"/>
                </a:lnTo>
                <a:lnTo>
                  <a:pt x="17614" y="8851"/>
                </a:lnTo>
                <a:lnTo>
                  <a:pt x="18351" y="4838"/>
                </a:lnTo>
                <a:lnTo>
                  <a:pt x="16154" y="8166"/>
                </a:lnTo>
                <a:lnTo>
                  <a:pt x="13398" y="7734"/>
                </a:lnTo>
                <a:lnTo>
                  <a:pt x="7543" y="10324"/>
                </a:lnTo>
                <a:lnTo>
                  <a:pt x="4495" y="12115"/>
                </a:lnTo>
                <a:lnTo>
                  <a:pt x="0" y="5854"/>
                </a:lnTo>
                <a:lnTo>
                  <a:pt x="8763" y="1041"/>
                </a:lnTo>
                <a:lnTo>
                  <a:pt x="15875" y="0"/>
                </a:lnTo>
                <a:lnTo>
                  <a:pt x="19748" y="1270"/>
                </a:lnTo>
                <a:lnTo>
                  <a:pt x="19037" y="5283"/>
                </a:lnTo>
                <a:lnTo>
                  <a:pt x="21209" y="1981"/>
                </a:lnTo>
                <a:lnTo>
                  <a:pt x="25082" y="4178"/>
                </a:lnTo>
                <a:lnTo>
                  <a:pt x="24434" y="8331"/>
                </a:lnTo>
                <a:lnTo>
                  <a:pt x="25870" y="4673"/>
                </a:lnTo>
                <a:lnTo>
                  <a:pt x="27304" y="5041"/>
                </a:lnTo>
                <a:lnTo>
                  <a:pt x="29045" y="8801"/>
                </a:lnTo>
                <a:lnTo>
                  <a:pt x="28943" y="4864"/>
                </a:lnTo>
                <a:lnTo>
                  <a:pt x="40246" y="863"/>
                </a:lnTo>
                <a:lnTo>
                  <a:pt x="46748" y="2413"/>
                </a:lnTo>
                <a:lnTo>
                  <a:pt x="51993" y="5219"/>
                </a:lnTo>
                <a:lnTo>
                  <a:pt x="51866" y="9232"/>
                </a:lnTo>
                <a:lnTo>
                  <a:pt x="53289" y="5588"/>
                </a:lnTo>
                <a:lnTo>
                  <a:pt x="54952" y="9575"/>
                </a:lnTo>
                <a:lnTo>
                  <a:pt x="54203" y="5765"/>
                </a:lnTo>
                <a:lnTo>
                  <a:pt x="55143" y="5460"/>
                </a:lnTo>
                <a:lnTo>
                  <a:pt x="57950" y="8559"/>
                </a:lnTo>
                <a:lnTo>
                  <a:pt x="56641" y="4762"/>
                </a:lnTo>
                <a:lnTo>
                  <a:pt x="66256" y="368"/>
                </a:lnTo>
                <a:lnTo>
                  <a:pt x="68579" y="203"/>
                </a:lnTo>
                <a:lnTo>
                  <a:pt x="76898" y="2857"/>
                </a:lnTo>
                <a:lnTo>
                  <a:pt x="83464" y="5156"/>
                </a:lnTo>
                <a:lnTo>
                  <a:pt x="99250" y="431"/>
                </a:lnTo>
                <a:lnTo>
                  <a:pt x="103835" y="1714"/>
                </a:lnTo>
                <a:lnTo>
                  <a:pt x="107924" y="5283"/>
                </a:lnTo>
                <a:lnTo>
                  <a:pt x="102793" y="11112"/>
                </a:lnTo>
                <a:lnTo>
                  <a:pt x="102171" y="10490"/>
                </a:lnTo>
                <a:lnTo>
                  <a:pt x="104431" y="7149"/>
                </a:lnTo>
                <a:lnTo>
                  <a:pt x="101472" y="9728"/>
                </a:lnTo>
                <a:lnTo>
                  <a:pt x="100736" y="9080"/>
                </a:lnTo>
                <a:lnTo>
                  <a:pt x="100812" y="8915"/>
                </a:lnTo>
                <a:lnTo>
                  <a:pt x="98742" y="8140"/>
                </a:lnTo>
                <a:lnTo>
                  <a:pt x="91427" y="10718"/>
                </a:lnTo>
                <a:lnTo>
                  <a:pt x="84416" y="12801"/>
                </a:lnTo>
                <a:lnTo>
                  <a:pt x="82474" y="12801"/>
                </a:lnTo>
                <a:lnTo>
                  <a:pt x="74599" y="10591"/>
                </a:lnTo>
                <a:lnTo>
                  <a:pt x="69608" y="8216"/>
                </a:lnTo>
                <a:lnTo>
                  <a:pt x="67894" y="7937"/>
                </a:lnTo>
                <a:lnTo>
                  <a:pt x="67716" y="7988"/>
                </a:lnTo>
                <a:lnTo>
                  <a:pt x="67208" y="7835"/>
                </a:lnTo>
                <a:lnTo>
                  <a:pt x="67284" y="7327"/>
                </a:lnTo>
                <a:lnTo>
                  <a:pt x="65481" y="4445"/>
                </a:lnTo>
                <a:lnTo>
                  <a:pt x="66205" y="8331"/>
                </a:lnTo>
                <a:lnTo>
                  <a:pt x="54952" y="1339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4391640" y="4312440"/>
            <a:ext cx="107280" cy="13320"/>
          </a:xfrm>
          <a:custGeom>
            <a:avLst/>
            <a:gdLst>
              <a:gd name="textAreaLeft" fmla="*/ 0 w 107280"/>
              <a:gd name="textAreaRight" fmla="*/ 107640 w 107280"/>
              <a:gd name="textAreaTop" fmla="*/ 0 h 13320"/>
              <a:gd name="textAreaBottom" fmla="*/ 13680 h 13320"/>
            </a:gdLst>
            <a:ahLst/>
            <a:rect l="textAreaLeft" t="textAreaTop" r="textAreaRight" b="textAreaBottom"/>
            <a:pathLst>
              <a:path w="107696" h="13576">
                <a:moveTo>
                  <a:pt x="54978" y="13576"/>
                </a:moveTo>
                <a:lnTo>
                  <a:pt x="50444" y="13055"/>
                </a:lnTo>
                <a:lnTo>
                  <a:pt x="41046" y="8661"/>
                </a:lnTo>
                <a:lnTo>
                  <a:pt x="39903" y="8762"/>
                </a:lnTo>
                <a:lnTo>
                  <a:pt x="39052" y="5016"/>
                </a:lnTo>
                <a:lnTo>
                  <a:pt x="38912" y="9004"/>
                </a:lnTo>
                <a:lnTo>
                  <a:pt x="27724" y="13004"/>
                </a:lnTo>
                <a:lnTo>
                  <a:pt x="23202" y="12115"/>
                </a:lnTo>
                <a:lnTo>
                  <a:pt x="18541" y="9638"/>
                </a:lnTo>
                <a:lnTo>
                  <a:pt x="20459" y="6108"/>
                </a:lnTo>
                <a:lnTo>
                  <a:pt x="17779" y="9080"/>
                </a:lnTo>
                <a:lnTo>
                  <a:pt x="19037" y="5333"/>
                </a:lnTo>
                <a:lnTo>
                  <a:pt x="16802" y="8572"/>
                </a:lnTo>
                <a:lnTo>
                  <a:pt x="14351" y="7772"/>
                </a:lnTo>
                <a:lnTo>
                  <a:pt x="6553" y="10972"/>
                </a:lnTo>
                <a:lnTo>
                  <a:pt x="4457" y="12267"/>
                </a:lnTo>
                <a:lnTo>
                  <a:pt x="0" y="5981"/>
                </a:lnTo>
                <a:lnTo>
                  <a:pt x="7632" y="1587"/>
                </a:lnTo>
                <a:lnTo>
                  <a:pt x="14351" y="0"/>
                </a:lnTo>
                <a:lnTo>
                  <a:pt x="18097" y="723"/>
                </a:lnTo>
                <a:lnTo>
                  <a:pt x="17602" y="4762"/>
                </a:lnTo>
                <a:lnTo>
                  <a:pt x="18910" y="1117"/>
                </a:lnTo>
                <a:lnTo>
                  <a:pt x="23761" y="3581"/>
                </a:lnTo>
                <a:lnTo>
                  <a:pt x="23152" y="7696"/>
                </a:lnTo>
                <a:lnTo>
                  <a:pt x="24549" y="4127"/>
                </a:lnTo>
                <a:lnTo>
                  <a:pt x="27279" y="5219"/>
                </a:lnTo>
                <a:lnTo>
                  <a:pt x="39903" y="977"/>
                </a:lnTo>
                <a:lnTo>
                  <a:pt x="46748" y="2539"/>
                </a:lnTo>
                <a:lnTo>
                  <a:pt x="53200" y="5663"/>
                </a:lnTo>
                <a:lnTo>
                  <a:pt x="54978" y="9728"/>
                </a:lnTo>
                <a:lnTo>
                  <a:pt x="54241" y="5829"/>
                </a:lnTo>
                <a:lnTo>
                  <a:pt x="56375" y="9283"/>
                </a:lnTo>
                <a:lnTo>
                  <a:pt x="55155" y="5638"/>
                </a:lnTo>
                <a:lnTo>
                  <a:pt x="65849" y="456"/>
                </a:lnTo>
                <a:lnTo>
                  <a:pt x="67309" y="279"/>
                </a:lnTo>
                <a:lnTo>
                  <a:pt x="72644" y="1142"/>
                </a:lnTo>
                <a:lnTo>
                  <a:pt x="82842" y="5219"/>
                </a:lnTo>
                <a:lnTo>
                  <a:pt x="99301" y="456"/>
                </a:lnTo>
                <a:lnTo>
                  <a:pt x="105511" y="2831"/>
                </a:lnTo>
                <a:lnTo>
                  <a:pt x="107696" y="5143"/>
                </a:lnTo>
                <a:lnTo>
                  <a:pt x="102780" y="11188"/>
                </a:lnTo>
                <a:lnTo>
                  <a:pt x="102158" y="10502"/>
                </a:lnTo>
                <a:lnTo>
                  <a:pt x="104444" y="7327"/>
                </a:lnTo>
                <a:lnTo>
                  <a:pt x="101714" y="9728"/>
                </a:lnTo>
                <a:lnTo>
                  <a:pt x="101663" y="9702"/>
                </a:lnTo>
                <a:lnTo>
                  <a:pt x="101472" y="9829"/>
                </a:lnTo>
                <a:lnTo>
                  <a:pt x="98742" y="8115"/>
                </a:lnTo>
                <a:lnTo>
                  <a:pt x="82740" y="13055"/>
                </a:lnTo>
                <a:lnTo>
                  <a:pt x="68503" y="7962"/>
                </a:lnTo>
                <a:lnTo>
                  <a:pt x="68198" y="8013"/>
                </a:lnTo>
                <a:lnTo>
                  <a:pt x="67043" y="4178"/>
                </a:lnTo>
                <a:lnTo>
                  <a:pt x="66738" y="8115"/>
                </a:lnTo>
                <a:lnTo>
                  <a:pt x="56451" y="13334"/>
                </a:lnTo>
                <a:lnTo>
                  <a:pt x="54978" y="1357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320" bIns="-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4613400" y="4271760"/>
            <a:ext cx="247320" cy="135000"/>
          </a:xfrm>
          <a:custGeom>
            <a:avLst/>
            <a:gdLst>
              <a:gd name="textAreaLeft" fmla="*/ 0 w 247320"/>
              <a:gd name="textAreaRight" fmla="*/ 247680 w 2473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47739" h="135356">
                <a:moveTo>
                  <a:pt x="186855" y="135356"/>
                </a:moveTo>
                <a:lnTo>
                  <a:pt x="60680" y="135356"/>
                </a:lnTo>
                <a:lnTo>
                  <a:pt x="31115" y="7759"/>
                </a:lnTo>
                <a:lnTo>
                  <a:pt x="0" y="7759"/>
                </a:lnTo>
                <a:lnTo>
                  <a:pt x="0" y="0"/>
                </a:lnTo>
                <a:lnTo>
                  <a:pt x="37261" y="0"/>
                </a:lnTo>
                <a:lnTo>
                  <a:pt x="66814" y="127660"/>
                </a:lnTo>
                <a:lnTo>
                  <a:pt x="180733" y="127660"/>
                </a:lnTo>
                <a:lnTo>
                  <a:pt x="210273" y="0"/>
                </a:lnTo>
                <a:lnTo>
                  <a:pt x="247738" y="0"/>
                </a:lnTo>
                <a:lnTo>
                  <a:pt x="247738" y="7759"/>
                </a:lnTo>
                <a:lnTo>
                  <a:pt x="216420" y="7759"/>
                </a:lnTo>
                <a:lnTo>
                  <a:pt x="186855" y="13535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4701600" y="4292640"/>
            <a:ext cx="69480" cy="75960"/>
          </a:xfrm>
          <a:custGeom>
            <a:avLst/>
            <a:gdLst>
              <a:gd name="textAreaLeft" fmla="*/ 0 w 69480"/>
              <a:gd name="textAreaRight" fmla="*/ 69840 w 69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9913" h="76466">
                <a:moveTo>
                  <a:pt x="26111" y="76466"/>
                </a:moveTo>
                <a:cubicBezTo>
                  <a:pt x="26111" y="76466"/>
                  <a:pt x="-1270" y="70942"/>
                  <a:pt x="0" y="35559"/>
                </a:cubicBezTo>
                <a:cubicBezTo>
                  <a:pt x="4317" y="37325"/>
                  <a:pt x="9943" y="42036"/>
                  <a:pt x="14782" y="44297"/>
                </a:cubicBezTo>
                <a:cubicBezTo>
                  <a:pt x="16293" y="39166"/>
                  <a:pt x="15049" y="32486"/>
                  <a:pt x="9270" y="24904"/>
                </a:cubicBezTo>
                <a:cubicBezTo>
                  <a:pt x="21183" y="25400"/>
                  <a:pt x="26631" y="31889"/>
                  <a:pt x="29070" y="32930"/>
                </a:cubicBezTo>
                <a:cubicBezTo>
                  <a:pt x="29209" y="21297"/>
                  <a:pt x="21627" y="660"/>
                  <a:pt x="18186" y="0"/>
                </a:cubicBezTo>
                <a:cubicBezTo>
                  <a:pt x="33642" y="-2540"/>
                  <a:pt x="45681" y="26987"/>
                  <a:pt x="45681" y="26987"/>
                </a:cubicBezTo>
                <a:cubicBezTo>
                  <a:pt x="45681" y="26987"/>
                  <a:pt x="48399" y="13411"/>
                  <a:pt x="48171" y="10413"/>
                </a:cubicBezTo>
                <a:cubicBezTo>
                  <a:pt x="50342" y="10553"/>
                  <a:pt x="59575" y="29552"/>
                  <a:pt x="58902" y="39852"/>
                </a:cubicBezTo>
                <a:cubicBezTo>
                  <a:pt x="61239" y="40500"/>
                  <a:pt x="67665" y="32283"/>
                  <a:pt x="68478" y="27774"/>
                </a:cubicBezTo>
                <a:cubicBezTo>
                  <a:pt x="71310" y="23952"/>
                  <a:pt x="73469" y="73164"/>
                  <a:pt x="38937" y="75221"/>
                </a:cubicBezTo>
                <a:cubicBezTo>
                  <a:pt x="48640" y="61531"/>
                  <a:pt x="51765" y="58330"/>
                  <a:pt x="50748" y="51168"/>
                </a:cubicBezTo>
                <a:cubicBezTo>
                  <a:pt x="47002" y="53301"/>
                  <a:pt x="44221" y="54686"/>
                  <a:pt x="43332" y="52920"/>
                </a:cubicBezTo>
                <a:cubicBezTo>
                  <a:pt x="41592" y="45656"/>
                  <a:pt x="41223" y="45110"/>
                  <a:pt x="37477" y="43992"/>
                </a:cubicBezTo>
                <a:cubicBezTo>
                  <a:pt x="36626" y="47967"/>
                  <a:pt x="37782" y="55829"/>
                  <a:pt x="35902" y="58038"/>
                </a:cubicBezTo>
                <a:cubicBezTo>
                  <a:pt x="31521" y="58699"/>
                  <a:pt x="30949" y="59804"/>
                  <a:pt x="29412" y="57696"/>
                </a:cubicBezTo>
                <a:cubicBezTo>
                  <a:pt x="29730" y="61036"/>
                  <a:pt x="28600" y="66039"/>
                  <a:pt x="30581" y="67106"/>
                </a:cubicBezTo>
                <a:cubicBezTo>
                  <a:pt x="24802" y="64858"/>
                  <a:pt x="20561" y="64388"/>
                  <a:pt x="19684" y="61239"/>
                </a:cubicBezTo>
                <a:cubicBezTo>
                  <a:pt x="18236" y="64858"/>
                  <a:pt x="23482" y="74091"/>
                  <a:pt x="26111" y="76466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2386440" y="722052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24" h="25400">
                <a:moveTo>
                  <a:pt x="6350" y="6350"/>
                </a:moveTo>
                <a:lnTo>
                  <a:pt x="211074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2769480" y="722052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11" h="25400">
                <a:moveTo>
                  <a:pt x="6350" y="6350"/>
                </a:moveTo>
                <a:lnTo>
                  <a:pt x="211061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705400" y="7183440"/>
            <a:ext cx="28080" cy="77400"/>
          </a:xfrm>
          <a:custGeom>
            <a:avLst/>
            <a:gdLst>
              <a:gd name="textAreaLeft" fmla="*/ 0 w 28080"/>
              <a:gd name="textAreaRight" fmla="*/ 28440 w 2808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28473" h="77622">
                <a:moveTo>
                  <a:pt x="28473" y="77622"/>
                </a:moveTo>
                <a:lnTo>
                  <a:pt x="18986" y="77622"/>
                </a:lnTo>
                <a:lnTo>
                  <a:pt x="18986" y="17132"/>
                </a:lnTo>
                <a:cubicBezTo>
                  <a:pt x="16700" y="19316"/>
                  <a:pt x="13703" y="21488"/>
                  <a:pt x="9994" y="23672"/>
                </a:cubicBezTo>
                <a:cubicBezTo>
                  <a:pt x="6286" y="25857"/>
                  <a:pt x="2946" y="27495"/>
                  <a:pt x="0" y="28587"/>
                </a:cubicBezTo>
                <a:lnTo>
                  <a:pt x="0" y="19405"/>
                </a:lnTo>
                <a:cubicBezTo>
                  <a:pt x="5308" y="16903"/>
                  <a:pt x="9944" y="13881"/>
                  <a:pt x="13919" y="10324"/>
                </a:cubicBezTo>
                <a:cubicBezTo>
                  <a:pt x="17894" y="6781"/>
                  <a:pt x="20713" y="3327"/>
                  <a:pt x="22364" y="0"/>
                </a:cubicBezTo>
                <a:lnTo>
                  <a:pt x="28473" y="0"/>
                </a:lnTo>
                <a:lnTo>
                  <a:pt x="28473" y="7762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344160" y="603000"/>
            <a:ext cx="4677840" cy="18360"/>
          </a:xfrm>
          <a:custGeom>
            <a:avLst/>
            <a:gdLst>
              <a:gd name="textAreaLeft" fmla="*/ 0 w 4677840"/>
              <a:gd name="textAreaRight" fmla="*/ 4678200 w 4677840"/>
              <a:gd name="textAreaTop" fmla="*/ 0 h 18360"/>
              <a:gd name="textAreaBottom" fmla="*/ 18720 h 18360"/>
            </a:gdLst>
            <a:ahLst/>
            <a:rect l="textAreaLeft" t="textAreaTop" r="textAreaRight" b="textAreaBottom"/>
            <a:pathLst>
              <a:path w="4678070" h="18796">
                <a:moveTo>
                  <a:pt x="6350" y="6350"/>
                </a:moveTo>
                <a:lnTo>
                  <a:pt x="4671720" y="6350"/>
                </a:lnTo>
              </a:path>
            </a:pathLst>
          </a:custGeom>
          <a:noFill/>
          <a:ln w="12700">
            <a:solidFill>
              <a:srgbClr val="76798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1305720" y="2589480"/>
            <a:ext cx="16560" cy="19080"/>
          </a:xfrm>
          <a:custGeom>
            <a:avLst/>
            <a:gdLst>
              <a:gd name="textAreaLeft" fmla="*/ 0 w 16560"/>
              <a:gd name="textAreaRight" fmla="*/ 16920 w 165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7094" h="19291">
                <a:moveTo>
                  <a:pt x="0" y="4000"/>
                </a:moveTo>
                <a:lnTo>
                  <a:pt x="7797" y="0"/>
                </a:lnTo>
                <a:cubicBezTo>
                  <a:pt x="12090" y="6387"/>
                  <a:pt x="15189" y="11340"/>
                  <a:pt x="17094" y="14858"/>
                </a:cubicBezTo>
                <a:lnTo>
                  <a:pt x="8750" y="19291"/>
                </a:lnTo>
                <a:cubicBezTo>
                  <a:pt x="4965" y="12255"/>
                  <a:pt x="2044" y="7162"/>
                  <a:pt x="0" y="400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1262520" y="2608920"/>
            <a:ext cx="102600" cy="77760"/>
          </a:xfrm>
          <a:custGeom>
            <a:avLst/>
            <a:gdLst>
              <a:gd name="textAreaLeft" fmla="*/ 0 w 102600"/>
              <a:gd name="textAreaRight" fmla="*/ 102960 w 102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02946" h="78257">
                <a:moveTo>
                  <a:pt x="0" y="70447"/>
                </a:moveTo>
                <a:lnTo>
                  <a:pt x="46926" y="70447"/>
                </a:lnTo>
                <a:lnTo>
                  <a:pt x="46926" y="40081"/>
                </a:lnTo>
                <a:lnTo>
                  <a:pt x="8331" y="40081"/>
                </a:lnTo>
                <a:lnTo>
                  <a:pt x="8331" y="32067"/>
                </a:lnTo>
                <a:lnTo>
                  <a:pt x="46926" y="32067"/>
                </a:lnTo>
                <a:lnTo>
                  <a:pt x="46926" y="8013"/>
                </a:lnTo>
                <a:lnTo>
                  <a:pt x="4216" y="8013"/>
                </a:lnTo>
                <a:lnTo>
                  <a:pt x="4216" y="0"/>
                </a:lnTo>
                <a:lnTo>
                  <a:pt x="98298" y="0"/>
                </a:lnTo>
                <a:lnTo>
                  <a:pt x="98298" y="8013"/>
                </a:lnTo>
                <a:lnTo>
                  <a:pt x="56007" y="8013"/>
                </a:lnTo>
                <a:lnTo>
                  <a:pt x="56007" y="32067"/>
                </a:lnTo>
                <a:lnTo>
                  <a:pt x="94602" y="32067"/>
                </a:lnTo>
                <a:lnTo>
                  <a:pt x="94602" y="40081"/>
                </a:lnTo>
                <a:lnTo>
                  <a:pt x="56007" y="40081"/>
                </a:lnTo>
                <a:lnTo>
                  <a:pt x="56007" y="70447"/>
                </a:lnTo>
                <a:lnTo>
                  <a:pt x="102946" y="70447"/>
                </a:lnTo>
                <a:lnTo>
                  <a:pt x="102946" y="78257"/>
                </a:lnTo>
                <a:lnTo>
                  <a:pt x="0" y="78257"/>
                </a:lnTo>
                <a:lnTo>
                  <a:pt x="0" y="7044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2172240" y="266652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3" h="28105">
                <a:moveTo>
                  <a:pt x="16293" y="0"/>
                </a:moveTo>
                <a:lnTo>
                  <a:pt x="7378" y="28105"/>
                </a:lnTo>
                <a:lnTo>
                  <a:pt x="0" y="28105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4127040" y="266652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3" h="28105">
                <a:moveTo>
                  <a:pt x="16293" y="0"/>
                </a:moveTo>
                <a:lnTo>
                  <a:pt x="7378" y="28105"/>
                </a:lnTo>
                <a:lnTo>
                  <a:pt x="0" y="28105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1153800" y="2750760"/>
            <a:ext cx="103680" cy="96480"/>
          </a:xfrm>
          <a:custGeom>
            <a:avLst/>
            <a:gdLst>
              <a:gd name="textAreaLeft" fmla="*/ 0 w 103680"/>
              <a:gd name="textAreaRight" fmla="*/ 104040 w 10368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104203" h="96812">
                <a:moveTo>
                  <a:pt x="0" y="41541"/>
                </a:moveTo>
                <a:lnTo>
                  <a:pt x="49034" y="41541"/>
                </a:lnTo>
                <a:lnTo>
                  <a:pt x="49034" y="29959"/>
                </a:lnTo>
                <a:lnTo>
                  <a:pt x="79311" y="7912"/>
                </a:lnTo>
                <a:lnTo>
                  <a:pt x="11074" y="7912"/>
                </a:lnTo>
                <a:lnTo>
                  <a:pt x="11074" y="0"/>
                </a:lnTo>
                <a:lnTo>
                  <a:pt x="93344" y="0"/>
                </a:lnTo>
                <a:lnTo>
                  <a:pt x="93344" y="8229"/>
                </a:lnTo>
                <a:lnTo>
                  <a:pt x="58000" y="34061"/>
                </a:lnTo>
                <a:lnTo>
                  <a:pt x="58000" y="41541"/>
                </a:lnTo>
                <a:lnTo>
                  <a:pt x="104203" y="41541"/>
                </a:lnTo>
                <a:lnTo>
                  <a:pt x="104203" y="49453"/>
                </a:lnTo>
                <a:lnTo>
                  <a:pt x="58000" y="49453"/>
                </a:lnTo>
                <a:lnTo>
                  <a:pt x="58000" y="82677"/>
                </a:lnTo>
                <a:cubicBezTo>
                  <a:pt x="58000" y="92100"/>
                  <a:pt x="53085" y="96812"/>
                  <a:pt x="43243" y="96812"/>
                </a:cubicBezTo>
                <a:cubicBezTo>
                  <a:pt x="40004" y="96812"/>
                  <a:pt x="34455" y="96748"/>
                  <a:pt x="26581" y="96609"/>
                </a:cubicBezTo>
                <a:cubicBezTo>
                  <a:pt x="26288" y="93789"/>
                  <a:pt x="25869" y="90589"/>
                  <a:pt x="25311" y="87007"/>
                </a:cubicBezTo>
                <a:cubicBezTo>
                  <a:pt x="30441" y="87642"/>
                  <a:pt x="35852" y="87985"/>
                  <a:pt x="41554" y="88061"/>
                </a:cubicBezTo>
                <a:cubicBezTo>
                  <a:pt x="46545" y="88061"/>
                  <a:pt x="49034" y="85534"/>
                  <a:pt x="49034" y="80454"/>
                </a:cubicBezTo>
                <a:lnTo>
                  <a:pt x="49034" y="49453"/>
                </a:lnTo>
                <a:lnTo>
                  <a:pt x="0" y="49453"/>
                </a:lnTo>
                <a:lnTo>
                  <a:pt x="0" y="41541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2022480" y="2752560"/>
            <a:ext cx="103320" cy="93960"/>
          </a:xfrm>
          <a:custGeom>
            <a:avLst/>
            <a:gdLst>
              <a:gd name="textAreaLeft" fmla="*/ 0 w 103320"/>
              <a:gd name="textAreaRight" fmla="*/ 103680 w 1033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03784" h="94284">
                <a:moveTo>
                  <a:pt x="0" y="35547"/>
                </a:moveTo>
                <a:lnTo>
                  <a:pt x="49034" y="35547"/>
                </a:lnTo>
                <a:lnTo>
                  <a:pt x="49034" y="8331"/>
                </a:lnTo>
                <a:lnTo>
                  <a:pt x="8432" y="8331"/>
                </a:lnTo>
                <a:lnTo>
                  <a:pt x="8432" y="0"/>
                </a:lnTo>
                <a:lnTo>
                  <a:pt x="95770" y="0"/>
                </a:lnTo>
                <a:lnTo>
                  <a:pt x="95770" y="8331"/>
                </a:lnTo>
                <a:lnTo>
                  <a:pt x="57911" y="8331"/>
                </a:lnTo>
                <a:lnTo>
                  <a:pt x="57911" y="35547"/>
                </a:lnTo>
                <a:lnTo>
                  <a:pt x="103784" y="35547"/>
                </a:lnTo>
                <a:lnTo>
                  <a:pt x="103784" y="43878"/>
                </a:lnTo>
                <a:lnTo>
                  <a:pt x="57911" y="43878"/>
                </a:lnTo>
                <a:lnTo>
                  <a:pt x="57911" y="80048"/>
                </a:lnTo>
                <a:cubicBezTo>
                  <a:pt x="57911" y="84836"/>
                  <a:pt x="57022" y="88277"/>
                  <a:pt x="55270" y="90385"/>
                </a:cubicBezTo>
                <a:cubicBezTo>
                  <a:pt x="53289" y="92849"/>
                  <a:pt x="49606" y="94145"/>
                  <a:pt x="44183" y="94284"/>
                </a:cubicBezTo>
                <a:cubicBezTo>
                  <a:pt x="41020" y="94284"/>
                  <a:pt x="35090" y="94259"/>
                  <a:pt x="26365" y="94183"/>
                </a:cubicBezTo>
                <a:cubicBezTo>
                  <a:pt x="26022" y="90944"/>
                  <a:pt x="25450" y="87744"/>
                  <a:pt x="24676" y="84582"/>
                </a:cubicBezTo>
                <a:cubicBezTo>
                  <a:pt x="32626" y="85140"/>
                  <a:pt x="38150" y="85432"/>
                  <a:pt x="41236" y="85432"/>
                </a:cubicBezTo>
                <a:cubicBezTo>
                  <a:pt x="44399" y="85432"/>
                  <a:pt x="46507" y="84836"/>
                  <a:pt x="47561" y="83642"/>
                </a:cubicBezTo>
                <a:cubicBezTo>
                  <a:pt x="48552" y="82651"/>
                  <a:pt x="49034" y="80441"/>
                  <a:pt x="49034" y="77000"/>
                </a:cubicBezTo>
                <a:lnTo>
                  <a:pt x="49034" y="43878"/>
                </a:lnTo>
                <a:lnTo>
                  <a:pt x="0" y="43878"/>
                </a:lnTo>
                <a:lnTo>
                  <a:pt x="0" y="3554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3040920" y="282132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05">
                <a:moveTo>
                  <a:pt x="16294" y="0"/>
                </a:moveTo>
                <a:lnTo>
                  <a:pt x="7378" y="28105"/>
                </a:lnTo>
                <a:lnTo>
                  <a:pt x="0" y="28105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3334320" y="2745720"/>
            <a:ext cx="86040" cy="101520"/>
          </a:xfrm>
          <a:custGeom>
            <a:avLst/>
            <a:gdLst>
              <a:gd name="textAreaLeft" fmla="*/ 0 w 86040"/>
              <a:gd name="textAreaRight" fmla="*/ 86400 w 86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283" h="101993">
                <a:moveTo>
                  <a:pt x="0" y="18135"/>
                </a:moveTo>
                <a:lnTo>
                  <a:pt x="38912" y="18135"/>
                </a:lnTo>
                <a:lnTo>
                  <a:pt x="38912" y="0"/>
                </a:lnTo>
                <a:lnTo>
                  <a:pt x="47574" y="0"/>
                </a:lnTo>
                <a:lnTo>
                  <a:pt x="47574" y="18135"/>
                </a:lnTo>
                <a:lnTo>
                  <a:pt x="86283" y="18135"/>
                </a:lnTo>
                <a:lnTo>
                  <a:pt x="86283" y="87744"/>
                </a:lnTo>
                <a:cubicBezTo>
                  <a:pt x="86283" y="96685"/>
                  <a:pt x="81877" y="101104"/>
                  <a:pt x="73101" y="101028"/>
                </a:cubicBezTo>
                <a:cubicBezTo>
                  <a:pt x="68453" y="101028"/>
                  <a:pt x="62750" y="100964"/>
                  <a:pt x="56007" y="100838"/>
                </a:cubicBezTo>
                <a:cubicBezTo>
                  <a:pt x="55803" y="98437"/>
                  <a:pt x="55270" y="95376"/>
                  <a:pt x="54419" y="91655"/>
                </a:cubicBezTo>
                <a:cubicBezTo>
                  <a:pt x="61112" y="92214"/>
                  <a:pt x="66662" y="92519"/>
                  <a:pt x="71094" y="92595"/>
                </a:cubicBezTo>
                <a:cubicBezTo>
                  <a:pt x="75514" y="92748"/>
                  <a:pt x="77736" y="90525"/>
                  <a:pt x="77736" y="85953"/>
                </a:cubicBezTo>
                <a:lnTo>
                  <a:pt x="77736" y="26161"/>
                </a:lnTo>
                <a:lnTo>
                  <a:pt x="47358" y="26161"/>
                </a:lnTo>
                <a:cubicBezTo>
                  <a:pt x="47078" y="32562"/>
                  <a:pt x="46304" y="38252"/>
                  <a:pt x="45046" y="43243"/>
                </a:cubicBezTo>
                <a:cubicBezTo>
                  <a:pt x="57480" y="53238"/>
                  <a:pt x="67538" y="62014"/>
                  <a:pt x="75209" y="69608"/>
                </a:cubicBezTo>
                <a:lnTo>
                  <a:pt x="68770" y="76479"/>
                </a:lnTo>
                <a:cubicBezTo>
                  <a:pt x="61239" y="68237"/>
                  <a:pt x="52489" y="59689"/>
                  <a:pt x="42507" y="50838"/>
                </a:cubicBezTo>
                <a:cubicBezTo>
                  <a:pt x="37731" y="61175"/>
                  <a:pt x="28625" y="70180"/>
                  <a:pt x="15189" y="77838"/>
                </a:cubicBezTo>
                <a:cubicBezTo>
                  <a:pt x="12243" y="73761"/>
                  <a:pt x="10274" y="71234"/>
                  <a:pt x="9283" y="70256"/>
                </a:cubicBezTo>
                <a:cubicBezTo>
                  <a:pt x="20751" y="64198"/>
                  <a:pt x="28587" y="57480"/>
                  <a:pt x="32804" y="50114"/>
                </a:cubicBezTo>
                <a:cubicBezTo>
                  <a:pt x="36182" y="44691"/>
                  <a:pt x="38150" y="36715"/>
                  <a:pt x="38709" y="26161"/>
                </a:cubicBezTo>
                <a:lnTo>
                  <a:pt x="8547" y="26161"/>
                </a:lnTo>
                <a:lnTo>
                  <a:pt x="8547" y="101993"/>
                </a:lnTo>
                <a:lnTo>
                  <a:pt x="0" y="101993"/>
                </a:lnTo>
                <a:lnTo>
                  <a:pt x="0" y="18135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502920" y="2908440"/>
            <a:ext cx="102240" cy="93960"/>
          </a:xfrm>
          <a:custGeom>
            <a:avLst/>
            <a:gdLst>
              <a:gd name="textAreaLeft" fmla="*/ 0 w 102240"/>
              <a:gd name="textAreaRight" fmla="*/ 102600 w 10224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02514" h="94488">
                <a:moveTo>
                  <a:pt x="0" y="0"/>
                </a:moveTo>
                <a:lnTo>
                  <a:pt x="102514" y="0"/>
                </a:lnTo>
                <a:lnTo>
                  <a:pt x="102514" y="8648"/>
                </a:lnTo>
                <a:lnTo>
                  <a:pt x="51257" y="8648"/>
                </a:lnTo>
                <a:lnTo>
                  <a:pt x="51257" y="31635"/>
                </a:lnTo>
                <a:lnTo>
                  <a:pt x="56108" y="24892"/>
                </a:lnTo>
                <a:cubicBezTo>
                  <a:pt x="72212" y="34378"/>
                  <a:pt x="85712" y="42926"/>
                  <a:pt x="96608" y="50520"/>
                </a:cubicBezTo>
                <a:lnTo>
                  <a:pt x="90385" y="59055"/>
                </a:lnTo>
                <a:cubicBezTo>
                  <a:pt x="79489" y="50685"/>
                  <a:pt x="66446" y="41871"/>
                  <a:pt x="51257" y="32575"/>
                </a:cubicBezTo>
                <a:lnTo>
                  <a:pt x="51257" y="94488"/>
                </a:lnTo>
                <a:lnTo>
                  <a:pt x="41655" y="94488"/>
                </a:lnTo>
                <a:lnTo>
                  <a:pt x="41655" y="8648"/>
                </a:lnTo>
                <a:lnTo>
                  <a:pt x="0" y="8648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720360" y="2905920"/>
            <a:ext cx="101160" cy="96840"/>
          </a:xfrm>
          <a:custGeom>
            <a:avLst/>
            <a:gdLst>
              <a:gd name="textAreaLeft" fmla="*/ 0 w 101160"/>
              <a:gd name="textAreaRight" fmla="*/ 101520 w 1011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01460" h="97243">
                <a:moveTo>
                  <a:pt x="5588" y="25209"/>
                </a:moveTo>
                <a:lnTo>
                  <a:pt x="41135" y="25209"/>
                </a:lnTo>
                <a:cubicBezTo>
                  <a:pt x="42672" y="19430"/>
                  <a:pt x="44081" y="13639"/>
                  <a:pt x="45351" y="7797"/>
                </a:cubicBezTo>
                <a:lnTo>
                  <a:pt x="0" y="7797"/>
                </a:lnTo>
                <a:lnTo>
                  <a:pt x="0" y="0"/>
                </a:lnTo>
                <a:lnTo>
                  <a:pt x="101460" y="0"/>
                </a:lnTo>
                <a:lnTo>
                  <a:pt x="101460" y="7797"/>
                </a:lnTo>
                <a:lnTo>
                  <a:pt x="54737" y="7797"/>
                </a:lnTo>
                <a:cubicBezTo>
                  <a:pt x="53047" y="13817"/>
                  <a:pt x="51269" y="19621"/>
                  <a:pt x="49403" y="25209"/>
                </a:cubicBezTo>
                <a:lnTo>
                  <a:pt x="95554" y="25209"/>
                </a:lnTo>
                <a:lnTo>
                  <a:pt x="95554" y="84480"/>
                </a:lnTo>
                <a:cubicBezTo>
                  <a:pt x="95554" y="92557"/>
                  <a:pt x="91897" y="96596"/>
                  <a:pt x="84581" y="96596"/>
                </a:cubicBezTo>
                <a:cubicBezTo>
                  <a:pt x="80010" y="96596"/>
                  <a:pt x="75399" y="96494"/>
                  <a:pt x="70764" y="96291"/>
                </a:cubicBezTo>
                <a:cubicBezTo>
                  <a:pt x="69989" y="91287"/>
                  <a:pt x="69456" y="88392"/>
                  <a:pt x="69189" y="87541"/>
                </a:cubicBezTo>
                <a:cubicBezTo>
                  <a:pt x="73825" y="88023"/>
                  <a:pt x="78003" y="88277"/>
                  <a:pt x="81737" y="88277"/>
                </a:cubicBezTo>
                <a:cubicBezTo>
                  <a:pt x="85534" y="88277"/>
                  <a:pt x="87426" y="86334"/>
                  <a:pt x="87426" y="82473"/>
                </a:cubicBezTo>
                <a:lnTo>
                  <a:pt x="87426" y="33007"/>
                </a:lnTo>
                <a:lnTo>
                  <a:pt x="67919" y="33007"/>
                </a:lnTo>
                <a:lnTo>
                  <a:pt x="67919" y="91109"/>
                </a:lnTo>
                <a:lnTo>
                  <a:pt x="60007" y="91109"/>
                </a:lnTo>
                <a:lnTo>
                  <a:pt x="60007" y="33007"/>
                </a:lnTo>
                <a:lnTo>
                  <a:pt x="40805" y="33007"/>
                </a:lnTo>
                <a:lnTo>
                  <a:pt x="40805" y="91109"/>
                </a:lnTo>
                <a:lnTo>
                  <a:pt x="32893" y="91109"/>
                </a:lnTo>
                <a:lnTo>
                  <a:pt x="32893" y="33007"/>
                </a:lnTo>
                <a:lnTo>
                  <a:pt x="13716" y="33007"/>
                </a:lnTo>
                <a:lnTo>
                  <a:pt x="13716" y="97243"/>
                </a:lnTo>
                <a:lnTo>
                  <a:pt x="5588" y="97243"/>
                </a:lnTo>
                <a:lnTo>
                  <a:pt x="5588" y="2520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1622520" y="2906640"/>
            <a:ext cx="63720" cy="7560"/>
          </a:xfrm>
          <a:custGeom>
            <a:avLst/>
            <a:gdLst>
              <a:gd name="textAreaLeft" fmla="*/ 0 w 63720"/>
              <a:gd name="textAreaRight" fmla="*/ 64080 w 63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64236" h="7912">
                <a:moveTo>
                  <a:pt x="0" y="3955"/>
                </a:moveTo>
                <a:lnTo>
                  <a:pt x="64236" y="3955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1615680" y="2932200"/>
            <a:ext cx="76320" cy="68400"/>
          </a:xfrm>
          <a:custGeom>
            <a:avLst/>
            <a:gdLst>
              <a:gd name="textAreaLeft" fmla="*/ 0 w 76320"/>
              <a:gd name="textAreaRight" fmla="*/ 76680 w 76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6670" h="68757">
                <a:moveTo>
                  <a:pt x="0" y="0"/>
                </a:moveTo>
                <a:lnTo>
                  <a:pt x="76669" y="0"/>
                </a:lnTo>
                <a:lnTo>
                  <a:pt x="76669" y="8013"/>
                </a:lnTo>
                <a:lnTo>
                  <a:pt x="25425" y="8013"/>
                </a:lnTo>
                <a:lnTo>
                  <a:pt x="21932" y="24142"/>
                </a:lnTo>
                <a:lnTo>
                  <a:pt x="68237" y="24142"/>
                </a:lnTo>
                <a:cubicBezTo>
                  <a:pt x="67259" y="35966"/>
                  <a:pt x="66509" y="44322"/>
                  <a:pt x="66027" y="49250"/>
                </a:cubicBezTo>
                <a:cubicBezTo>
                  <a:pt x="65316" y="56832"/>
                  <a:pt x="63461" y="61976"/>
                  <a:pt x="60426" y="64642"/>
                </a:cubicBezTo>
                <a:cubicBezTo>
                  <a:pt x="57619" y="67386"/>
                  <a:pt x="52425" y="68757"/>
                  <a:pt x="44818" y="68757"/>
                </a:cubicBezTo>
                <a:cubicBezTo>
                  <a:pt x="39624" y="68757"/>
                  <a:pt x="33261" y="68618"/>
                  <a:pt x="25730" y="68338"/>
                </a:cubicBezTo>
                <a:cubicBezTo>
                  <a:pt x="25234" y="65239"/>
                  <a:pt x="24498" y="62014"/>
                  <a:pt x="23507" y="58635"/>
                </a:cubicBezTo>
                <a:cubicBezTo>
                  <a:pt x="31115" y="59410"/>
                  <a:pt x="37998" y="59804"/>
                  <a:pt x="44183" y="59804"/>
                </a:cubicBezTo>
                <a:cubicBezTo>
                  <a:pt x="48894" y="59804"/>
                  <a:pt x="52133" y="59016"/>
                  <a:pt x="53898" y="57467"/>
                </a:cubicBezTo>
                <a:cubicBezTo>
                  <a:pt x="55714" y="56070"/>
                  <a:pt x="56870" y="53111"/>
                  <a:pt x="57365" y="48615"/>
                </a:cubicBezTo>
                <a:cubicBezTo>
                  <a:pt x="57734" y="45592"/>
                  <a:pt x="58178" y="40068"/>
                  <a:pt x="58750" y="32054"/>
                </a:cubicBezTo>
                <a:lnTo>
                  <a:pt x="11188" y="32054"/>
                </a:lnTo>
                <a:lnTo>
                  <a:pt x="16497" y="8013"/>
                </a:lnTo>
                <a:lnTo>
                  <a:pt x="0" y="8013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1591560" y="2900880"/>
            <a:ext cx="23760" cy="20880"/>
          </a:xfrm>
          <a:custGeom>
            <a:avLst/>
            <a:gdLst>
              <a:gd name="textAreaLeft" fmla="*/ 0 w 23760"/>
              <a:gd name="textAreaRight" fmla="*/ 24120 w 237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24257" h="21310">
                <a:moveTo>
                  <a:pt x="5270" y="0"/>
                </a:moveTo>
                <a:cubicBezTo>
                  <a:pt x="12649" y="5067"/>
                  <a:pt x="18973" y="9779"/>
                  <a:pt x="24257" y="14135"/>
                </a:cubicBezTo>
                <a:cubicBezTo>
                  <a:pt x="22428" y="16662"/>
                  <a:pt x="20497" y="19050"/>
                  <a:pt x="18453" y="21310"/>
                </a:cubicBezTo>
                <a:cubicBezTo>
                  <a:pt x="12065" y="15760"/>
                  <a:pt x="5905" y="10718"/>
                  <a:pt x="0" y="6223"/>
                </a:cubicBezTo>
                <a:lnTo>
                  <a:pt x="527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1590480" y="2959560"/>
            <a:ext cx="21240" cy="42480"/>
          </a:xfrm>
          <a:custGeom>
            <a:avLst/>
            <a:gdLst>
              <a:gd name="textAreaLeft" fmla="*/ 0 w 21240"/>
              <a:gd name="textAreaRight" fmla="*/ 21600 w 2124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21513" h="42811">
                <a:moveTo>
                  <a:pt x="12547" y="0"/>
                </a:moveTo>
                <a:cubicBezTo>
                  <a:pt x="16141" y="1879"/>
                  <a:pt x="19126" y="3289"/>
                  <a:pt x="21513" y="4216"/>
                </a:cubicBezTo>
                <a:cubicBezTo>
                  <a:pt x="17932" y="16014"/>
                  <a:pt x="13893" y="28892"/>
                  <a:pt x="9385" y="42811"/>
                </a:cubicBezTo>
                <a:lnTo>
                  <a:pt x="0" y="38493"/>
                </a:lnTo>
                <a:cubicBezTo>
                  <a:pt x="4927" y="26809"/>
                  <a:pt x="9105" y="13982"/>
                  <a:pt x="1254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1586880" y="2928600"/>
            <a:ext cx="24840" cy="20880"/>
          </a:xfrm>
          <a:custGeom>
            <a:avLst/>
            <a:gdLst>
              <a:gd name="textAreaLeft" fmla="*/ 0 w 24840"/>
              <a:gd name="textAreaRight" fmla="*/ 25200 w 248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25209" h="21107">
                <a:moveTo>
                  <a:pt x="5067" y="0"/>
                </a:moveTo>
                <a:cubicBezTo>
                  <a:pt x="12306" y="4356"/>
                  <a:pt x="19024" y="8864"/>
                  <a:pt x="25209" y="13500"/>
                </a:cubicBezTo>
                <a:cubicBezTo>
                  <a:pt x="23304" y="16243"/>
                  <a:pt x="21374" y="18770"/>
                  <a:pt x="19405" y="21107"/>
                </a:cubicBezTo>
                <a:cubicBezTo>
                  <a:pt x="13080" y="15900"/>
                  <a:pt x="6603" y="11112"/>
                  <a:pt x="0" y="6743"/>
                </a:cubicBezTo>
                <a:lnTo>
                  <a:pt x="5067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2239200" y="2899080"/>
            <a:ext cx="104760" cy="104760"/>
          </a:xfrm>
          <a:custGeom>
            <a:avLst/>
            <a:gdLst>
              <a:gd name="textAreaLeft" fmla="*/ 0 w 104760"/>
              <a:gd name="textAreaRight" fmla="*/ 105120 w 104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4940" h="105244">
                <a:moveTo>
                  <a:pt x="91655" y="58635"/>
                </a:moveTo>
                <a:lnTo>
                  <a:pt x="97459" y="65900"/>
                </a:lnTo>
                <a:lnTo>
                  <a:pt x="73888" y="77724"/>
                </a:lnTo>
                <a:cubicBezTo>
                  <a:pt x="82143" y="84467"/>
                  <a:pt x="92493" y="88938"/>
                  <a:pt x="104940" y="91122"/>
                </a:cubicBezTo>
                <a:cubicBezTo>
                  <a:pt x="102552" y="94208"/>
                  <a:pt x="100583" y="97015"/>
                  <a:pt x="99034" y="99555"/>
                </a:cubicBezTo>
                <a:cubicBezTo>
                  <a:pt x="76365" y="94132"/>
                  <a:pt x="60109" y="80187"/>
                  <a:pt x="50253" y="57746"/>
                </a:cubicBezTo>
                <a:cubicBezTo>
                  <a:pt x="46672" y="62306"/>
                  <a:pt x="42583" y="66649"/>
                  <a:pt x="37960" y="70764"/>
                </a:cubicBezTo>
                <a:lnTo>
                  <a:pt x="37960" y="93332"/>
                </a:lnTo>
                <a:cubicBezTo>
                  <a:pt x="47256" y="90309"/>
                  <a:pt x="55867" y="87134"/>
                  <a:pt x="63817" y="83832"/>
                </a:cubicBezTo>
                <a:cubicBezTo>
                  <a:pt x="63741" y="86944"/>
                  <a:pt x="63779" y="89992"/>
                  <a:pt x="63906" y="93014"/>
                </a:cubicBezTo>
                <a:cubicBezTo>
                  <a:pt x="55473" y="95897"/>
                  <a:pt x="46761" y="99072"/>
                  <a:pt x="37756" y="102501"/>
                </a:cubicBezTo>
                <a:cubicBezTo>
                  <a:pt x="35852" y="103289"/>
                  <a:pt x="33997" y="104203"/>
                  <a:pt x="32168" y="105244"/>
                </a:cubicBezTo>
                <a:lnTo>
                  <a:pt x="27215" y="97548"/>
                </a:lnTo>
                <a:cubicBezTo>
                  <a:pt x="29184" y="96139"/>
                  <a:pt x="30162" y="94183"/>
                  <a:pt x="30162" y="91656"/>
                </a:cubicBezTo>
                <a:lnTo>
                  <a:pt x="30162" y="77139"/>
                </a:lnTo>
                <a:cubicBezTo>
                  <a:pt x="22885" y="82600"/>
                  <a:pt x="14630" y="87528"/>
                  <a:pt x="5384" y="91960"/>
                </a:cubicBezTo>
                <a:cubicBezTo>
                  <a:pt x="3835" y="89496"/>
                  <a:pt x="2031" y="87071"/>
                  <a:pt x="0" y="84683"/>
                </a:cubicBezTo>
                <a:cubicBezTo>
                  <a:pt x="18186" y="77228"/>
                  <a:pt x="32448" y="67246"/>
                  <a:pt x="42824" y="54724"/>
                </a:cubicBezTo>
                <a:lnTo>
                  <a:pt x="1168" y="54724"/>
                </a:lnTo>
                <a:lnTo>
                  <a:pt x="1168" y="47447"/>
                </a:lnTo>
                <a:lnTo>
                  <a:pt x="48412" y="47447"/>
                </a:lnTo>
                <a:lnTo>
                  <a:pt x="48412" y="36690"/>
                </a:lnTo>
                <a:lnTo>
                  <a:pt x="8648" y="36690"/>
                </a:lnTo>
                <a:lnTo>
                  <a:pt x="8648" y="29413"/>
                </a:lnTo>
                <a:lnTo>
                  <a:pt x="48412" y="29413"/>
                </a:lnTo>
                <a:lnTo>
                  <a:pt x="48412" y="19075"/>
                </a:lnTo>
                <a:lnTo>
                  <a:pt x="4432" y="19075"/>
                </a:lnTo>
                <a:lnTo>
                  <a:pt x="4432" y="11798"/>
                </a:lnTo>
                <a:lnTo>
                  <a:pt x="48412" y="11798"/>
                </a:lnTo>
                <a:lnTo>
                  <a:pt x="48412" y="0"/>
                </a:lnTo>
                <a:lnTo>
                  <a:pt x="56743" y="0"/>
                </a:lnTo>
                <a:lnTo>
                  <a:pt x="56743" y="11798"/>
                </a:lnTo>
                <a:lnTo>
                  <a:pt x="100926" y="11798"/>
                </a:lnTo>
                <a:lnTo>
                  <a:pt x="100926" y="19075"/>
                </a:lnTo>
                <a:lnTo>
                  <a:pt x="56743" y="19075"/>
                </a:lnTo>
                <a:lnTo>
                  <a:pt x="56743" y="29413"/>
                </a:lnTo>
                <a:lnTo>
                  <a:pt x="96405" y="29413"/>
                </a:lnTo>
                <a:lnTo>
                  <a:pt x="96405" y="36690"/>
                </a:lnTo>
                <a:lnTo>
                  <a:pt x="56743" y="36690"/>
                </a:lnTo>
                <a:lnTo>
                  <a:pt x="56743" y="47447"/>
                </a:lnTo>
                <a:lnTo>
                  <a:pt x="103885" y="47447"/>
                </a:lnTo>
                <a:lnTo>
                  <a:pt x="103885" y="54724"/>
                </a:lnTo>
                <a:lnTo>
                  <a:pt x="56997" y="54724"/>
                </a:lnTo>
                <a:cubicBezTo>
                  <a:pt x="59969" y="61582"/>
                  <a:pt x="63766" y="67525"/>
                  <a:pt x="68402" y="72555"/>
                </a:cubicBezTo>
                <a:cubicBezTo>
                  <a:pt x="75476" y="69024"/>
                  <a:pt x="83223" y="64389"/>
                  <a:pt x="91655" y="5863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2823840" y="297648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05">
                <a:moveTo>
                  <a:pt x="16294" y="0"/>
                </a:moveTo>
                <a:lnTo>
                  <a:pt x="7378" y="28105"/>
                </a:lnTo>
                <a:lnTo>
                  <a:pt x="0" y="28105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2976480" y="2900160"/>
            <a:ext cx="8640" cy="102960"/>
          </a:xfrm>
          <a:custGeom>
            <a:avLst/>
            <a:gdLst>
              <a:gd name="textAreaLeft" fmla="*/ 0 w 8640"/>
              <a:gd name="textAreaRight" fmla="*/ 9000 w 86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8864" h="103251">
                <a:moveTo>
                  <a:pt x="4432" y="0"/>
                </a:moveTo>
                <a:lnTo>
                  <a:pt x="4432" y="103251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2896920" y="2904480"/>
            <a:ext cx="53640" cy="96480"/>
          </a:xfrm>
          <a:custGeom>
            <a:avLst/>
            <a:gdLst>
              <a:gd name="textAreaLeft" fmla="*/ 0 w 53640"/>
              <a:gd name="textAreaRight" fmla="*/ 54000 w 5364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54000" h="96939">
                <a:moveTo>
                  <a:pt x="10337" y="49783"/>
                </a:moveTo>
                <a:lnTo>
                  <a:pt x="54000" y="49783"/>
                </a:lnTo>
                <a:cubicBezTo>
                  <a:pt x="53022" y="63843"/>
                  <a:pt x="52095" y="74155"/>
                  <a:pt x="51257" y="80683"/>
                </a:cubicBezTo>
                <a:cubicBezTo>
                  <a:pt x="50279" y="91516"/>
                  <a:pt x="44297" y="96939"/>
                  <a:pt x="33337" y="96939"/>
                </a:cubicBezTo>
                <a:cubicBezTo>
                  <a:pt x="26860" y="96939"/>
                  <a:pt x="19583" y="96761"/>
                  <a:pt x="11493" y="96405"/>
                </a:cubicBezTo>
                <a:cubicBezTo>
                  <a:pt x="10998" y="93306"/>
                  <a:pt x="10261" y="90068"/>
                  <a:pt x="9283" y="86702"/>
                </a:cubicBezTo>
                <a:cubicBezTo>
                  <a:pt x="16878" y="87465"/>
                  <a:pt x="24371" y="87858"/>
                  <a:pt x="31750" y="87858"/>
                </a:cubicBezTo>
                <a:cubicBezTo>
                  <a:pt x="38709" y="87858"/>
                  <a:pt x="42443" y="84378"/>
                  <a:pt x="42926" y="77406"/>
                </a:cubicBezTo>
                <a:cubicBezTo>
                  <a:pt x="43497" y="73126"/>
                  <a:pt x="44081" y="66548"/>
                  <a:pt x="44716" y="57696"/>
                </a:cubicBezTo>
                <a:lnTo>
                  <a:pt x="0" y="57696"/>
                </a:lnTo>
                <a:lnTo>
                  <a:pt x="6223" y="25425"/>
                </a:lnTo>
                <a:lnTo>
                  <a:pt x="44183" y="25425"/>
                </a:lnTo>
                <a:lnTo>
                  <a:pt x="44183" y="7810"/>
                </a:lnTo>
                <a:lnTo>
                  <a:pt x="0" y="7810"/>
                </a:lnTo>
                <a:lnTo>
                  <a:pt x="0" y="0"/>
                </a:lnTo>
                <a:lnTo>
                  <a:pt x="52844" y="0"/>
                </a:lnTo>
                <a:lnTo>
                  <a:pt x="52844" y="37223"/>
                </a:lnTo>
                <a:lnTo>
                  <a:pt x="44183" y="37223"/>
                </a:lnTo>
                <a:lnTo>
                  <a:pt x="44183" y="33235"/>
                </a:lnTo>
                <a:lnTo>
                  <a:pt x="13385" y="33235"/>
                </a:lnTo>
                <a:lnTo>
                  <a:pt x="10337" y="49783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3142800" y="2906640"/>
            <a:ext cx="63720" cy="7560"/>
          </a:xfrm>
          <a:custGeom>
            <a:avLst/>
            <a:gdLst>
              <a:gd name="textAreaLeft" fmla="*/ 0 w 63720"/>
              <a:gd name="textAreaRight" fmla="*/ 64080 w 6372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64236" h="7912">
                <a:moveTo>
                  <a:pt x="0" y="3955"/>
                </a:moveTo>
                <a:lnTo>
                  <a:pt x="64236" y="3955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3135960" y="2932200"/>
            <a:ext cx="76320" cy="68400"/>
          </a:xfrm>
          <a:custGeom>
            <a:avLst/>
            <a:gdLst>
              <a:gd name="textAreaLeft" fmla="*/ 0 w 76320"/>
              <a:gd name="textAreaRight" fmla="*/ 76680 w 76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6669" h="68757">
                <a:moveTo>
                  <a:pt x="0" y="0"/>
                </a:moveTo>
                <a:lnTo>
                  <a:pt x="76669" y="0"/>
                </a:lnTo>
                <a:lnTo>
                  <a:pt x="76669" y="8013"/>
                </a:lnTo>
                <a:lnTo>
                  <a:pt x="25425" y="8013"/>
                </a:lnTo>
                <a:lnTo>
                  <a:pt x="21932" y="24142"/>
                </a:lnTo>
                <a:lnTo>
                  <a:pt x="68237" y="24142"/>
                </a:lnTo>
                <a:cubicBezTo>
                  <a:pt x="67259" y="35966"/>
                  <a:pt x="66509" y="44322"/>
                  <a:pt x="66027" y="49250"/>
                </a:cubicBezTo>
                <a:cubicBezTo>
                  <a:pt x="65316" y="56832"/>
                  <a:pt x="63461" y="61976"/>
                  <a:pt x="60426" y="64642"/>
                </a:cubicBezTo>
                <a:cubicBezTo>
                  <a:pt x="57619" y="67386"/>
                  <a:pt x="52425" y="68757"/>
                  <a:pt x="44818" y="68757"/>
                </a:cubicBezTo>
                <a:cubicBezTo>
                  <a:pt x="39623" y="68757"/>
                  <a:pt x="33261" y="68618"/>
                  <a:pt x="25730" y="68338"/>
                </a:cubicBezTo>
                <a:cubicBezTo>
                  <a:pt x="25234" y="65239"/>
                  <a:pt x="24498" y="62014"/>
                  <a:pt x="23507" y="58635"/>
                </a:cubicBezTo>
                <a:cubicBezTo>
                  <a:pt x="31114" y="59410"/>
                  <a:pt x="37998" y="59804"/>
                  <a:pt x="44183" y="59804"/>
                </a:cubicBezTo>
                <a:cubicBezTo>
                  <a:pt x="48895" y="59804"/>
                  <a:pt x="52133" y="59016"/>
                  <a:pt x="53898" y="57467"/>
                </a:cubicBezTo>
                <a:cubicBezTo>
                  <a:pt x="55715" y="56070"/>
                  <a:pt x="56870" y="53111"/>
                  <a:pt x="57365" y="48615"/>
                </a:cubicBezTo>
                <a:cubicBezTo>
                  <a:pt x="57734" y="45592"/>
                  <a:pt x="58178" y="40068"/>
                  <a:pt x="58750" y="32054"/>
                </a:cubicBezTo>
                <a:lnTo>
                  <a:pt x="11176" y="32054"/>
                </a:lnTo>
                <a:lnTo>
                  <a:pt x="16497" y="8013"/>
                </a:lnTo>
                <a:lnTo>
                  <a:pt x="0" y="8013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3111840" y="2900880"/>
            <a:ext cx="23760" cy="20880"/>
          </a:xfrm>
          <a:custGeom>
            <a:avLst/>
            <a:gdLst>
              <a:gd name="textAreaLeft" fmla="*/ 0 w 23760"/>
              <a:gd name="textAreaRight" fmla="*/ 24120 w 237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24256" h="21310">
                <a:moveTo>
                  <a:pt x="5270" y="0"/>
                </a:moveTo>
                <a:cubicBezTo>
                  <a:pt x="12649" y="5067"/>
                  <a:pt x="18973" y="9779"/>
                  <a:pt x="24256" y="14135"/>
                </a:cubicBezTo>
                <a:cubicBezTo>
                  <a:pt x="22428" y="16662"/>
                  <a:pt x="20497" y="19050"/>
                  <a:pt x="18452" y="21310"/>
                </a:cubicBezTo>
                <a:cubicBezTo>
                  <a:pt x="12052" y="15760"/>
                  <a:pt x="5905" y="10718"/>
                  <a:pt x="0" y="6223"/>
                </a:cubicBezTo>
                <a:lnTo>
                  <a:pt x="527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3111120" y="2959560"/>
            <a:ext cx="21240" cy="42480"/>
          </a:xfrm>
          <a:custGeom>
            <a:avLst/>
            <a:gdLst>
              <a:gd name="textAreaLeft" fmla="*/ 0 w 21240"/>
              <a:gd name="textAreaRight" fmla="*/ 21600 w 21240"/>
              <a:gd name="textAreaTop" fmla="*/ 0 h 42480"/>
              <a:gd name="textAreaBottom" fmla="*/ 42840 h 42480"/>
            </a:gdLst>
            <a:ahLst/>
            <a:rect l="textAreaLeft" t="textAreaTop" r="textAreaRight" b="textAreaBottom"/>
            <a:pathLst>
              <a:path w="21513" h="42811">
                <a:moveTo>
                  <a:pt x="12547" y="0"/>
                </a:moveTo>
                <a:cubicBezTo>
                  <a:pt x="16141" y="1879"/>
                  <a:pt x="19126" y="3289"/>
                  <a:pt x="21513" y="4216"/>
                </a:cubicBezTo>
                <a:cubicBezTo>
                  <a:pt x="17932" y="16014"/>
                  <a:pt x="13893" y="28892"/>
                  <a:pt x="9385" y="42811"/>
                </a:cubicBezTo>
                <a:lnTo>
                  <a:pt x="0" y="38493"/>
                </a:lnTo>
                <a:cubicBezTo>
                  <a:pt x="4927" y="26809"/>
                  <a:pt x="9106" y="13982"/>
                  <a:pt x="1254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3107160" y="2928600"/>
            <a:ext cx="24840" cy="20880"/>
          </a:xfrm>
          <a:custGeom>
            <a:avLst/>
            <a:gdLst>
              <a:gd name="textAreaLeft" fmla="*/ 0 w 24840"/>
              <a:gd name="textAreaRight" fmla="*/ 25200 w 248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25209" h="21107">
                <a:moveTo>
                  <a:pt x="5067" y="0"/>
                </a:moveTo>
                <a:cubicBezTo>
                  <a:pt x="12306" y="4356"/>
                  <a:pt x="19011" y="8864"/>
                  <a:pt x="25209" y="13500"/>
                </a:cubicBezTo>
                <a:cubicBezTo>
                  <a:pt x="23304" y="16243"/>
                  <a:pt x="21374" y="18770"/>
                  <a:pt x="19405" y="21107"/>
                </a:cubicBezTo>
                <a:cubicBezTo>
                  <a:pt x="13080" y="15900"/>
                  <a:pt x="6604" y="11112"/>
                  <a:pt x="0" y="6743"/>
                </a:cubicBezTo>
                <a:lnTo>
                  <a:pt x="5067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3978000" y="2905920"/>
            <a:ext cx="101160" cy="96840"/>
          </a:xfrm>
          <a:custGeom>
            <a:avLst/>
            <a:gdLst>
              <a:gd name="textAreaLeft" fmla="*/ 0 w 101160"/>
              <a:gd name="textAreaRight" fmla="*/ 101520 w 1011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01460" h="97243">
                <a:moveTo>
                  <a:pt x="5588" y="25209"/>
                </a:moveTo>
                <a:lnTo>
                  <a:pt x="41135" y="25209"/>
                </a:lnTo>
                <a:cubicBezTo>
                  <a:pt x="42672" y="19430"/>
                  <a:pt x="44081" y="13639"/>
                  <a:pt x="45351" y="7797"/>
                </a:cubicBezTo>
                <a:lnTo>
                  <a:pt x="0" y="7797"/>
                </a:lnTo>
                <a:lnTo>
                  <a:pt x="0" y="0"/>
                </a:lnTo>
                <a:lnTo>
                  <a:pt x="101460" y="0"/>
                </a:lnTo>
                <a:lnTo>
                  <a:pt x="101460" y="7797"/>
                </a:lnTo>
                <a:lnTo>
                  <a:pt x="54737" y="7797"/>
                </a:lnTo>
                <a:cubicBezTo>
                  <a:pt x="53047" y="13817"/>
                  <a:pt x="51270" y="19621"/>
                  <a:pt x="49403" y="25209"/>
                </a:cubicBezTo>
                <a:lnTo>
                  <a:pt x="95555" y="25209"/>
                </a:lnTo>
                <a:lnTo>
                  <a:pt x="95555" y="84480"/>
                </a:lnTo>
                <a:cubicBezTo>
                  <a:pt x="95555" y="92557"/>
                  <a:pt x="91897" y="96596"/>
                  <a:pt x="84582" y="96596"/>
                </a:cubicBezTo>
                <a:cubicBezTo>
                  <a:pt x="80010" y="96596"/>
                  <a:pt x="75400" y="96494"/>
                  <a:pt x="70764" y="96291"/>
                </a:cubicBezTo>
                <a:cubicBezTo>
                  <a:pt x="69989" y="91287"/>
                  <a:pt x="69456" y="88392"/>
                  <a:pt x="69189" y="87541"/>
                </a:cubicBezTo>
                <a:cubicBezTo>
                  <a:pt x="73825" y="88023"/>
                  <a:pt x="78003" y="88277"/>
                  <a:pt x="81737" y="88277"/>
                </a:cubicBezTo>
                <a:cubicBezTo>
                  <a:pt x="85534" y="88277"/>
                  <a:pt x="87426" y="86334"/>
                  <a:pt x="87426" y="82473"/>
                </a:cubicBezTo>
                <a:lnTo>
                  <a:pt x="87426" y="33007"/>
                </a:lnTo>
                <a:lnTo>
                  <a:pt x="67919" y="33007"/>
                </a:lnTo>
                <a:lnTo>
                  <a:pt x="67919" y="91109"/>
                </a:lnTo>
                <a:lnTo>
                  <a:pt x="60007" y="91109"/>
                </a:lnTo>
                <a:lnTo>
                  <a:pt x="60007" y="33007"/>
                </a:lnTo>
                <a:lnTo>
                  <a:pt x="40805" y="33007"/>
                </a:lnTo>
                <a:lnTo>
                  <a:pt x="40805" y="91109"/>
                </a:lnTo>
                <a:lnTo>
                  <a:pt x="32893" y="91109"/>
                </a:lnTo>
                <a:lnTo>
                  <a:pt x="32893" y="33007"/>
                </a:lnTo>
                <a:lnTo>
                  <a:pt x="13716" y="33007"/>
                </a:lnTo>
                <a:lnTo>
                  <a:pt x="13716" y="97243"/>
                </a:lnTo>
                <a:lnTo>
                  <a:pt x="5588" y="97243"/>
                </a:lnTo>
                <a:lnTo>
                  <a:pt x="5588" y="2520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4452840" y="297648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3" h="28105">
                <a:moveTo>
                  <a:pt x="16293" y="0"/>
                </a:moveTo>
                <a:lnTo>
                  <a:pt x="7378" y="28105"/>
                </a:lnTo>
                <a:lnTo>
                  <a:pt x="0" y="28105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1149120" y="3053880"/>
            <a:ext cx="104760" cy="104760"/>
          </a:xfrm>
          <a:custGeom>
            <a:avLst/>
            <a:gdLst>
              <a:gd name="textAreaLeft" fmla="*/ 0 w 104760"/>
              <a:gd name="textAreaRight" fmla="*/ 105120 w 104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4940" h="105244">
                <a:moveTo>
                  <a:pt x="91655" y="58635"/>
                </a:moveTo>
                <a:lnTo>
                  <a:pt x="97459" y="65900"/>
                </a:lnTo>
                <a:lnTo>
                  <a:pt x="73888" y="77723"/>
                </a:lnTo>
                <a:cubicBezTo>
                  <a:pt x="82143" y="84467"/>
                  <a:pt x="92494" y="88937"/>
                  <a:pt x="104940" y="91122"/>
                </a:cubicBezTo>
                <a:cubicBezTo>
                  <a:pt x="102552" y="94208"/>
                  <a:pt x="100584" y="97015"/>
                  <a:pt x="99034" y="99555"/>
                </a:cubicBezTo>
                <a:cubicBezTo>
                  <a:pt x="76365" y="94132"/>
                  <a:pt x="60109" y="80187"/>
                  <a:pt x="50253" y="57746"/>
                </a:cubicBezTo>
                <a:cubicBezTo>
                  <a:pt x="46672" y="62306"/>
                  <a:pt x="42583" y="66649"/>
                  <a:pt x="37960" y="70764"/>
                </a:cubicBezTo>
                <a:lnTo>
                  <a:pt x="37960" y="93332"/>
                </a:lnTo>
                <a:cubicBezTo>
                  <a:pt x="47256" y="90309"/>
                  <a:pt x="55867" y="87134"/>
                  <a:pt x="63817" y="83832"/>
                </a:cubicBezTo>
                <a:cubicBezTo>
                  <a:pt x="63741" y="86944"/>
                  <a:pt x="63779" y="89992"/>
                  <a:pt x="63906" y="93014"/>
                </a:cubicBezTo>
                <a:cubicBezTo>
                  <a:pt x="55473" y="95897"/>
                  <a:pt x="46761" y="99072"/>
                  <a:pt x="37757" y="102501"/>
                </a:cubicBezTo>
                <a:cubicBezTo>
                  <a:pt x="35852" y="103289"/>
                  <a:pt x="33997" y="104203"/>
                  <a:pt x="32169" y="105244"/>
                </a:cubicBezTo>
                <a:lnTo>
                  <a:pt x="27216" y="97548"/>
                </a:lnTo>
                <a:cubicBezTo>
                  <a:pt x="29184" y="96138"/>
                  <a:pt x="30162" y="94183"/>
                  <a:pt x="30162" y="91655"/>
                </a:cubicBezTo>
                <a:lnTo>
                  <a:pt x="30162" y="77139"/>
                </a:lnTo>
                <a:cubicBezTo>
                  <a:pt x="22885" y="82600"/>
                  <a:pt x="14630" y="87528"/>
                  <a:pt x="5384" y="91960"/>
                </a:cubicBezTo>
                <a:cubicBezTo>
                  <a:pt x="3835" y="89496"/>
                  <a:pt x="2032" y="87071"/>
                  <a:pt x="0" y="84683"/>
                </a:cubicBezTo>
                <a:cubicBezTo>
                  <a:pt x="18186" y="77228"/>
                  <a:pt x="32448" y="67246"/>
                  <a:pt x="42824" y="54724"/>
                </a:cubicBezTo>
                <a:lnTo>
                  <a:pt x="1168" y="54724"/>
                </a:lnTo>
                <a:lnTo>
                  <a:pt x="1168" y="47447"/>
                </a:lnTo>
                <a:lnTo>
                  <a:pt x="48412" y="47447"/>
                </a:lnTo>
                <a:lnTo>
                  <a:pt x="48412" y="36690"/>
                </a:lnTo>
                <a:lnTo>
                  <a:pt x="8648" y="36690"/>
                </a:lnTo>
                <a:lnTo>
                  <a:pt x="8648" y="29413"/>
                </a:lnTo>
                <a:lnTo>
                  <a:pt x="48412" y="29413"/>
                </a:lnTo>
                <a:lnTo>
                  <a:pt x="48412" y="19075"/>
                </a:lnTo>
                <a:lnTo>
                  <a:pt x="4432" y="19075"/>
                </a:lnTo>
                <a:lnTo>
                  <a:pt x="4432" y="11798"/>
                </a:lnTo>
                <a:lnTo>
                  <a:pt x="48412" y="11798"/>
                </a:lnTo>
                <a:lnTo>
                  <a:pt x="48412" y="0"/>
                </a:lnTo>
                <a:lnTo>
                  <a:pt x="56743" y="0"/>
                </a:lnTo>
                <a:lnTo>
                  <a:pt x="56743" y="11798"/>
                </a:lnTo>
                <a:lnTo>
                  <a:pt x="100926" y="11798"/>
                </a:lnTo>
                <a:lnTo>
                  <a:pt x="100926" y="19075"/>
                </a:lnTo>
                <a:lnTo>
                  <a:pt x="56743" y="19075"/>
                </a:lnTo>
                <a:lnTo>
                  <a:pt x="56743" y="29413"/>
                </a:lnTo>
                <a:lnTo>
                  <a:pt x="96405" y="29413"/>
                </a:lnTo>
                <a:lnTo>
                  <a:pt x="96405" y="36690"/>
                </a:lnTo>
                <a:lnTo>
                  <a:pt x="56743" y="36690"/>
                </a:lnTo>
                <a:lnTo>
                  <a:pt x="56743" y="47447"/>
                </a:lnTo>
                <a:lnTo>
                  <a:pt x="103886" y="47447"/>
                </a:lnTo>
                <a:lnTo>
                  <a:pt x="103886" y="54724"/>
                </a:lnTo>
                <a:lnTo>
                  <a:pt x="56997" y="54724"/>
                </a:lnTo>
                <a:cubicBezTo>
                  <a:pt x="59969" y="61582"/>
                  <a:pt x="63766" y="67525"/>
                  <a:pt x="68402" y="72555"/>
                </a:cubicBezTo>
                <a:cubicBezTo>
                  <a:pt x="75476" y="69024"/>
                  <a:pt x="83223" y="64388"/>
                  <a:pt x="91655" y="5863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404640" y="3975120"/>
            <a:ext cx="46800" cy="83160"/>
          </a:xfrm>
          <a:custGeom>
            <a:avLst/>
            <a:gdLst>
              <a:gd name="textAreaLeft" fmla="*/ 0 w 46800"/>
              <a:gd name="textAreaRight" fmla="*/ 47160 w 46800"/>
              <a:gd name="textAreaTop" fmla="*/ 0 h 83160"/>
              <a:gd name="textAreaBottom" fmla="*/ 83520 h 83160"/>
            </a:gdLst>
            <a:ahLst/>
            <a:rect l="textAreaLeft" t="textAreaTop" r="textAreaRight" b="textAreaBottom"/>
            <a:pathLst>
              <a:path w="47307" h="83426">
                <a:moveTo>
                  <a:pt x="47307" y="83426"/>
                </a:moveTo>
                <a:lnTo>
                  <a:pt x="482" y="83426"/>
                </a:lnTo>
                <a:lnTo>
                  <a:pt x="482" y="74510"/>
                </a:lnTo>
                <a:lnTo>
                  <a:pt x="18783" y="74510"/>
                </a:lnTo>
                <a:lnTo>
                  <a:pt x="18783" y="12496"/>
                </a:lnTo>
                <a:lnTo>
                  <a:pt x="0" y="17932"/>
                </a:lnTo>
                <a:lnTo>
                  <a:pt x="0" y="8432"/>
                </a:lnTo>
                <a:lnTo>
                  <a:pt x="29057" y="0"/>
                </a:lnTo>
                <a:lnTo>
                  <a:pt x="29057" y="74510"/>
                </a:lnTo>
                <a:lnTo>
                  <a:pt x="47307" y="74510"/>
                </a:lnTo>
                <a:lnTo>
                  <a:pt x="47307" y="8342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505800" y="404676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98">
                <a:moveTo>
                  <a:pt x="6807" y="0"/>
                </a:moveTo>
                <a:cubicBezTo>
                  <a:pt x="8661" y="0"/>
                  <a:pt x="10261" y="647"/>
                  <a:pt x="11595" y="1930"/>
                </a:cubicBezTo>
                <a:cubicBezTo>
                  <a:pt x="12928" y="3250"/>
                  <a:pt x="13601" y="4825"/>
                  <a:pt x="13601" y="6692"/>
                </a:cubicBezTo>
                <a:cubicBezTo>
                  <a:pt x="13601" y="8585"/>
                  <a:pt x="12928" y="10172"/>
                  <a:pt x="11595" y="11455"/>
                </a:cubicBezTo>
                <a:cubicBezTo>
                  <a:pt x="10261" y="12750"/>
                  <a:pt x="8661" y="13398"/>
                  <a:pt x="6807" y="13398"/>
                </a:cubicBezTo>
                <a:cubicBezTo>
                  <a:pt x="4940" y="13398"/>
                  <a:pt x="3340" y="12750"/>
                  <a:pt x="2006" y="11455"/>
                </a:cubicBezTo>
                <a:cubicBezTo>
                  <a:pt x="673" y="10172"/>
                  <a:pt x="0" y="8585"/>
                  <a:pt x="0" y="6692"/>
                </a:cubicBezTo>
                <a:cubicBezTo>
                  <a:pt x="0" y="4825"/>
                  <a:pt x="673" y="3250"/>
                  <a:pt x="2006" y="1930"/>
                </a:cubicBezTo>
                <a:cubicBezTo>
                  <a:pt x="3340" y="647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785160" y="3970800"/>
            <a:ext cx="102240" cy="95040"/>
          </a:xfrm>
          <a:custGeom>
            <a:avLst/>
            <a:gdLst>
              <a:gd name="textAreaLeft" fmla="*/ 0 w 102240"/>
              <a:gd name="textAreaRight" fmla="*/ 102600 w 1022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02615" h="95555">
                <a:moveTo>
                  <a:pt x="0" y="87109"/>
                </a:moveTo>
                <a:lnTo>
                  <a:pt x="41351" y="87109"/>
                </a:lnTo>
                <a:lnTo>
                  <a:pt x="41351" y="0"/>
                </a:lnTo>
                <a:lnTo>
                  <a:pt x="50939" y="0"/>
                </a:lnTo>
                <a:lnTo>
                  <a:pt x="50939" y="31737"/>
                </a:lnTo>
                <a:lnTo>
                  <a:pt x="94297" y="31737"/>
                </a:lnTo>
                <a:lnTo>
                  <a:pt x="94297" y="40182"/>
                </a:lnTo>
                <a:lnTo>
                  <a:pt x="50939" y="40182"/>
                </a:lnTo>
                <a:lnTo>
                  <a:pt x="50939" y="87109"/>
                </a:lnTo>
                <a:lnTo>
                  <a:pt x="102615" y="87109"/>
                </a:lnTo>
                <a:lnTo>
                  <a:pt x="102615" y="95554"/>
                </a:lnTo>
                <a:lnTo>
                  <a:pt x="0" y="95554"/>
                </a:lnTo>
                <a:lnTo>
                  <a:pt x="0" y="8710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1257840" y="404568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7">
                <a:moveTo>
                  <a:pt x="16294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1431360" y="3969000"/>
            <a:ext cx="105840" cy="103680"/>
          </a:xfrm>
          <a:custGeom>
            <a:avLst/>
            <a:gdLst>
              <a:gd name="textAreaLeft" fmla="*/ 0 w 105840"/>
              <a:gd name="textAreaRight" fmla="*/ 106200 w 105840"/>
              <a:gd name="textAreaTop" fmla="*/ 0 h 103680"/>
              <a:gd name="textAreaBottom" fmla="*/ 104040 h 103680"/>
            </a:gdLst>
            <a:ahLst/>
            <a:rect l="textAreaLeft" t="textAreaTop" r="textAreaRight" b="textAreaBottom"/>
            <a:pathLst>
              <a:path w="106197" h="103898">
                <a:moveTo>
                  <a:pt x="2946" y="48196"/>
                </a:moveTo>
                <a:lnTo>
                  <a:pt x="49034" y="48196"/>
                </a:lnTo>
                <a:lnTo>
                  <a:pt x="49034" y="25730"/>
                </a:lnTo>
                <a:lnTo>
                  <a:pt x="23787" y="25730"/>
                </a:lnTo>
                <a:cubicBezTo>
                  <a:pt x="20332" y="32689"/>
                  <a:pt x="16624" y="38734"/>
                  <a:pt x="12649" y="43865"/>
                </a:cubicBezTo>
                <a:cubicBezTo>
                  <a:pt x="10058" y="41833"/>
                  <a:pt x="7759" y="40220"/>
                  <a:pt x="5803" y="39027"/>
                </a:cubicBezTo>
                <a:cubicBezTo>
                  <a:pt x="13677" y="28841"/>
                  <a:pt x="19786" y="16636"/>
                  <a:pt x="24142" y="2425"/>
                </a:cubicBezTo>
                <a:lnTo>
                  <a:pt x="32372" y="4749"/>
                </a:lnTo>
                <a:cubicBezTo>
                  <a:pt x="30784" y="9410"/>
                  <a:pt x="29133" y="13817"/>
                  <a:pt x="27368" y="17919"/>
                </a:cubicBezTo>
                <a:lnTo>
                  <a:pt x="49034" y="17919"/>
                </a:lnTo>
                <a:lnTo>
                  <a:pt x="49034" y="0"/>
                </a:lnTo>
                <a:lnTo>
                  <a:pt x="57696" y="0"/>
                </a:lnTo>
                <a:lnTo>
                  <a:pt x="57696" y="17919"/>
                </a:lnTo>
                <a:lnTo>
                  <a:pt x="96824" y="17919"/>
                </a:lnTo>
                <a:lnTo>
                  <a:pt x="96824" y="25730"/>
                </a:lnTo>
                <a:lnTo>
                  <a:pt x="57696" y="25730"/>
                </a:lnTo>
                <a:lnTo>
                  <a:pt x="57696" y="48196"/>
                </a:lnTo>
                <a:lnTo>
                  <a:pt x="104089" y="48196"/>
                </a:lnTo>
                <a:lnTo>
                  <a:pt x="104089" y="55994"/>
                </a:lnTo>
                <a:lnTo>
                  <a:pt x="70129" y="55994"/>
                </a:lnTo>
                <a:lnTo>
                  <a:pt x="70129" y="85852"/>
                </a:lnTo>
                <a:cubicBezTo>
                  <a:pt x="69710" y="91275"/>
                  <a:pt x="72136" y="93726"/>
                  <a:pt x="77406" y="93230"/>
                </a:cubicBezTo>
                <a:lnTo>
                  <a:pt x="88163" y="93230"/>
                </a:lnTo>
                <a:cubicBezTo>
                  <a:pt x="93014" y="93230"/>
                  <a:pt x="95694" y="91401"/>
                  <a:pt x="96189" y="87744"/>
                </a:cubicBezTo>
                <a:cubicBezTo>
                  <a:pt x="96672" y="84163"/>
                  <a:pt x="97053" y="79031"/>
                  <a:pt x="97345" y="72338"/>
                </a:cubicBezTo>
                <a:cubicBezTo>
                  <a:pt x="100025" y="73482"/>
                  <a:pt x="102971" y="74523"/>
                  <a:pt x="106197" y="75513"/>
                </a:cubicBezTo>
                <a:cubicBezTo>
                  <a:pt x="105854" y="80733"/>
                  <a:pt x="105219" y="86093"/>
                  <a:pt x="104292" y="91656"/>
                </a:cubicBezTo>
                <a:cubicBezTo>
                  <a:pt x="103606" y="95161"/>
                  <a:pt x="102057" y="97625"/>
                  <a:pt x="99656" y="99034"/>
                </a:cubicBezTo>
                <a:cubicBezTo>
                  <a:pt x="97548" y="100367"/>
                  <a:pt x="93751" y="101041"/>
                  <a:pt x="88277" y="101041"/>
                </a:cubicBezTo>
                <a:lnTo>
                  <a:pt x="75717" y="101041"/>
                </a:lnTo>
                <a:cubicBezTo>
                  <a:pt x="65874" y="101460"/>
                  <a:pt x="61163" y="96850"/>
                  <a:pt x="61582" y="87223"/>
                </a:cubicBezTo>
                <a:lnTo>
                  <a:pt x="61582" y="55994"/>
                </a:lnTo>
                <a:lnTo>
                  <a:pt x="40970" y="55994"/>
                </a:lnTo>
                <a:cubicBezTo>
                  <a:pt x="40398" y="68173"/>
                  <a:pt x="37960" y="77533"/>
                  <a:pt x="33642" y="84048"/>
                </a:cubicBezTo>
                <a:cubicBezTo>
                  <a:pt x="28435" y="92214"/>
                  <a:pt x="19024" y="98818"/>
                  <a:pt x="5372" y="103898"/>
                </a:cubicBezTo>
                <a:cubicBezTo>
                  <a:pt x="3962" y="101637"/>
                  <a:pt x="2171" y="99110"/>
                  <a:pt x="0" y="96291"/>
                </a:cubicBezTo>
                <a:cubicBezTo>
                  <a:pt x="12509" y="91998"/>
                  <a:pt x="21132" y="86486"/>
                  <a:pt x="25831" y="79730"/>
                </a:cubicBezTo>
                <a:cubicBezTo>
                  <a:pt x="29692" y="74523"/>
                  <a:pt x="31927" y="66611"/>
                  <a:pt x="32524" y="55994"/>
                </a:cubicBezTo>
                <a:lnTo>
                  <a:pt x="2946" y="55994"/>
                </a:lnTo>
                <a:lnTo>
                  <a:pt x="2946" y="4819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653840" y="3968280"/>
            <a:ext cx="92880" cy="32760"/>
          </a:xfrm>
          <a:custGeom>
            <a:avLst/>
            <a:gdLst>
              <a:gd name="textAreaLeft" fmla="*/ 0 w 92880"/>
              <a:gd name="textAreaRight" fmla="*/ 93240 w 92880"/>
              <a:gd name="textAreaTop" fmla="*/ 0 h 32760"/>
              <a:gd name="textAreaBottom" fmla="*/ 33120 h 32760"/>
            </a:gdLst>
            <a:ahLst/>
            <a:rect l="textAreaLeft" t="textAreaTop" r="textAreaRight" b="textAreaBottom"/>
            <a:pathLst>
              <a:path w="93345" h="33210">
                <a:moveTo>
                  <a:pt x="0" y="13182"/>
                </a:moveTo>
                <a:lnTo>
                  <a:pt x="44983" y="13182"/>
                </a:lnTo>
                <a:cubicBezTo>
                  <a:pt x="42913" y="10159"/>
                  <a:pt x="40716" y="7200"/>
                  <a:pt x="38392" y="4317"/>
                </a:cubicBezTo>
                <a:lnTo>
                  <a:pt x="46405" y="0"/>
                </a:lnTo>
                <a:cubicBezTo>
                  <a:pt x="49148" y="3162"/>
                  <a:pt x="52133" y="6718"/>
                  <a:pt x="55372" y="10655"/>
                </a:cubicBezTo>
                <a:lnTo>
                  <a:pt x="50622" y="13182"/>
                </a:lnTo>
                <a:lnTo>
                  <a:pt x="93345" y="13182"/>
                </a:lnTo>
                <a:lnTo>
                  <a:pt x="93345" y="33210"/>
                </a:lnTo>
                <a:lnTo>
                  <a:pt x="85001" y="33210"/>
                </a:lnTo>
                <a:lnTo>
                  <a:pt x="85001" y="21082"/>
                </a:lnTo>
                <a:lnTo>
                  <a:pt x="8331" y="21082"/>
                </a:lnTo>
                <a:lnTo>
                  <a:pt x="8331" y="33108"/>
                </a:lnTo>
                <a:lnTo>
                  <a:pt x="0" y="33108"/>
                </a:lnTo>
                <a:lnTo>
                  <a:pt x="0" y="1318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647720" y="4006080"/>
            <a:ext cx="104760" cy="66960"/>
          </a:xfrm>
          <a:custGeom>
            <a:avLst/>
            <a:gdLst>
              <a:gd name="textAreaLeft" fmla="*/ 0 w 104760"/>
              <a:gd name="textAreaRight" fmla="*/ 105120 w 1047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5029" h="67297">
                <a:moveTo>
                  <a:pt x="0" y="59054"/>
                </a:moveTo>
                <a:cubicBezTo>
                  <a:pt x="11671" y="49009"/>
                  <a:pt x="18414" y="34238"/>
                  <a:pt x="20231" y="14757"/>
                </a:cubicBezTo>
                <a:lnTo>
                  <a:pt x="29108" y="16128"/>
                </a:lnTo>
                <a:cubicBezTo>
                  <a:pt x="28257" y="22643"/>
                  <a:pt x="26974" y="28701"/>
                  <a:pt x="25247" y="34328"/>
                </a:cubicBezTo>
                <a:cubicBezTo>
                  <a:pt x="30708" y="45935"/>
                  <a:pt x="39154" y="52577"/>
                  <a:pt x="50609" y="54318"/>
                </a:cubicBezTo>
                <a:lnTo>
                  <a:pt x="50609" y="7911"/>
                </a:lnTo>
                <a:lnTo>
                  <a:pt x="2413" y="7911"/>
                </a:lnTo>
                <a:lnTo>
                  <a:pt x="2413" y="0"/>
                </a:lnTo>
                <a:lnTo>
                  <a:pt x="102616" y="0"/>
                </a:lnTo>
                <a:lnTo>
                  <a:pt x="102616" y="7911"/>
                </a:lnTo>
                <a:lnTo>
                  <a:pt x="59372" y="7911"/>
                </a:lnTo>
                <a:lnTo>
                  <a:pt x="59372" y="24993"/>
                </a:lnTo>
                <a:lnTo>
                  <a:pt x="96075" y="24993"/>
                </a:lnTo>
                <a:lnTo>
                  <a:pt x="96075" y="32791"/>
                </a:lnTo>
                <a:lnTo>
                  <a:pt x="59372" y="32791"/>
                </a:lnTo>
                <a:lnTo>
                  <a:pt x="59372" y="54889"/>
                </a:lnTo>
                <a:cubicBezTo>
                  <a:pt x="73355" y="55232"/>
                  <a:pt x="88582" y="55117"/>
                  <a:pt x="105029" y="54521"/>
                </a:cubicBezTo>
                <a:cubicBezTo>
                  <a:pt x="103835" y="57276"/>
                  <a:pt x="102819" y="60172"/>
                  <a:pt x="101980" y="63271"/>
                </a:cubicBezTo>
                <a:cubicBezTo>
                  <a:pt x="84759" y="63487"/>
                  <a:pt x="69710" y="63372"/>
                  <a:pt x="56832" y="62953"/>
                </a:cubicBezTo>
                <a:cubicBezTo>
                  <a:pt x="40982" y="62953"/>
                  <a:pt x="29324" y="56527"/>
                  <a:pt x="21869" y="43649"/>
                </a:cubicBezTo>
                <a:cubicBezTo>
                  <a:pt x="17868" y="52984"/>
                  <a:pt x="12433" y="60845"/>
                  <a:pt x="5575" y="67297"/>
                </a:cubicBezTo>
                <a:cubicBezTo>
                  <a:pt x="3962" y="64541"/>
                  <a:pt x="2108" y="61798"/>
                  <a:pt x="0" y="59054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2193840" y="3968280"/>
            <a:ext cx="92880" cy="32760"/>
          </a:xfrm>
          <a:custGeom>
            <a:avLst/>
            <a:gdLst>
              <a:gd name="textAreaLeft" fmla="*/ 0 w 92880"/>
              <a:gd name="textAreaRight" fmla="*/ 93240 w 92880"/>
              <a:gd name="textAreaTop" fmla="*/ 0 h 32760"/>
              <a:gd name="textAreaBottom" fmla="*/ 33120 h 32760"/>
            </a:gdLst>
            <a:ahLst/>
            <a:rect l="textAreaLeft" t="textAreaTop" r="textAreaRight" b="textAreaBottom"/>
            <a:pathLst>
              <a:path w="93344" h="33210">
                <a:moveTo>
                  <a:pt x="0" y="13182"/>
                </a:moveTo>
                <a:lnTo>
                  <a:pt x="44983" y="13182"/>
                </a:lnTo>
                <a:cubicBezTo>
                  <a:pt x="42913" y="10159"/>
                  <a:pt x="40716" y="7200"/>
                  <a:pt x="38392" y="4317"/>
                </a:cubicBezTo>
                <a:lnTo>
                  <a:pt x="46405" y="0"/>
                </a:lnTo>
                <a:cubicBezTo>
                  <a:pt x="49148" y="3162"/>
                  <a:pt x="52133" y="6718"/>
                  <a:pt x="55372" y="10655"/>
                </a:cubicBezTo>
                <a:lnTo>
                  <a:pt x="50622" y="13182"/>
                </a:lnTo>
                <a:lnTo>
                  <a:pt x="93344" y="13182"/>
                </a:lnTo>
                <a:lnTo>
                  <a:pt x="93344" y="33210"/>
                </a:lnTo>
                <a:lnTo>
                  <a:pt x="85001" y="33210"/>
                </a:lnTo>
                <a:lnTo>
                  <a:pt x="85001" y="21082"/>
                </a:lnTo>
                <a:lnTo>
                  <a:pt x="8331" y="21082"/>
                </a:lnTo>
                <a:lnTo>
                  <a:pt x="8331" y="33108"/>
                </a:lnTo>
                <a:lnTo>
                  <a:pt x="0" y="33108"/>
                </a:lnTo>
                <a:lnTo>
                  <a:pt x="0" y="1318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2187720" y="4006080"/>
            <a:ext cx="104760" cy="66960"/>
          </a:xfrm>
          <a:custGeom>
            <a:avLst/>
            <a:gdLst>
              <a:gd name="textAreaLeft" fmla="*/ 0 w 104760"/>
              <a:gd name="textAreaRight" fmla="*/ 105120 w 1047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5029" h="67297">
                <a:moveTo>
                  <a:pt x="0" y="59054"/>
                </a:moveTo>
                <a:cubicBezTo>
                  <a:pt x="11671" y="49009"/>
                  <a:pt x="18414" y="34238"/>
                  <a:pt x="20230" y="14757"/>
                </a:cubicBezTo>
                <a:lnTo>
                  <a:pt x="29108" y="16128"/>
                </a:lnTo>
                <a:cubicBezTo>
                  <a:pt x="28257" y="22643"/>
                  <a:pt x="26974" y="28701"/>
                  <a:pt x="25247" y="34328"/>
                </a:cubicBezTo>
                <a:cubicBezTo>
                  <a:pt x="30708" y="45935"/>
                  <a:pt x="39154" y="52577"/>
                  <a:pt x="50609" y="54318"/>
                </a:cubicBezTo>
                <a:lnTo>
                  <a:pt x="50609" y="7911"/>
                </a:lnTo>
                <a:lnTo>
                  <a:pt x="2412" y="7911"/>
                </a:lnTo>
                <a:lnTo>
                  <a:pt x="2412" y="0"/>
                </a:lnTo>
                <a:lnTo>
                  <a:pt x="102615" y="0"/>
                </a:lnTo>
                <a:lnTo>
                  <a:pt x="102615" y="7911"/>
                </a:lnTo>
                <a:lnTo>
                  <a:pt x="59372" y="7911"/>
                </a:lnTo>
                <a:lnTo>
                  <a:pt x="59372" y="24993"/>
                </a:lnTo>
                <a:lnTo>
                  <a:pt x="96075" y="24993"/>
                </a:lnTo>
                <a:lnTo>
                  <a:pt x="96075" y="32791"/>
                </a:lnTo>
                <a:lnTo>
                  <a:pt x="59372" y="32791"/>
                </a:lnTo>
                <a:lnTo>
                  <a:pt x="59372" y="54889"/>
                </a:lnTo>
                <a:cubicBezTo>
                  <a:pt x="73355" y="55232"/>
                  <a:pt x="88582" y="55117"/>
                  <a:pt x="105028" y="54521"/>
                </a:cubicBezTo>
                <a:cubicBezTo>
                  <a:pt x="103835" y="57276"/>
                  <a:pt x="102819" y="60172"/>
                  <a:pt x="101980" y="63271"/>
                </a:cubicBezTo>
                <a:cubicBezTo>
                  <a:pt x="84759" y="63487"/>
                  <a:pt x="69710" y="63372"/>
                  <a:pt x="56832" y="62953"/>
                </a:cubicBezTo>
                <a:cubicBezTo>
                  <a:pt x="40982" y="62953"/>
                  <a:pt x="29324" y="56527"/>
                  <a:pt x="21869" y="43649"/>
                </a:cubicBezTo>
                <a:cubicBezTo>
                  <a:pt x="17868" y="52984"/>
                  <a:pt x="12433" y="60845"/>
                  <a:pt x="5575" y="67297"/>
                </a:cubicBezTo>
                <a:cubicBezTo>
                  <a:pt x="3962" y="64541"/>
                  <a:pt x="2108" y="61798"/>
                  <a:pt x="0" y="59054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2521080" y="3970080"/>
            <a:ext cx="86040" cy="101520"/>
          </a:xfrm>
          <a:custGeom>
            <a:avLst/>
            <a:gdLst>
              <a:gd name="textAreaLeft" fmla="*/ 0 w 86040"/>
              <a:gd name="textAreaRight" fmla="*/ 86400 w 86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283" h="101993">
                <a:moveTo>
                  <a:pt x="0" y="18148"/>
                </a:moveTo>
                <a:lnTo>
                  <a:pt x="38912" y="18148"/>
                </a:lnTo>
                <a:lnTo>
                  <a:pt x="38912" y="0"/>
                </a:lnTo>
                <a:lnTo>
                  <a:pt x="47574" y="0"/>
                </a:lnTo>
                <a:lnTo>
                  <a:pt x="47574" y="18148"/>
                </a:lnTo>
                <a:lnTo>
                  <a:pt x="86283" y="18148"/>
                </a:lnTo>
                <a:lnTo>
                  <a:pt x="86283" y="87744"/>
                </a:lnTo>
                <a:cubicBezTo>
                  <a:pt x="86283" y="96685"/>
                  <a:pt x="81876" y="101117"/>
                  <a:pt x="73101" y="101041"/>
                </a:cubicBezTo>
                <a:cubicBezTo>
                  <a:pt x="68452" y="101041"/>
                  <a:pt x="62750" y="100965"/>
                  <a:pt x="56007" y="100825"/>
                </a:cubicBezTo>
                <a:cubicBezTo>
                  <a:pt x="55803" y="98437"/>
                  <a:pt x="55270" y="95389"/>
                  <a:pt x="54419" y="91656"/>
                </a:cubicBezTo>
                <a:cubicBezTo>
                  <a:pt x="61112" y="92214"/>
                  <a:pt x="66662" y="92532"/>
                  <a:pt x="71094" y="92608"/>
                </a:cubicBezTo>
                <a:cubicBezTo>
                  <a:pt x="75514" y="92735"/>
                  <a:pt x="77736" y="90525"/>
                  <a:pt x="77736" y="85966"/>
                </a:cubicBezTo>
                <a:lnTo>
                  <a:pt x="77736" y="26161"/>
                </a:lnTo>
                <a:lnTo>
                  <a:pt x="47358" y="26161"/>
                </a:lnTo>
                <a:cubicBezTo>
                  <a:pt x="47078" y="32562"/>
                  <a:pt x="46304" y="38252"/>
                  <a:pt x="45046" y="43256"/>
                </a:cubicBezTo>
                <a:cubicBezTo>
                  <a:pt x="57480" y="53225"/>
                  <a:pt x="67538" y="62026"/>
                  <a:pt x="75209" y="69621"/>
                </a:cubicBezTo>
                <a:lnTo>
                  <a:pt x="68770" y="76466"/>
                </a:lnTo>
                <a:cubicBezTo>
                  <a:pt x="61239" y="68237"/>
                  <a:pt x="52489" y="59690"/>
                  <a:pt x="42506" y="50838"/>
                </a:cubicBezTo>
                <a:cubicBezTo>
                  <a:pt x="37731" y="61176"/>
                  <a:pt x="28625" y="70180"/>
                  <a:pt x="15189" y="77838"/>
                </a:cubicBezTo>
                <a:cubicBezTo>
                  <a:pt x="12242" y="73761"/>
                  <a:pt x="10274" y="71234"/>
                  <a:pt x="9283" y="70243"/>
                </a:cubicBezTo>
                <a:cubicBezTo>
                  <a:pt x="20751" y="64198"/>
                  <a:pt x="28587" y="57493"/>
                  <a:pt x="32804" y="50101"/>
                </a:cubicBezTo>
                <a:cubicBezTo>
                  <a:pt x="36182" y="44691"/>
                  <a:pt x="38150" y="36703"/>
                  <a:pt x="38709" y="26161"/>
                </a:cubicBezTo>
                <a:lnTo>
                  <a:pt x="8547" y="26161"/>
                </a:lnTo>
                <a:lnTo>
                  <a:pt x="8547" y="101993"/>
                </a:lnTo>
                <a:lnTo>
                  <a:pt x="0" y="101993"/>
                </a:lnTo>
                <a:lnTo>
                  <a:pt x="0" y="1814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3160080" y="3968640"/>
            <a:ext cx="104040" cy="104040"/>
          </a:xfrm>
          <a:custGeom>
            <a:avLst/>
            <a:gdLst>
              <a:gd name="textAreaLeft" fmla="*/ 0 w 104040"/>
              <a:gd name="textAreaRight" fmla="*/ 104400 w 104040"/>
              <a:gd name="textAreaTop" fmla="*/ 0 h 104040"/>
              <a:gd name="textAreaBottom" fmla="*/ 104400 h 104040"/>
            </a:gdLst>
            <a:ahLst/>
            <a:rect l="textAreaLeft" t="textAreaTop" r="textAreaRight" b="textAreaBottom"/>
            <a:pathLst>
              <a:path w="104305" h="104317">
                <a:moveTo>
                  <a:pt x="104305" y="76568"/>
                </a:moveTo>
                <a:cubicBezTo>
                  <a:pt x="102476" y="78409"/>
                  <a:pt x="100088" y="80860"/>
                  <a:pt x="97142" y="83959"/>
                </a:cubicBezTo>
                <a:cubicBezTo>
                  <a:pt x="80124" y="70840"/>
                  <a:pt x="66548" y="54050"/>
                  <a:pt x="56426" y="33527"/>
                </a:cubicBezTo>
                <a:lnTo>
                  <a:pt x="56426" y="75298"/>
                </a:lnTo>
                <a:lnTo>
                  <a:pt x="80581" y="75298"/>
                </a:lnTo>
                <a:lnTo>
                  <a:pt x="80581" y="82689"/>
                </a:lnTo>
                <a:lnTo>
                  <a:pt x="56426" y="82689"/>
                </a:lnTo>
                <a:lnTo>
                  <a:pt x="56426" y="104317"/>
                </a:lnTo>
                <a:lnTo>
                  <a:pt x="48196" y="104317"/>
                </a:lnTo>
                <a:lnTo>
                  <a:pt x="48196" y="82689"/>
                </a:lnTo>
                <a:lnTo>
                  <a:pt x="23203" y="82689"/>
                </a:lnTo>
                <a:lnTo>
                  <a:pt x="23203" y="75298"/>
                </a:lnTo>
                <a:lnTo>
                  <a:pt x="48196" y="75298"/>
                </a:lnTo>
                <a:lnTo>
                  <a:pt x="48196" y="33527"/>
                </a:lnTo>
                <a:cubicBezTo>
                  <a:pt x="39243" y="51396"/>
                  <a:pt x="25488" y="68630"/>
                  <a:pt x="6959" y="85229"/>
                </a:cubicBezTo>
                <a:cubicBezTo>
                  <a:pt x="4216" y="82625"/>
                  <a:pt x="1905" y="80517"/>
                  <a:pt x="0" y="78904"/>
                </a:cubicBezTo>
                <a:cubicBezTo>
                  <a:pt x="20002" y="62483"/>
                  <a:pt x="34963" y="45110"/>
                  <a:pt x="44869" y="26784"/>
                </a:cubicBezTo>
                <a:lnTo>
                  <a:pt x="2324" y="26784"/>
                </a:lnTo>
                <a:lnTo>
                  <a:pt x="2324" y="18986"/>
                </a:lnTo>
                <a:lnTo>
                  <a:pt x="48196" y="18986"/>
                </a:lnTo>
                <a:lnTo>
                  <a:pt x="48196" y="0"/>
                </a:lnTo>
                <a:lnTo>
                  <a:pt x="56426" y="0"/>
                </a:lnTo>
                <a:lnTo>
                  <a:pt x="56426" y="18986"/>
                </a:lnTo>
                <a:lnTo>
                  <a:pt x="102311" y="18986"/>
                </a:lnTo>
                <a:lnTo>
                  <a:pt x="102311" y="26784"/>
                </a:lnTo>
                <a:lnTo>
                  <a:pt x="59436" y="26784"/>
                </a:lnTo>
                <a:cubicBezTo>
                  <a:pt x="70611" y="47815"/>
                  <a:pt x="85572" y="64414"/>
                  <a:pt x="104305" y="76568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3530880" y="3976920"/>
            <a:ext cx="10440" cy="57960"/>
          </a:xfrm>
          <a:custGeom>
            <a:avLst/>
            <a:gdLst>
              <a:gd name="textAreaLeft" fmla="*/ 0 w 10440"/>
              <a:gd name="textAreaRight" fmla="*/ 10800 w 10440"/>
              <a:gd name="textAreaTop" fmla="*/ 0 h 57960"/>
              <a:gd name="textAreaBottom" fmla="*/ 58320 h 57960"/>
            </a:gdLst>
            <a:ahLst/>
            <a:rect l="textAreaLeft" t="textAreaTop" r="textAreaRight" b="textAreaBottom"/>
            <a:pathLst>
              <a:path w="10655" h="58432">
                <a:moveTo>
                  <a:pt x="5327" y="0"/>
                </a:moveTo>
                <a:lnTo>
                  <a:pt x="5327" y="58432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3320" bIns="13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3529440" y="404676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86">
                <a:moveTo>
                  <a:pt x="6807" y="0"/>
                </a:moveTo>
                <a:cubicBezTo>
                  <a:pt x="8661" y="0"/>
                  <a:pt x="10261" y="634"/>
                  <a:pt x="11607" y="1930"/>
                </a:cubicBezTo>
                <a:cubicBezTo>
                  <a:pt x="12941" y="3238"/>
                  <a:pt x="13601" y="4813"/>
                  <a:pt x="13601" y="6693"/>
                </a:cubicBezTo>
                <a:cubicBezTo>
                  <a:pt x="13601" y="8572"/>
                  <a:pt x="12941" y="10159"/>
                  <a:pt x="11607" y="11455"/>
                </a:cubicBezTo>
                <a:cubicBezTo>
                  <a:pt x="10261" y="12737"/>
                  <a:pt x="8661" y="13385"/>
                  <a:pt x="6807" y="13385"/>
                </a:cubicBezTo>
                <a:cubicBezTo>
                  <a:pt x="4940" y="13385"/>
                  <a:pt x="3340" y="12737"/>
                  <a:pt x="2006" y="11455"/>
                </a:cubicBezTo>
                <a:cubicBezTo>
                  <a:pt x="660" y="10159"/>
                  <a:pt x="0" y="8572"/>
                  <a:pt x="0" y="6693"/>
                </a:cubicBezTo>
                <a:cubicBezTo>
                  <a:pt x="0" y="4813"/>
                  <a:pt x="660" y="3238"/>
                  <a:pt x="2006" y="1930"/>
                </a:cubicBezTo>
                <a:cubicBezTo>
                  <a:pt x="3340" y="634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3916080" y="3968640"/>
            <a:ext cx="104040" cy="104040"/>
          </a:xfrm>
          <a:custGeom>
            <a:avLst/>
            <a:gdLst>
              <a:gd name="textAreaLeft" fmla="*/ 0 w 104040"/>
              <a:gd name="textAreaRight" fmla="*/ 104400 w 104040"/>
              <a:gd name="textAreaTop" fmla="*/ 0 h 104040"/>
              <a:gd name="textAreaBottom" fmla="*/ 104400 h 104040"/>
            </a:gdLst>
            <a:ahLst/>
            <a:rect l="textAreaLeft" t="textAreaTop" r="textAreaRight" b="textAreaBottom"/>
            <a:pathLst>
              <a:path w="104305" h="104317">
                <a:moveTo>
                  <a:pt x="104305" y="76568"/>
                </a:moveTo>
                <a:cubicBezTo>
                  <a:pt x="102476" y="78409"/>
                  <a:pt x="100088" y="80860"/>
                  <a:pt x="97142" y="83959"/>
                </a:cubicBezTo>
                <a:cubicBezTo>
                  <a:pt x="80124" y="70840"/>
                  <a:pt x="66548" y="54050"/>
                  <a:pt x="56426" y="33527"/>
                </a:cubicBezTo>
                <a:lnTo>
                  <a:pt x="56426" y="75298"/>
                </a:lnTo>
                <a:lnTo>
                  <a:pt x="80581" y="75298"/>
                </a:lnTo>
                <a:lnTo>
                  <a:pt x="80581" y="82689"/>
                </a:lnTo>
                <a:lnTo>
                  <a:pt x="56426" y="82689"/>
                </a:lnTo>
                <a:lnTo>
                  <a:pt x="56426" y="104317"/>
                </a:lnTo>
                <a:lnTo>
                  <a:pt x="48196" y="104317"/>
                </a:lnTo>
                <a:lnTo>
                  <a:pt x="48196" y="82689"/>
                </a:lnTo>
                <a:lnTo>
                  <a:pt x="23202" y="82689"/>
                </a:lnTo>
                <a:lnTo>
                  <a:pt x="23202" y="75298"/>
                </a:lnTo>
                <a:lnTo>
                  <a:pt x="48196" y="75298"/>
                </a:lnTo>
                <a:lnTo>
                  <a:pt x="48196" y="33527"/>
                </a:lnTo>
                <a:cubicBezTo>
                  <a:pt x="39242" y="51396"/>
                  <a:pt x="25489" y="68630"/>
                  <a:pt x="6959" y="85229"/>
                </a:cubicBezTo>
                <a:cubicBezTo>
                  <a:pt x="4216" y="82625"/>
                  <a:pt x="1904" y="80517"/>
                  <a:pt x="0" y="78904"/>
                </a:cubicBezTo>
                <a:cubicBezTo>
                  <a:pt x="20002" y="62483"/>
                  <a:pt x="34963" y="45110"/>
                  <a:pt x="44869" y="26784"/>
                </a:cubicBezTo>
                <a:lnTo>
                  <a:pt x="2324" y="26784"/>
                </a:lnTo>
                <a:lnTo>
                  <a:pt x="2324" y="18986"/>
                </a:lnTo>
                <a:lnTo>
                  <a:pt x="48196" y="18986"/>
                </a:lnTo>
                <a:lnTo>
                  <a:pt x="48196" y="0"/>
                </a:lnTo>
                <a:lnTo>
                  <a:pt x="56426" y="0"/>
                </a:lnTo>
                <a:lnTo>
                  <a:pt x="56426" y="18986"/>
                </a:lnTo>
                <a:lnTo>
                  <a:pt x="102311" y="18986"/>
                </a:lnTo>
                <a:lnTo>
                  <a:pt x="102311" y="26784"/>
                </a:lnTo>
                <a:lnTo>
                  <a:pt x="59435" y="26784"/>
                </a:lnTo>
                <a:cubicBezTo>
                  <a:pt x="70611" y="47815"/>
                  <a:pt x="85572" y="64414"/>
                  <a:pt x="104305" y="76568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138320" y="420048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8">
                <a:moveTo>
                  <a:pt x="16294" y="0"/>
                </a:moveTo>
                <a:lnTo>
                  <a:pt x="7378" y="28118"/>
                </a:lnTo>
                <a:lnTo>
                  <a:pt x="0" y="28118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1462320" y="420048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8">
                <a:moveTo>
                  <a:pt x="16294" y="0"/>
                </a:moveTo>
                <a:lnTo>
                  <a:pt x="7378" y="28118"/>
                </a:lnTo>
                <a:lnTo>
                  <a:pt x="0" y="28118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400680" y="4285440"/>
            <a:ext cx="50040" cy="82800"/>
          </a:xfrm>
          <a:custGeom>
            <a:avLst/>
            <a:gdLst>
              <a:gd name="textAreaLeft" fmla="*/ 0 w 50040"/>
              <a:gd name="textAreaRight" fmla="*/ 50400 w 500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50419" h="83057">
                <a:moveTo>
                  <a:pt x="49669" y="83057"/>
                </a:moveTo>
                <a:lnTo>
                  <a:pt x="0" y="83057"/>
                </a:lnTo>
                <a:lnTo>
                  <a:pt x="0" y="74091"/>
                </a:lnTo>
                <a:lnTo>
                  <a:pt x="23723" y="50419"/>
                </a:lnTo>
                <a:cubicBezTo>
                  <a:pt x="30264" y="43878"/>
                  <a:pt x="34632" y="38696"/>
                  <a:pt x="36855" y="34886"/>
                </a:cubicBezTo>
                <a:cubicBezTo>
                  <a:pt x="39065" y="31076"/>
                  <a:pt x="40182" y="27127"/>
                  <a:pt x="40182" y="23037"/>
                </a:cubicBezTo>
                <a:cubicBezTo>
                  <a:pt x="40182" y="18401"/>
                  <a:pt x="38874" y="14845"/>
                  <a:pt x="36271" y="12382"/>
                </a:cubicBezTo>
                <a:cubicBezTo>
                  <a:pt x="33667" y="9893"/>
                  <a:pt x="29908" y="8661"/>
                  <a:pt x="24993" y="8661"/>
                </a:cubicBezTo>
                <a:cubicBezTo>
                  <a:pt x="17703" y="8661"/>
                  <a:pt x="10769" y="11747"/>
                  <a:pt x="4165" y="17932"/>
                </a:cubicBezTo>
                <a:lnTo>
                  <a:pt x="4165" y="7442"/>
                </a:lnTo>
                <a:cubicBezTo>
                  <a:pt x="10591" y="2476"/>
                  <a:pt x="18084" y="0"/>
                  <a:pt x="26631" y="0"/>
                </a:cubicBezTo>
                <a:cubicBezTo>
                  <a:pt x="33972" y="0"/>
                  <a:pt x="39776" y="1980"/>
                  <a:pt x="44030" y="5956"/>
                </a:cubicBezTo>
                <a:cubicBezTo>
                  <a:pt x="48285" y="9931"/>
                  <a:pt x="50419" y="15277"/>
                  <a:pt x="50419" y="21983"/>
                </a:cubicBezTo>
                <a:cubicBezTo>
                  <a:pt x="50419" y="27063"/>
                  <a:pt x="49047" y="32016"/>
                  <a:pt x="46316" y="36880"/>
                </a:cubicBezTo>
                <a:cubicBezTo>
                  <a:pt x="43586" y="41757"/>
                  <a:pt x="38430" y="47942"/>
                  <a:pt x="30848" y="55473"/>
                </a:cubicBezTo>
                <a:lnTo>
                  <a:pt x="12230" y="73672"/>
                </a:lnTo>
                <a:lnTo>
                  <a:pt x="12230" y="73875"/>
                </a:lnTo>
                <a:lnTo>
                  <a:pt x="49669" y="73875"/>
                </a:lnTo>
                <a:lnTo>
                  <a:pt x="49669" y="8305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505800" y="435672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98">
                <a:moveTo>
                  <a:pt x="6807" y="0"/>
                </a:moveTo>
                <a:cubicBezTo>
                  <a:pt x="8661" y="0"/>
                  <a:pt x="10261" y="647"/>
                  <a:pt x="11595" y="1930"/>
                </a:cubicBezTo>
                <a:cubicBezTo>
                  <a:pt x="12928" y="3251"/>
                  <a:pt x="13601" y="4826"/>
                  <a:pt x="13601" y="6693"/>
                </a:cubicBezTo>
                <a:cubicBezTo>
                  <a:pt x="13601" y="8585"/>
                  <a:pt x="12928" y="10172"/>
                  <a:pt x="11595" y="11455"/>
                </a:cubicBezTo>
                <a:cubicBezTo>
                  <a:pt x="10261" y="12750"/>
                  <a:pt x="8661" y="13398"/>
                  <a:pt x="6807" y="13398"/>
                </a:cubicBezTo>
                <a:cubicBezTo>
                  <a:pt x="4940" y="13398"/>
                  <a:pt x="3340" y="12750"/>
                  <a:pt x="2006" y="11455"/>
                </a:cubicBezTo>
                <a:cubicBezTo>
                  <a:pt x="673" y="10172"/>
                  <a:pt x="0" y="8585"/>
                  <a:pt x="0" y="6693"/>
                </a:cubicBezTo>
                <a:cubicBezTo>
                  <a:pt x="0" y="4826"/>
                  <a:pt x="673" y="3251"/>
                  <a:pt x="2006" y="1930"/>
                </a:cubicBezTo>
                <a:cubicBezTo>
                  <a:pt x="3340" y="647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933840" y="43556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8">
                <a:moveTo>
                  <a:pt x="16294" y="0"/>
                </a:moveTo>
                <a:lnTo>
                  <a:pt x="7378" y="28118"/>
                </a:lnTo>
                <a:lnTo>
                  <a:pt x="0" y="28118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2013840" y="43556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8">
                <a:moveTo>
                  <a:pt x="16294" y="0"/>
                </a:moveTo>
                <a:lnTo>
                  <a:pt x="7378" y="28118"/>
                </a:lnTo>
                <a:lnTo>
                  <a:pt x="0" y="28118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402480" y="4440600"/>
            <a:ext cx="47520" cy="84240"/>
          </a:xfrm>
          <a:custGeom>
            <a:avLst/>
            <a:gdLst>
              <a:gd name="textAreaLeft" fmla="*/ 0 w 47520"/>
              <a:gd name="textAreaRight" fmla="*/ 47880 w 47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7777" h="84442">
                <a:moveTo>
                  <a:pt x="0" y="69405"/>
                </a:moveTo>
                <a:cubicBezTo>
                  <a:pt x="5588" y="73723"/>
                  <a:pt x="11899" y="75882"/>
                  <a:pt x="18922" y="75882"/>
                </a:cubicBezTo>
                <a:cubicBezTo>
                  <a:pt x="24561" y="75882"/>
                  <a:pt x="29006" y="74510"/>
                  <a:pt x="32296" y="71754"/>
                </a:cubicBezTo>
                <a:cubicBezTo>
                  <a:pt x="35585" y="68986"/>
                  <a:pt x="37236" y="65290"/>
                  <a:pt x="37236" y="60655"/>
                </a:cubicBezTo>
                <a:cubicBezTo>
                  <a:pt x="37236" y="50304"/>
                  <a:pt x="29832" y="45148"/>
                  <a:pt x="15036" y="45148"/>
                </a:cubicBezTo>
                <a:lnTo>
                  <a:pt x="8216" y="45148"/>
                </a:lnTo>
                <a:lnTo>
                  <a:pt x="8216" y="36601"/>
                </a:lnTo>
                <a:lnTo>
                  <a:pt x="14706" y="36601"/>
                </a:lnTo>
                <a:cubicBezTo>
                  <a:pt x="27825" y="36601"/>
                  <a:pt x="34378" y="31750"/>
                  <a:pt x="34378" y="22047"/>
                </a:cubicBezTo>
                <a:cubicBezTo>
                  <a:pt x="34378" y="13068"/>
                  <a:pt x="29375" y="8597"/>
                  <a:pt x="19342" y="8597"/>
                </a:cubicBezTo>
                <a:cubicBezTo>
                  <a:pt x="13614" y="8597"/>
                  <a:pt x="8216" y="10528"/>
                  <a:pt x="3162" y="14401"/>
                </a:cubicBezTo>
                <a:lnTo>
                  <a:pt x="3162" y="4635"/>
                </a:lnTo>
                <a:cubicBezTo>
                  <a:pt x="8509" y="1549"/>
                  <a:pt x="14744" y="0"/>
                  <a:pt x="21894" y="0"/>
                </a:cubicBezTo>
                <a:cubicBezTo>
                  <a:pt x="28841" y="0"/>
                  <a:pt x="34442" y="1828"/>
                  <a:pt x="38658" y="5460"/>
                </a:cubicBezTo>
                <a:cubicBezTo>
                  <a:pt x="42875" y="9106"/>
                  <a:pt x="44983" y="13817"/>
                  <a:pt x="44983" y="19621"/>
                </a:cubicBezTo>
                <a:cubicBezTo>
                  <a:pt x="44983" y="30314"/>
                  <a:pt x="39535" y="37185"/>
                  <a:pt x="28638" y="40233"/>
                </a:cubicBezTo>
                <a:lnTo>
                  <a:pt x="28638" y="40462"/>
                </a:lnTo>
                <a:cubicBezTo>
                  <a:pt x="34543" y="41084"/>
                  <a:pt x="39204" y="43167"/>
                  <a:pt x="42633" y="46710"/>
                </a:cubicBezTo>
                <a:cubicBezTo>
                  <a:pt x="46062" y="50228"/>
                  <a:pt x="47777" y="54635"/>
                  <a:pt x="47777" y="59906"/>
                </a:cubicBezTo>
                <a:cubicBezTo>
                  <a:pt x="47777" y="67259"/>
                  <a:pt x="45135" y="73177"/>
                  <a:pt x="39839" y="77685"/>
                </a:cubicBezTo>
                <a:cubicBezTo>
                  <a:pt x="34556" y="82181"/>
                  <a:pt x="27508" y="84442"/>
                  <a:pt x="18719" y="84442"/>
                </a:cubicBezTo>
                <a:cubicBezTo>
                  <a:pt x="10985" y="84442"/>
                  <a:pt x="4749" y="82994"/>
                  <a:pt x="0" y="80111"/>
                </a:cubicBezTo>
                <a:lnTo>
                  <a:pt x="0" y="69405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600" bIns="39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505800" y="451152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98">
                <a:moveTo>
                  <a:pt x="6807" y="0"/>
                </a:moveTo>
                <a:cubicBezTo>
                  <a:pt x="8661" y="0"/>
                  <a:pt x="10261" y="647"/>
                  <a:pt x="11595" y="1930"/>
                </a:cubicBezTo>
                <a:cubicBezTo>
                  <a:pt x="12928" y="3251"/>
                  <a:pt x="13601" y="4826"/>
                  <a:pt x="13601" y="6693"/>
                </a:cubicBezTo>
                <a:cubicBezTo>
                  <a:pt x="13601" y="8585"/>
                  <a:pt x="12928" y="10172"/>
                  <a:pt x="11595" y="11455"/>
                </a:cubicBezTo>
                <a:cubicBezTo>
                  <a:pt x="10261" y="12750"/>
                  <a:pt x="8661" y="13398"/>
                  <a:pt x="6807" y="13398"/>
                </a:cubicBezTo>
                <a:cubicBezTo>
                  <a:pt x="4940" y="13398"/>
                  <a:pt x="3340" y="12750"/>
                  <a:pt x="2006" y="11455"/>
                </a:cubicBezTo>
                <a:cubicBezTo>
                  <a:pt x="673" y="10172"/>
                  <a:pt x="0" y="8585"/>
                  <a:pt x="0" y="6693"/>
                </a:cubicBezTo>
                <a:cubicBezTo>
                  <a:pt x="0" y="4826"/>
                  <a:pt x="673" y="3251"/>
                  <a:pt x="2006" y="1930"/>
                </a:cubicBezTo>
                <a:cubicBezTo>
                  <a:pt x="3340" y="647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933840" y="45104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7">
                <a:moveTo>
                  <a:pt x="16294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1324800" y="4433760"/>
            <a:ext cx="103320" cy="1036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3680"/>
              <a:gd name="textAreaBottom" fmla="*/ 104040 h 103680"/>
            </a:gdLst>
            <a:ahLst/>
            <a:rect l="textAreaLeft" t="textAreaTop" r="textAreaRight" b="textAreaBottom"/>
            <a:pathLst>
              <a:path w="103771" h="104114">
                <a:moveTo>
                  <a:pt x="0" y="96507"/>
                </a:moveTo>
                <a:cubicBezTo>
                  <a:pt x="25196" y="87541"/>
                  <a:pt x="40233" y="74638"/>
                  <a:pt x="45084" y="57797"/>
                </a:cubicBezTo>
                <a:lnTo>
                  <a:pt x="2108" y="57797"/>
                </a:lnTo>
                <a:lnTo>
                  <a:pt x="2108" y="49784"/>
                </a:lnTo>
                <a:lnTo>
                  <a:pt x="46608" y="49784"/>
                </a:lnTo>
                <a:cubicBezTo>
                  <a:pt x="46761" y="48272"/>
                  <a:pt x="46824" y="41554"/>
                  <a:pt x="46824" y="29641"/>
                </a:cubicBezTo>
                <a:lnTo>
                  <a:pt x="8318" y="29641"/>
                </a:lnTo>
                <a:lnTo>
                  <a:pt x="8318" y="21628"/>
                </a:lnTo>
                <a:lnTo>
                  <a:pt x="33629" y="21628"/>
                </a:lnTo>
                <a:cubicBezTo>
                  <a:pt x="27597" y="14985"/>
                  <a:pt x="22428" y="9626"/>
                  <a:pt x="18135" y="5588"/>
                </a:cubicBezTo>
                <a:lnTo>
                  <a:pt x="24244" y="101"/>
                </a:lnTo>
                <a:cubicBezTo>
                  <a:pt x="30302" y="5524"/>
                  <a:pt x="35813" y="10693"/>
                  <a:pt x="40817" y="15608"/>
                </a:cubicBezTo>
                <a:lnTo>
                  <a:pt x="34061" y="21628"/>
                </a:lnTo>
                <a:lnTo>
                  <a:pt x="59220" y="21628"/>
                </a:lnTo>
                <a:cubicBezTo>
                  <a:pt x="64668" y="13919"/>
                  <a:pt x="69468" y="6730"/>
                  <a:pt x="73609" y="0"/>
                </a:cubicBezTo>
                <a:lnTo>
                  <a:pt x="82359" y="4851"/>
                </a:lnTo>
                <a:cubicBezTo>
                  <a:pt x="77520" y="11048"/>
                  <a:pt x="73050" y="16636"/>
                  <a:pt x="68973" y="21628"/>
                </a:cubicBezTo>
                <a:lnTo>
                  <a:pt x="95656" y="21628"/>
                </a:lnTo>
                <a:lnTo>
                  <a:pt x="95656" y="29641"/>
                </a:lnTo>
                <a:lnTo>
                  <a:pt x="55791" y="29641"/>
                </a:lnTo>
                <a:cubicBezTo>
                  <a:pt x="55791" y="39979"/>
                  <a:pt x="55740" y="46685"/>
                  <a:pt x="55625" y="49784"/>
                </a:cubicBezTo>
                <a:lnTo>
                  <a:pt x="101866" y="49784"/>
                </a:lnTo>
                <a:lnTo>
                  <a:pt x="101866" y="57797"/>
                </a:lnTo>
                <a:lnTo>
                  <a:pt x="57099" y="57797"/>
                </a:lnTo>
                <a:cubicBezTo>
                  <a:pt x="65366" y="75488"/>
                  <a:pt x="80924" y="87617"/>
                  <a:pt x="103771" y="94183"/>
                </a:cubicBezTo>
                <a:cubicBezTo>
                  <a:pt x="100888" y="97142"/>
                  <a:pt x="98285" y="99986"/>
                  <a:pt x="95973" y="102717"/>
                </a:cubicBezTo>
                <a:cubicBezTo>
                  <a:pt x="74320" y="94284"/>
                  <a:pt x="59601" y="81597"/>
                  <a:pt x="51828" y="64655"/>
                </a:cubicBezTo>
                <a:cubicBezTo>
                  <a:pt x="46100" y="81114"/>
                  <a:pt x="30860" y="94259"/>
                  <a:pt x="6108" y="104114"/>
                </a:cubicBezTo>
                <a:cubicBezTo>
                  <a:pt x="4279" y="101701"/>
                  <a:pt x="2247" y="99174"/>
                  <a:pt x="0" y="96507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1756440" y="4441320"/>
            <a:ext cx="103320" cy="93960"/>
          </a:xfrm>
          <a:custGeom>
            <a:avLst/>
            <a:gdLst>
              <a:gd name="textAreaLeft" fmla="*/ 0 w 103320"/>
              <a:gd name="textAreaRight" fmla="*/ 103680 w 1033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03784" h="94297">
                <a:moveTo>
                  <a:pt x="0" y="35547"/>
                </a:moveTo>
                <a:lnTo>
                  <a:pt x="49034" y="35547"/>
                </a:lnTo>
                <a:lnTo>
                  <a:pt x="49034" y="8330"/>
                </a:lnTo>
                <a:lnTo>
                  <a:pt x="8432" y="8330"/>
                </a:lnTo>
                <a:lnTo>
                  <a:pt x="8432" y="0"/>
                </a:lnTo>
                <a:lnTo>
                  <a:pt x="95770" y="0"/>
                </a:lnTo>
                <a:lnTo>
                  <a:pt x="95770" y="8330"/>
                </a:lnTo>
                <a:lnTo>
                  <a:pt x="57912" y="8330"/>
                </a:lnTo>
                <a:lnTo>
                  <a:pt x="57912" y="35547"/>
                </a:lnTo>
                <a:lnTo>
                  <a:pt x="103784" y="35547"/>
                </a:lnTo>
                <a:lnTo>
                  <a:pt x="103784" y="43878"/>
                </a:lnTo>
                <a:lnTo>
                  <a:pt x="57912" y="43878"/>
                </a:lnTo>
                <a:lnTo>
                  <a:pt x="57912" y="80060"/>
                </a:lnTo>
                <a:cubicBezTo>
                  <a:pt x="57912" y="84835"/>
                  <a:pt x="57023" y="88277"/>
                  <a:pt x="55270" y="90385"/>
                </a:cubicBezTo>
                <a:cubicBezTo>
                  <a:pt x="53289" y="92862"/>
                  <a:pt x="49606" y="94157"/>
                  <a:pt x="44183" y="94297"/>
                </a:cubicBezTo>
                <a:cubicBezTo>
                  <a:pt x="41021" y="94297"/>
                  <a:pt x="35090" y="94259"/>
                  <a:pt x="26365" y="94183"/>
                </a:cubicBezTo>
                <a:cubicBezTo>
                  <a:pt x="26022" y="90957"/>
                  <a:pt x="25450" y="87756"/>
                  <a:pt x="24676" y="84594"/>
                </a:cubicBezTo>
                <a:cubicBezTo>
                  <a:pt x="32626" y="85153"/>
                  <a:pt x="38150" y="85445"/>
                  <a:pt x="41237" y="85445"/>
                </a:cubicBezTo>
                <a:cubicBezTo>
                  <a:pt x="44399" y="85445"/>
                  <a:pt x="46507" y="84835"/>
                  <a:pt x="47561" y="83642"/>
                </a:cubicBezTo>
                <a:cubicBezTo>
                  <a:pt x="48552" y="82663"/>
                  <a:pt x="49034" y="80441"/>
                  <a:pt x="49034" y="76999"/>
                </a:cubicBezTo>
                <a:lnTo>
                  <a:pt x="49034" y="43878"/>
                </a:lnTo>
                <a:lnTo>
                  <a:pt x="0" y="43878"/>
                </a:lnTo>
                <a:lnTo>
                  <a:pt x="0" y="3554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1948680" y="4440600"/>
            <a:ext cx="15120" cy="25200"/>
          </a:xfrm>
          <a:custGeom>
            <a:avLst/>
            <a:gdLst>
              <a:gd name="textAreaLeft" fmla="*/ 0 w 15120"/>
              <a:gd name="textAreaRight" fmla="*/ 15480 w 15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06" h="25425">
                <a:moveTo>
                  <a:pt x="15506" y="0"/>
                </a:moveTo>
                <a:lnTo>
                  <a:pt x="9347" y="25425"/>
                </a:lnTo>
                <a:lnTo>
                  <a:pt x="0" y="25425"/>
                </a:lnTo>
                <a:lnTo>
                  <a:pt x="8343" y="0"/>
                </a:lnTo>
                <a:lnTo>
                  <a:pt x="15506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1930680" y="4440600"/>
            <a:ext cx="15120" cy="25200"/>
          </a:xfrm>
          <a:custGeom>
            <a:avLst/>
            <a:gdLst>
              <a:gd name="textAreaLeft" fmla="*/ 0 w 15120"/>
              <a:gd name="textAreaRight" fmla="*/ 15480 w 15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06" h="25425">
                <a:moveTo>
                  <a:pt x="15506" y="0"/>
                </a:moveTo>
                <a:lnTo>
                  <a:pt x="9334" y="25425"/>
                </a:lnTo>
                <a:lnTo>
                  <a:pt x="0" y="25425"/>
                </a:lnTo>
                <a:lnTo>
                  <a:pt x="8343" y="0"/>
                </a:lnTo>
                <a:lnTo>
                  <a:pt x="15506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2146680" y="4440600"/>
            <a:ext cx="15120" cy="25200"/>
          </a:xfrm>
          <a:custGeom>
            <a:avLst/>
            <a:gdLst>
              <a:gd name="textAreaLeft" fmla="*/ 0 w 15120"/>
              <a:gd name="textAreaRight" fmla="*/ 15480 w 15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06" h="25425">
                <a:moveTo>
                  <a:pt x="15506" y="0"/>
                </a:moveTo>
                <a:lnTo>
                  <a:pt x="7175" y="25425"/>
                </a:lnTo>
                <a:lnTo>
                  <a:pt x="0" y="25425"/>
                </a:lnTo>
                <a:lnTo>
                  <a:pt x="6172" y="0"/>
                </a:lnTo>
                <a:lnTo>
                  <a:pt x="15506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2128680" y="4440600"/>
            <a:ext cx="15120" cy="25200"/>
          </a:xfrm>
          <a:custGeom>
            <a:avLst/>
            <a:gdLst>
              <a:gd name="textAreaLeft" fmla="*/ 0 w 15120"/>
              <a:gd name="textAreaRight" fmla="*/ 15480 w 15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494" h="25425">
                <a:moveTo>
                  <a:pt x="15494" y="0"/>
                </a:moveTo>
                <a:lnTo>
                  <a:pt x="7162" y="25425"/>
                </a:lnTo>
                <a:lnTo>
                  <a:pt x="0" y="25425"/>
                </a:lnTo>
                <a:lnTo>
                  <a:pt x="6159" y="0"/>
                </a:lnTo>
                <a:lnTo>
                  <a:pt x="154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505800" y="466668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98">
                <a:moveTo>
                  <a:pt x="6807" y="0"/>
                </a:moveTo>
                <a:cubicBezTo>
                  <a:pt x="8661" y="0"/>
                  <a:pt x="10261" y="647"/>
                  <a:pt x="11595" y="1930"/>
                </a:cubicBezTo>
                <a:cubicBezTo>
                  <a:pt x="12928" y="3250"/>
                  <a:pt x="13601" y="4825"/>
                  <a:pt x="13601" y="6692"/>
                </a:cubicBezTo>
                <a:cubicBezTo>
                  <a:pt x="13601" y="8585"/>
                  <a:pt x="12928" y="10172"/>
                  <a:pt x="11595" y="11455"/>
                </a:cubicBezTo>
                <a:cubicBezTo>
                  <a:pt x="10261" y="12750"/>
                  <a:pt x="8661" y="13398"/>
                  <a:pt x="6807" y="13398"/>
                </a:cubicBezTo>
                <a:cubicBezTo>
                  <a:pt x="4940" y="13398"/>
                  <a:pt x="3340" y="12750"/>
                  <a:pt x="2006" y="11455"/>
                </a:cubicBezTo>
                <a:cubicBezTo>
                  <a:pt x="673" y="10172"/>
                  <a:pt x="0" y="8585"/>
                  <a:pt x="0" y="6692"/>
                </a:cubicBezTo>
                <a:cubicBezTo>
                  <a:pt x="0" y="4825"/>
                  <a:pt x="673" y="3250"/>
                  <a:pt x="2006" y="1930"/>
                </a:cubicBezTo>
                <a:cubicBezTo>
                  <a:pt x="3340" y="647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901080" y="4590000"/>
            <a:ext cx="86040" cy="101520"/>
          </a:xfrm>
          <a:custGeom>
            <a:avLst/>
            <a:gdLst>
              <a:gd name="textAreaLeft" fmla="*/ 0 w 86040"/>
              <a:gd name="textAreaRight" fmla="*/ 86400 w 86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283" h="101993">
                <a:moveTo>
                  <a:pt x="0" y="18148"/>
                </a:moveTo>
                <a:lnTo>
                  <a:pt x="38912" y="18148"/>
                </a:lnTo>
                <a:lnTo>
                  <a:pt x="38912" y="0"/>
                </a:lnTo>
                <a:lnTo>
                  <a:pt x="47574" y="0"/>
                </a:lnTo>
                <a:lnTo>
                  <a:pt x="47574" y="18148"/>
                </a:lnTo>
                <a:lnTo>
                  <a:pt x="86283" y="18148"/>
                </a:lnTo>
                <a:lnTo>
                  <a:pt x="86283" y="87744"/>
                </a:lnTo>
                <a:cubicBezTo>
                  <a:pt x="86283" y="96685"/>
                  <a:pt x="81876" y="101117"/>
                  <a:pt x="73101" y="101041"/>
                </a:cubicBezTo>
                <a:cubicBezTo>
                  <a:pt x="68452" y="101041"/>
                  <a:pt x="62750" y="100965"/>
                  <a:pt x="56006" y="100825"/>
                </a:cubicBezTo>
                <a:cubicBezTo>
                  <a:pt x="55803" y="98437"/>
                  <a:pt x="55270" y="95389"/>
                  <a:pt x="54419" y="91656"/>
                </a:cubicBezTo>
                <a:cubicBezTo>
                  <a:pt x="61112" y="92214"/>
                  <a:pt x="66662" y="92532"/>
                  <a:pt x="71094" y="92608"/>
                </a:cubicBezTo>
                <a:cubicBezTo>
                  <a:pt x="75514" y="92735"/>
                  <a:pt x="77736" y="90525"/>
                  <a:pt x="77736" y="85966"/>
                </a:cubicBezTo>
                <a:lnTo>
                  <a:pt x="77736" y="26161"/>
                </a:lnTo>
                <a:lnTo>
                  <a:pt x="47358" y="26161"/>
                </a:lnTo>
                <a:cubicBezTo>
                  <a:pt x="47078" y="32562"/>
                  <a:pt x="46304" y="38252"/>
                  <a:pt x="45046" y="43256"/>
                </a:cubicBezTo>
                <a:cubicBezTo>
                  <a:pt x="57480" y="53225"/>
                  <a:pt x="67538" y="62026"/>
                  <a:pt x="75209" y="69621"/>
                </a:cubicBezTo>
                <a:lnTo>
                  <a:pt x="68770" y="76466"/>
                </a:lnTo>
                <a:cubicBezTo>
                  <a:pt x="61239" y="68237"/>
                  <a:pt x="52489" y="59690"/>
                  <a:pt x="42506" y="50838"/>
                </a:cubicBezTo>
                <a:cubicBezTo>
                  <a:pt x="37731" y="61176"/>
                  <a:pt x="28625" y="70180"/>
                  <a:pt x="15189" y="77838"/>
                </a:cubicBezTo>
                <a:cubicBezTo>
                  <a:pt x="12242" y="73761"/>
                  <a:pt x="10274" y="71234"/>
                  <a:pt x="9283" y="70243"/>
                </a:cubicBezTo>
                <a:cubicBezTo>
                  <a:pt x="20751" y="64198"/>
                  <a:pt x="28587" y="57493"/>
                  <a:pt x="32804" y="50101"/>
                </a:cubicBezTo>
                <a:cubicBezTo>
                  <a:pt x="36182" y="44691"/>
                  <a:pt x="38150" y="36703"/>
                  <a:pt x="38709" y="26161"/>
                </a:cubicBezTo>
                <a:lnTo>
                  <a:pt x="8547" y="26161"/>
                </a:lnTo>
                <a:lnTo>
                  <a:pt x="8547" y="101993"/>
                </a:lnTo>
                <a:lnTo>
                  <a:pt x="0" y="101993"/>
                </a:lnTo>
                <a:lnTo>
                  <a:pt x="0" y="1814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1581840" y="466560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7">
                <a:moveTo>
                  <a:pt x="16294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1757160" y="4588920"/>
            <a:ext cx="102960" cy="95040"/>
          </a:xfrm>
          <a:custGeom>
            <a:avLst/>
            <a:gdLst>
              <a:gd name="textAreaLeft" fmla="*/ 0 w 102960"/>
              <a:gd name="textAreaRight" fmla="*/ 103320 w 1029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03352" h="95453">
                <a:moveTo>
                  <a:pt x="0" y="86804"/>
                </a:moveTo>
                <a:lnTo>
                  <a:pt x="18669" y="86804"/>
                </a:lnTo>
                <a:lnTo>
                  <a:pt x="18669" y="19621"/>
                </a:lnTo>
                <a:lnTo>
                  <a:pt x="27520" y="19621"/>
                </a:lnTo>
                <a:lnTo>
                  <a:pt x="27520" y="86804"/>
                </a:lnTo>
                <a:lnTo>
                  <a:pt x="53365" y="86804"/>
                </a:lnTo>
                <a:lnTo>
                  <a:pt x="53365" y="0"/>
                </a:lnTo>
                <a:lnTo>
                  <a:pt x="62433" y="0"/>
                </a:lnTo>
                <a:lnTo>
                  <a:pt x="62433" y="31000"/>
                </a:lnTo>
                <a:lnTo>
                  <a:pt x="97764" y="31000"/>
                </a:lnTo>
                <a:lnTo>
                  <a:pt x="97764" y="39446"/>
                </a:lnTo>
                <a:lnTo>
                  <a:pt x="62433" y="39446"/>
                </a:lnTo>
                <a:lnTo>
                  <a:pt x="62433" y="86804"/>
                </a:lnTo>
                <a:lnTo>
                  <a:pt x="103352" y="86804"/>
                </a:lnTo>
                <a:lnTo>
                  <a:pt x="103352" y="95453"/>
                </a:lnTo>
                <a:lnTo>
                  <a:pt x="0" y="95453"/>
                </a:lnTo>
                <a:lnTo>
                  <a:pt x="0" y="86804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2985840" y="466560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7">
                <a:moveTo>
                  <a:pt x="16294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3915720" y="4597560"/>
            <a:ext cx="104760" cy="87840"/>
          </a:xfrm>
          <a:custGeom>
            <a:avLst/>
            <a:gdLst>
              <a:gd name="textAreaLeft" fmla="*/ 0 w 104760"/>
              <a:gd name="textAreaRight" fmla="*/ 105120 w 104760"/>
              <a:gd name="textAreaTop" fmla="*/ 0 h 87840"/>
              <a:gd name="textAreaBottom" fmla="*/ 88200 h 87840"/>
            </a:gdLst>
            <a:ahLst/>
            <a:rect l="textAreaLeft" t="textAreaTop" r="textAreaRight" b="textAreaBottom"/>
            <a:pathLst>
              <a:path w="105041" h="88061">
                <a:moveTo>
                  <a:pt x="0" y="79844"/>
                </a:moveTo>
                <a:lnTo>
                  <a:pt x="17195" y="79844"/>
                </a:lnTo>
                <a:lnTo>
                  <a:pt x="17195" y="23317"/>
                </a:lnTo>
                <a:lnTo>
                  <a:pt x="26263" y="23317"/>
                </a:lnTo>
                <a:lnTo>
                  <a:pt x="26263" y="79844"/>
                </a:lnTo>
                <a:lnTo>
                  <a:pt x="53060" y="79844"/>
                </a:lnTo>
                <a:lnTo>
                  <a:pt x="53060" y="8229"/>
                </a:lnTo>
                <a:lnTo>
                  <a:pt x="4851" y="8229"/>
                </a:lnTo>
                <a:lnTo>
                  <a:pt x="4851" y="0"/>
                </a:lnTo>
                <a:lnTo>
                  <a:pt x="100825" y="0"/>
                </a:lnTo>
                <a:lnTo>
                  <a:pt x="100825" y="8229"/>
                </a:lnTo>
                <a:lnTo>
                  <a:pt x="62128" y="8229"/>
                </a:lnTo>
                <a:lnTo>
                  <a:pt x="62128" y="35864"/>
                </a:lnTo>
                <a:lnTo>
                  <a:pt x="97243" y="35864"/>
                </a:lnTo>
                <a:lnTo>
                  <a:pt x="97243" y="43979"/>
                </a:lnTo>
                <a:lnTo>
                  <a:pt x="62128" y="43979"/>
                </a:lnTo>
                <a:lnTo>
                  <a:pt x="62128" y="79844"/>
                </a:lnTo>
                <a:lnTo>
                  <a:pt x="105041" y="79844"/>
                </a:lnTo>
                <a:lnTo>
                  <a:pt x="105041" y="88061"/>
                </a:lnTo>
                <a:lnTo>
                  <a:pt x="0" y="88061"/>
                </a:lnTo>
                <a:lnTo>
                  <a:pt x="0" y="79844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4497840" y="466560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7">
                <a:moveTo>
                  <a:pt x="16293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1246320" y="482040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8">
                <a:moveTo>
                  <a:pt x="16294" y="0"/>
                </a:moveTo>
                <a:lnTo>
                  <a:pt x="7378" y="28118"/>
                </a:lnTo>
                <a:lnTo>
                  <a:pt x="0" y="28118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1537560" y="4744800"/>
            <a:ext cx="86040" cy="101520"/>
          </a:xfrm>
          <a:custGeom>
            <a:avLst/>
            <a:gdLst>
              <a:gd name="textAreaLeft" fmla="*/ 0 w 86040"/>
              <a:gd name="textAreaRight" fmla="*/ 86400 w 86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283" h="101993">
                <a:moveTo>
                  <a:pt x="0" y="18148"/>
                </a:moveTo>
                <a:lnTo>
                  <a:pt x="38912" y="18148"/>
                </a:lnTo>
                <a:lnTo>
                  <a:pt x="38912" y="0"/>
                </a:lnTo>
                <a:lnTo>
                  <a:pt x="47574" y="0"/>
                </a:lnTo>
                <a:lnTo>
                  <a:pt x="47574" y="18148"/>
                </a:lnTo>
                <a:lnTo>
                  <a:pt x="86283" y="18148"/>
                </a:lnTo>
                <a:lnTo>
                  <a:pt x="86283" y="87744"/>
                </a:lnTo>
                <a:cubicBezTo>
                  <a:pt x="86283" y="96684"/>
                  <a:pt x="81876" y="101117"/>
                  <a:pt x="73101" y="101041"/>
                </a:cubicBezTo>
                <a:cubicBezTo>
                  <a:pt x="68453" y="101041"/>
                  <a:pt x="62750" y="100964"/>
                  <a:pt x="56007" y="100825"/>
                </a:cubicBezTo>
                <a:cubicBezTo>
                  <a:pt x="55803" y="98437"/>
                  <a:pt x="55270" y="95389"/>
                  <a:pt x="54419" y="91655"/>
                </a:cubicBezTo>
                <a:cubicBezTo>
                  <a:pt x="61112" y="92214"/>
                  <a:pt x="66662" y="92531"/>
                  <a:pt x="71094" y="92608"/>
                </a:cubicBezTo>
                <a:cubicBezTo>
                  <a:pt x="75514" y="92735"/>
                  <a:pt x="77736" y="90525"/>
                  <a:pt x="77736" y="85966"/>
                </a:cubicBezTo>
                <a:lnTo>
                  <a:pt x="77736" y="26161"/>
                </a:lnTo>
                <a:lnTo>
                  <a:pt x="47358" y="26161"/>
                </a:lnTo>
                <a:cubicBezTo>
                  <a:pt x="47078" y="32562"/>
                  <a:pt x="46304" y="38252"/>
                  <a:pt x="45046" y="43255"/>
                </a:cubicBezTo>
                <a:cubicBezTo>
                  <a:pt x="57480" y="53225"/>
                  <a:pt x="67538" y="62026"/>
                  <a:pt x="75209" y="69621"/>
                </a:cubicBezTo>
                <a:lnTo>
                  <a:pt x="68770" y="76466"/>
                </a:lnTo>
                <a:cubicBezTo>
                  <a:pt x="61239" y="68236"/>
                  <a:pt x="52489" y="59689"/>
                  <a:pt x="42506" y="50837"/>
                </a:cubicBezTo>
                <a:cubicBezTo>
                  <a:pt x="37731" y="61175"/>
                  <a:pt x="28625" y="70180"/>
                  <a:pt x="15189" y="77838"/>
                </a:cubicBezTo>
                <a:cubicBezTo>
                  <a:pt x="12242" y="73761"/>
                  <a:pt x="10274" y="71234"/>
                  <a:pt x="9283" y="70243"/>
                </a:cubicBezTo>
                <a:cubicBezTo>
                  <a:pt x="20751" y="64198"/>
                  <a:pt x="28587" y="57492"/>
                  <a:pt x="32804" y="50101"/>
                </a:cubicBezTo>
                <a:cubicBezTo>
                  <a:pt x="36182" y="44691"/>
                  <a:pt x="38150" y="36702"/>
                  <a:pt x="38709" y="26161"/>
                </a:cubicBezTo>
                <a:lnTo>
                  <a:pt x="8547" y="26161"/>
                </a:lnTo>
                <a:lnTo>
                  <a:pt x="8547" y="101993"/>
                </a:lnTo>
                <a:lnTo>
                  <a:pt x="0" y="101993"/>
                </a:lnTo>
                <a:lnTo>
                  <a:pt x="0" y="1814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2176920" y="4751280"/>
            <a:ext cx="103320" cy="93960"/>
          </a:xfrm>
          <a:custGeom>
            <a:avLst/>
            <a:gdLst>
              <a:gd name="textAreaLeft" fmla="*/ 0 w 103320"/>
              <a:gd name="textAreaRight" fmla="*/ 103680 w 1033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03784" h="94297">
                <a:moveTo>
                  <a:pt x="0" y="35547"/>
                </a:moveTo>
                <a:lnTo>
                  <a:pt x="49034" y="35547"/>
                </a:lnTo>
                <a:lnTo>
                  <a:pt x="49034" y="8331"/>
                </a:lnTo>
                <a:lnTo>
                  <a:pt x="8432" y="8331"/>
                </a:lnTo>
                <a:lnTo>
                  <a:pt x="8432" y="0"/>
                </a:lnTo>
                <a:lnTo>
                  <a:pt x="95770" y="0"/>
                </a:lnTo>
                <a:lnTo>
                  <a:pt x="95770" y="8331"/>
                </a:lnTo>
                <a:lnTo>
                  <a:pt x="57911" y="8331"/>
                </a:lnTo>
                <a:lnTo>
                  <a:pt x="57911" y="35547"/>
                </a:lnTo>
                <a:lnTo>
                  <a:pt x="103784" y="35547"/>
                </a:lnTo>
                <a:lnTo>
                  <a:pt x="103784" y="43878"/>
                </a:lnTo>
                <a:lnTo>
                  <a:pt x="57911" y="43878"/>
                </a:lnTo>
                <a:lnTo>
                  <a:pt x="57911" y="80060"/>
                </a:lnTo>
                <a:cubicBezTo>
                  <a:pt x="57911" y="84835"/>
                  <a:pt x="57023" y="88277"/>
                  <a:pt x="55270" y="90385"/>
                </a:cubicBezTo>
                <a:cubicBezTo>
                  <a:pt x="53289" y="92862"/>
                  <a:pt x="49606" y="94157"/>
                  <a:pt x="44183" y="94297"/>
                </a:cubicBezTo>
                <a:cubicBezTo>
                  <a:pt x="41020" y="94297"/>
                  <a:pt x="35090" y="94259"/>
                  <a:pt x="26365" y="94183"/>
                </a:cubicBezTo>
                <a:cubicBezTo>
                  <a:pt x="26022" y="90957"/>
                  <a:pt x="25450" y="87757"/>
                  <a:pt x="24676" y="84594"/>
                </a:cubicBezTo>
                <a:cubicBezTo>
                  <a:pt x="32626" y="85153"/>
                  <a:pt x="38150" y="85445"/>
                  <a:pt x="41236" y="85445"/>
                </a:cubicBezTo>
                <a:cubicBezTo>
                  <a:pt x="44399" y="85445"/>
                  <a:pt x="46507" y="84835"/>
                  <a:pt x="47561" y="83642"/>
                </a:cubicBezTo>
                <a:cubicBezTo>
                  <a:pt x="48552" y="82664"/>
                  <a:pt x="49034" y="80441"/>
                  <a:pt x="49034" y="76999"/>
                </a:cubicBezTo>
                <a:lnTo>
                  <a:pt x="49034" y="43878"/>
                </a:lnTo>
                <a:lnTo>
                  <a:pt x="0" y="43878"/>
                </a:lnTo>
                <a:lnTo>
                  <a:pt x="0" y="3554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2288520" y="4750560"/>
            <a:ext cx="50040" cy="82800"/>
          </a:xfrm>
          <a:custGeom>
            <a:avLst/>
            <a:gdLst>
              <a:gd name="textAreaLeft" fmla="*/ 0 w 50040"/>
              <a:gd name="textAreaRight" fmla="*/ 50400 w 500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50419" h="83058">
                <a:moveTo>
                  <a:pt x="49669" y="83058"/>
                </a:moveTo>
                <a:lnTo>
                  <a:pt x="0" y="83058"/>
                </a:lnTo>
                <a:lnTo>
                  <a:pt x="0" y="74091"/>
                </a:lnTo>
                <a:lnTo>
                  <a:pt x="23723" y="50419"/>
                </a:lnTo>
                <a:cubicBezTo>
                  <a:pt x="30264" y="43878"/>
                  <a:pt x="34632" y="38696"/>
                  <a:pt x="36855" y="34887"/>
                </a:cubicBezTo>
                <a:cubicBezTo>
                  <a:pt x="39065" y="31076"/>
                  <a:pt x="40182" y="27127"/>
                  <a:pt x="40182" y="23037"/>
                </a:cubicBezTo>
                <a:cubicBezTo>
                  <a:pt x="40182" y="18402"/>
                  <a:pt x="38874" y="14846"/>
                  <a:pt x="36271" y="12382"/>
                </a:cubicBezTo>
                <a:cubicBezTo>
                  <a:pt x="33667" y="9893"/>
                  <a:pt x="29908" y="8661"/>
                  <a:pt x="24993" y="8661"/>
                </a:cubicBezTo>
                <a:cubicBezTo>
                  <a:pt x="17703" y="8661"/>
                  <a:pt x="10769" y="11747"/>
                  <a:pt x="4165" y="17932"/>
                </a:cubicBezTo>
                <a:lnTo>
                  <a:pt x="4165" y="7442"/>
                </a:lnTo>
                <a:cubicBezTo>
                  <a:pt x="10591" y="2476"/>
                  <a:pt x="18084" y="0"/>
                  <a:pt x="26631" y="0"/>
                </a:cubicBezTo>
                <a:cubicBezTo>
                  <a:pt x="33972" y="0"/>
                  <a:pt x="39776" y="1981"/>
                  <a:pt x="44030" y="5956"/>
                </a:cubicBezTo>
                <a:cubicBezTo>
                  <a:pt x="48285" y="9931"/>
                  <a:pt x="50419" y="15278"/>
                  <a:pt x="50419" y="21983"/>
                </a:cubicBezTo>
                <a:cubicBezTo>
                  <a:pt x="50419" y="27063"/>
                  <a:pt x="49047" y="32016"/>
                  <a:pt x="46316" y="36880"/>
                </a:cubicBezTo>
                <a:cubicBezTo>
                  <a:pt x="43586" y="41757"/>
                  <a:pt x="38430" y="47942"/>
                  <a:pt x="30848" y="55473"/>
                </a:cubicBezTo>
                <a:lnTo>
                  <a:pt x="12230" y="73672"/>
                </a:lnTo>
                <a:lnTo>
                  <a:pt x="12230" y="73876"/>
                </a:lnTo>
                <a:lnTo>
                  <a:pt x="49669" y="73876"/>
                </a:lnTo>
                <a:lnTo>
                  <a:pt x="49669" y="8305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2344320" y="4752000"/>
            <a:ext cx="48600" cy="95040"/>
          </a:xfrm>
          <a:custGeom>
            <a:avLst/>
            <a:gdLst>
              <a:gd name="textAreaLeft" fmla="*/ 0 w 48600"/>
              <a:gd name="textAreaRight" fmla="*/ 48960 w 486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8831" h="95250">
                <a:moveTo>
                  <a:pt x="24415" y="0"/>
                </a:moveTo>
                <a:lnTo>
                  <a:pt x="24415" y="95250"/>
                </a:lnTo>
              </a:path>
            </a:pathLst>
          </a:custGeom>
          <a:noFill/>
          <a:ln w="508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2399760" y="4750560"/>
            <a:ext cx="47520" cy="84240"/>
          </a:xfrm>
          <a:custGeom>
            <a:avLst/>
            <a:gdLst>
              <a:gd name="textAreaLeft" fmla="*/ 0 w 47520"/>
              <a:gd name="textAreaRight" fmla="*/ 47880 w 47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7777" h="84442">
                <a:moveTo>
                  <a:pt x="0" y="69405"/>
                </a:moveTo>
                <a:cubicBezTo>
                  <a:pt x="5588" y="73723"/>
                  <a:pt x="11899" y="75882"/>
                  <a:pt x="18922" y="75882"/>
                </a:cubicBezTo>
                <a:cubicBezTo>
                  <a:pt x="24561" y="75882"/>
                  <a:pt x="29006" y="74510"/>
                  <a:pt x="32296" y="71754"/>
                </a:cubicBezTo>
                <a:cubicBezTo>
                  <a:pt x="35585" y="68986"/>
                  <a:pt x="37236" y="65290"/>
                  <a:pt x="37236" y="60655"/>
                </a:cubicBezTo>
                <a:cubicBezTo>
                  <a:pt x="37236" y="50304"/>
                  <a:pt x="29832" y="45148"/>
                  <a:pt x="15036" y="45148"/>
                </a:cubicBezTo>
                <a:lnTo>
                  <a:pt x="8216" y="45148"/>
                </a:lnTo>
                <a:lnTo>
                  <a:pt x="8216" y="36601"/>
                </a:lnTo>
                <a:lnTo>
                  <a:pt x="14706" y="36601"/>
                </a:lnTo>
                <a:cubicBezTo>
                  <a:pt x="27825" y="36601"/>
                  <a:pt x="34378" y="31750"/>
                  <a:pt x="34378" y="22047"/>
                </a:cubicBezTo>
                <a:cubicBezTo>
                  <a:pt x="34378" y="13068"/>
                  <a:pt x="29375" y="8597"/>
                  <a:pt x="19342" y="8597"/>
                </a:cubicBezTo>
                <a:cubicBezTo>
                  <a:pt x="13614" y="8597"/>
                  <a:pt x="8216" y="10528"/>
                  <a:pt x="3162" y="14401"/>
                </a:cubicBezTo>
                <a:lnTo>
                  <a:pt x="3162" y="4635"/>
                </a:lnTo>
                <a:cubicBezTo>
                  <a:pt x="8508" y="1549"/>
                  <a:pt x="14744" y="0"/>
                  <a:pt x="21894" y="0"/>
                </a:cubicBezTo>
                <a:cubicBezTo>
                  <a:pt x="28841" y="0"/>
                  <a:pt x="34442" y="1828"/>
                  <a:pt x="38658" y="5460"/>
                </a:cubicBezTo>
                <a:cubicBezTo>
                  <a:pt x="42875" y="9105"/>
                  <a:pt x="44983" y="13817"/>
                  <a:pt x="44983" y="19621"/>
                </a:cubicBezTo>
                <a:cubicBezTo>
                  <a:pt x="44983" y="30314"/>
                  <a:pt x="39534" y="37185"/>
                  <a:pt x="28638" y="40233"/>
                </a:cubicBezTo>
                <a:lnTo>
                  <a:pt x="28638" y="40461"/>
                </a:lnTo>
                <a:cubicBezTo>
                  <a:pt x="34544" y="41084"/>
                  <a:pt x="39204" y="43167"/>
                  <a:pt x="42633" y="46710"/>
                </a:cubicBezTo>
                <a:cubicBezTo>
                  <a:pt x="46062" y="50228"/>
                  <a:pt x="47777" y="54635"/>
                  <a:pt x="47777" y="59905"/>
                </a:cubicBezTo>
                <a:cubicBezTo>
                  <a:pt x="47777" y="67259"/>
                  <a:pt x="45135" y="73177"/>
                  <a:pt x="39839" y="77685"/>
                </a:cubicBezTo>
                <a:cubicBezTo>
                  <a:pt x="34556" y="82181"/>
                  <a:pt x="27508" y="84442"/>
                  <a:pt x="18719" y="84442"/>
                </a:cubicBezTo>
                <a:cubicBezTo>
                  <a:pt x="10985" y="84442"/>
                  <a:pt x="4749" y="82994"/>
                  <a:pt x="0" y="80111"/>
                </a:cubicBezTo>
                <a:lnTo>
                  <a:pt x="0" y="69405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600" bIns="39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404280" y="4906800"/>
            <a:ext cx="46080" cy="82800"/>
          </a:xfrm>
          <a:custGeom>
            <a:avLst/>
            <a:gdLst>
              <a:gd name="textAreaLeft" fmla="*/ 0 w 46080"/>
              <a:gd name="textAreaRight" fmla="*/ 46440 w 460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6393" h="83070">
                <a:moveTo>
                  <a:pt x="0" y="69138"/>
                </a:moveTo>
                <a:cubicBezTo>
                  <a:pt x="5486" y="72719"/>
                  <a:pt x="11188" y="74510"/>
                  <a:pt x="17132" y="74510"/>
                </a:cubicBezTo>
                <a:cubicBezTo>
                  <a:pt x="22758" y="74510"/>
                  <a:pt x="27292" y="72948"/>
                  <a:pt x="30734" y="69799"/>
                </a:cubicBezTo>
                <a:cubicBezTo>
                  <a:pt x="34175" y="66649"/>
                  <a:pt x="35902" y="62483"/>
                  <a:pt x="35902" y="57264"/>
                </a:cubicBezTo>
                <a:cubicBezTo>
                  <a:pt x="35902" y="52031"/>
                  <a:pt x="34150" y="47967"/>
                  <a:pt x="30657" y="45084"/>
                </a:cubicBezTo>
                <a:cubicBezTo>
                  <a:pt x="27165" y="42214"/>
                  <a:pt x="22085" y="40779"/>
                  <a:pt x="15443" y="40779"/>
                </a:cubicBezTo>
                <a:cubicBezTo>
                  <a:pt x="12242" y="40779"/>
                  <a:pt x="7937" y="41020"/>
                  <a:pt x="2527" y="41503"/>
                </a:cubicBezTo>
                <a:lnTo>
                  <a:pt x="2527" y="0"/>
                </a:lnTo>
                <a:lnTo>
                  <a:pt x="42710" y="0"/>
                </a:lnTo>
                <a:lnTo>
                  <a:pt x="42710" y="9118"/>
                </a:lnTo>
                <a:lnTo>
                  <a:pt x="12128" y="9118"/>
                </a:lnTo>
                <a:lnTo>
                  <a:pt x="12128" y="32219"/>
                </a:lnTo>
                <a:cubicBezTo>
                  <a:pt x="15176" y="32041"/>
                  <a:pt x="17487" y="31965"/>
                  <a:pt x="19037" y="31965"/>
                </a:cubicBezTo>
                <a:cubicBezTo>
                  <a:pt x="27647" y="31965"/>
                  <a:pt x="34353" y="34137"/>
                  <a:pt x="39179" y="38493"/>
                </a:cubicBezTo>
                <a:cubicBezTo>
                  <a:pt x="43992" y="42862"/>
                  <a:pt x="46393" y="48869"/>
                  <a:pt x="46393" y="56540"/>
                </a:cubicBezTo>
                <a:cubicBezTo>
                  <a:pt x="46393" y="64439"/>
                  <a:pt x="43815" y="70840"/>
                  <a:pt x="38646" y="75729"/>
                </a:cubicBezTo>
                <a:cubicBezTo>
                  <a:pt x="33489" y="80606"/>
                  <a:pt x="26339" y="83070"/>
                  <a:pt x="17233" y="83070"/>
                </a:cubicBezTo>
                <a:cubicBezTo>
                  <a:pt x="9613" y="83070"/>
                  <a:pt x="3860" y="81940"/>
                  <a:pt x="0" y="79692"/>
                </a:cubicBezTo>
                <a:lnTo>
                  <a:pt x="0" y="6913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505800" y="497664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98">
                <a:moveTo>
                  <a:pt x="6807" y="0"/>
                </a:moveTo>
                <a:cubicBezTo>
                  <a:pt x="8661" y="0"/>
                  <a:pt x="10261" y="647"/>
                  <a:pt x="11595" y="1930"/>
                </a:cubicBezTo>
                <a:cubicBezTo>
                  <a:pt x="12928" y="3251"/>
                  <a:pt x="13601" y="4826"/>
                  <a:pt x="13601" y="6693"/>
                </a:cubicBezTo>
                <a:cubicBezTo>
                  <a:pt x="13601" y="8585"/>
                  <a:pt x="12928" y="10172"/>
                  <a:pt x="11595" y="11455"/>
                </a:cubicBezTo>
                <a:cubicBezTo>
                  <a:pt x="10261" y="12750"/>
                  <a:pt x="8661" y="13398"/>
                  <a:pt x="6807" y="13398"/>
                </a:cubicBezTo>
                <a:cubicBezTo>
                  <a:pt x="4940" y="13398"/>
                  <a:pt x="3340" y="12750"/>
                  <a:pt x="2006" y="11455"/>
                </a:cubicBezTo>
                <a:cubicBezTo>
                  <a:pt x="673" y="10172"/>
                  <a:pt x="0" y="8585"/>
                  <a:pt x="0" y="6693"/>
                </a:cubicBezTo>
                <a:cubicBezTo>
                  <a:pt x="0" y="4826"/>
                  <a:pt x="673" y="3251"/>
                  <a:pt x="2006" y="1930"/>
                </a:cubicBezTo>
                <a:cubicBezTo>
                  <a:pt x="3340" y="647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217160" y="4900680"/>
            <a:ext cx="102240" cy="95040"/>
          </a:xfrm>
          <a:custGeom>
            <a:avLst/>
            <a:gdLst>
              <a:gd name="textAreaLeft" fmla="*/ 0 w 102240"/>
              <a:gd name="textAreaRight" fmla="*/ 102600 w 1022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02616" h="95554">
                <a:moveTo>
                  <a:pt x="0" y="87109"/>
                </a:moveTo>
                <a:lnTo>
                  <a:pt x="41351" y="87109"/>
                </a:lnTo>
                <a:lnTo>
                  <a:pt x="41351" y="0"/>
                </a:lnTo>
                <a:lnTo>
                  <a:pt x="50939" y="0"/>
                </a:lnTo>
                <a:lnTo>
                  <a:pt x="50939" y="31737"/>
                </a:lnTo>
                <a:lnTo>
                  <a:pt x="94297" y="31737"/>
                </a:lnTo>
                <a:lnTo>
                  <a:pt x="94297" y="40182"/>
                </a:lnTo>
                <a:lnTo>
                  <a:pt x="50939" y="40182"/>
                </a:lnTo>
                <a:lnTo>
                  <a:pt x="50939" y="87109"/>
                </a:lnTo>
                <a:lnTo>
                  <a:pt x="102616" y="87109"/>
                </a:lnTo>
                <a:lnTo>
                  <a:pt x="102616" y="95554"/>
                </a:lnTo>
                <a:lnTo>
                  <a:pt x="0" y="95554"/>
                </a:lnTo>
                <a:lnTo>
                  <a:pt x="0" y="8710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1432440" y="4905000"/>
            <a:ext cx="103680" cy="96480"/>
          </a:xfrm>
          <a:custGeom>
            <a:avLst/>
            <a:gdLst>
              <a:gd name="textAreaLeft" fmla="*/ 0 w 103680"/>
              <a:gd name="textAreaRight" fmla="*/ 104040 w 10368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104203" h="96825">
                <a:moveTo>
                  <a:pt x="0" y="41554"/>
                </a:moveTo>
                <a:lnTo>
                  <a:pt x="49034" y="41554"/>
                </a:lnTo>
                <a:lnTo>
                  <a:pt x="49034" y="29946"/>
                </a:lnTo>
                <a:lnTo>
                  <a:pt x="79311" y="7911"/>
                </a:lnTo>
                <a:lnTo>
                  <a:pt x="11074" y="7911"/>
                </a:lnTo>
                <a:lnTo>
                  <a:pt x="11074" y="0"/>
                </a:lnTo>
                <a:lnTo>
                  <a:pt x="93344" y="0"/>
                </a:lnTo>
                <a:lnTo>
                  <a:pt x="93344" y="8216"/>
                </a:lnTo>
                <a:lnTo>
                  <a:pt x="58000" y="34061"/>
                </a:lnTo>
                <a:lnTo>
                  <a:pt x="58000" y="41554"/>
                </a:lnTo>
                <a:lnTo>
                  <a:pt x="104203" y="41554"/>
                </a:lnTo>
                <a:lnTo>
                  <a:pt x="104203" y="49466"/>
                </a:lnTo>
                <a:lnTo>
                  <a:pt x="58000" y="49466"/>
                </a:lnTo>
                <a:lnTo>
                  <a:pt x="58000" y="82677"/>
                </a:lnTo>
                <a:cubicBezTo>
                  <a:pt x="58000" y="92100"/>
                  <a:pt x="53086" y="96824"/>
                  <a:pt x="43243" y="96824"/>
                </a:cubicBezTo>
                <a:cubicBezTo>
                  <a:pt x="40005" y="96824"/>
                  <a:pt x="34455" y="96748"/>
                  <a:pt x="26581" y="96596"/>
                </a:cubicBezTo>
                <a:cubicBezTo>
                  <a:pt x="26288" y="93789"/>
                  <a:pt x="25869" y="90589"/>
                  <a:pt x="25311" y="87007"/>
                </a:cubicBezTo>
                <a:cubicBezTo>
                  <a:pt x="30441" y="87642"/>
                  <a:pt x="35852" y="87985"/>
                  <a:pt x="41554" y="88061"/>
                </a:cubicBezTo>
                <a:cubicBezTo>
                  <a:pt x="46545" y="88061"/>
                  <a:pt x="49034" y="85534"/>
                  <a:pt x="49034" y="80467"/>
                </a:cubicBezTo>
                <a:lnTo>
                  <a:pt x="49034" y="49466"/>
                </a:lnTo>
                <a:lnTo>
                  <a:pt x="0" y="49466"/>
                </a:lnTo>
                <a:lnTo>
                  <a:pt x="0" y="41554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21840" y="497556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8">
                <a:moveTo>
                  <a:pt x="16293" y="0"/>
                </a:moveTo>
                <a:lnTo>
                  <a:pt x="7378" y="28118"/>
                </a:lnTo>
                <a:lnTo>
                  <a:pt x="0" y="28118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512440" y="4905000"/>
            <a:ext cx="103680" cy="96480"/>
          </a:xfrm>
          <a:custGeom>
            <a:avLst/>
            <a:gdLst>
              <a:gd name="textAreaLeft" fmla="*/ 0 w 103680"/>
              <a:gd name="textAreaRight" fmla="*/ 104040 w 10368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104203" h="96825">
                <a:moveTo>
                  <a:pt x="0" y="41554"/>
                </a:moveTo>
                <a:lnTo>
                  <a:pt x="49034" y="41554"/>
                </a:lnTo>
                <a:lnTo>
                  <a:pt x="49034" y="29946"/>
                </a:lnTo>
                <a:lnTo>
                  <a:pt x="79311" y="7911"/>
                </a:lnTo>
                <a:lnTo>
                  <a:pt x="11074" y="7911"/>
                </a:lnTo>
                <a:lnTo>
                  <a:pt x="11074" y="0"/>
                </a:lnTo>
                <a:lnTo>
                  <a:pt x="93344" y="0"/>
                </a:lnTo>
                <a:lnTo>
                  <a:pt x="93344" y="8216"/>
                </a:lnTo>
                <a:lnTo>
                  <a:pt x="58000" y="34061"/>
                </a:lnTo>
                <a:lnTo>
                  <a:pt x="58000" y="41554"/>
                </a:lnTo>
                <a:lnTo>
                  <a:pt x="104203" y="41554"/>
                </a:lnTo>
                <a:lnTo>
                  <a:pt x="104203" y="49466"/>
                </a:lnTo>
                <a:lnTo>
                  <a:pt x="58000" y="49466"/>
                </a:lnTo>
                <a:lnTo>
                  <a:pt x="58000" y="82677"/>
                </a:lnTo>
                <a:cubicBezTo>
                  <a:pt x="58000" y="92100"/>
                  <a:pt x="53085" y="96824"/>
                  <a:pt x="43243" y="96824"/>
                </a:cubicBezTo>
                <a:cubicBezTo>
                  <a:pt x="40004" y="96824"/>
                  <a:pt x="34455" y="96748"/>
                  <a:pt x="26580" y="96596"/>
                </a:cubicBezTo>
                <a:cubicBezTo>
                  <a:pt x="26288" y="93789"/>
                  <a:pt x="25869" y="90589"/>
                  <a:pt x="25311" y="87007"/>
                </a:cubicBezTo>
                <a:cubicBezTo>
                  <a:pt x="30441" y="87642"/>
                  <a:pt x="35852" y="87985"/>
                  <a:pt x="41554" y="88061"/>
                </a:cubicBezTo>
                <a:cubicBezTo>
                  <a:pt x="46545" y="88061"/>
                  <a:pt x="49034" y="85534"/>
                  <a:pt x="49034" y="80467"/>
                </a:cubicBezTo>
                <a:lnTo>
                  <a:pt x="49034" y="49466"/>
                </a:lnTo>
                <a:lnTo>
                  <a:pt x="0" y="49466"/>
                </a:lnTo>
                <a:lnTo>
                  <a:pt x="0" y="41554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505800" y="513144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98">
                <a:moveTo>
                  <a:pt x="6807" y="0"/>
                </a:moveTo>
                <a:cubicBezTo>
                  <a:pt x="8661" y="0"/>
                  <a:pt x="10261" y="647"/>
                  <a:pt x="11595" y="1930"/>
                </a:cubicBezTo>
                <a:cubicBezTo>
                  <a:pt x="12928" y="3251"/>
                  <a:pt x="13601" y="4826"/>
                  <a:pt x="13601" y="6693"/>
                </a:cubicBezTo>
                <a:cubicBezTo>
                  <a:pt x="13601" y="8585"/>
                  <a:pt x="12928" y="10172"/>
                  <a:pt x="11595" y="11455"/>
                </a:cubicBezTo>
                <a:cubicBezTo>
                  <a:pt x="10261" y="12750"/>
                  <a:pt x="8661" y="13398"/>
                  <a:pt x="6807" y="13398"/>
                </a:cubicBezTo>
                <a:cubicBezTo>
                  <a:pt x="4940" y="13398"/>
                  <a:pt x="3340" y="12750"/>
                  <a:pt x="2006" y="11455"/>
                </a:cubicBezTo>
                <a:cubicBezTo>
                  <a:pt x="673" y="10172"/>
                  <a:pt x="0" y="8585"/>
                  <a:pt x="0" y="6693"/>
                </a:cubicBezTo>
                <a:cubicBezTo>
                  <a:pt x="0" y="4826"/>
                  <a:pt x="673" y="3251"/>
                  <a:pt x="2006" y="1930"/>
                </a:cubicBezTo>
                <a:cubicBezTo>
                  <a:pt x="3340" y="647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901080" y="5054760"/>
            <a:ext cx="86040" cy="101520"/>
          </a:xfrm>
          <a:custGeom>
            <a:avLst/>
            <a:gdLst>
              <a:gd name="textAreaLeft" fmla="*/ 0 w 86040"/>
              <a:gd name="textAreaRight" fmla="*/ 86400 w 86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283" h="101993">
                <a:moveTo>
                  <a:pt x="0" y="18148"/>
                </a:moveTo>
                <a:lnTo>
                  <a:pt x="38912" y="18148"/>
                </a:lnTo>
                <a:lnTo>
                  <a:pt x="38912" y="0"/>
                </a:lnTo>
                <a:lnTo>
                  <a:pt x="47574" y="0"/>
                </a:lnTo>
                <a:lnTo>
                  <a:pt x="47574" y="18148"/>
                </a:lnTo>
                <a:lnTo>
                  <a:pt x="86283" y="18148"/>
                </a:lnTo>
                <a:lnTo>
                  <a:pt x="86283" y="87744"/>
                </a:lnTo>
                <a:cubicBezTo>
                  <a:pt x="86283" y="96685"/>
                  <a:pt x="81876" y="101117"/>
                  <a:pt x="73101" y="101041"/>
                </a:cubicBezTo>
                <a:cubicBezTo>
                  <a:pt x="68452" y="101041"/>
                  <a:pt x="62750" y="100965"/>
                  <a:pt x="56006" y="100825"/>
                </a:cubicBezTo>
                <a:cubicBezTo>
                  <a:pt x="55803" y="98437"/>
                  <a:pt x="55270" y="95389"/>
                  <a:pt x="54419" y="91656"/>
                </a:cubicBezTo>
                <a:cubicBezTo>
                  <a:pt x="61112" y="92214"/>
                  <a:pt x="66662" y="92532"/>
                  <a:pt x="71094" y="92608"/>
                </a:cubicBezTo>
                <a:cubicBezTo>
                  <a:pt x="75514" y="92735"/>
                  <a:pt x="77736" y="90525"/>
                  <a:pt x="77736" y="85966"/>
                </a:cubicBezTo>
                <a:lnTo>
                  <a:pt x="77736" y="26161"/>
                </a:lnTo>
                <a:lnTo>
                  <a:pt x="47358" y="26161"/>
                </a:lnTo>
                <a:cubicBezTo>
                  <a:pt x="47078" y="32562"/>
                  <a:pt x="46304" y="38252"/>
                  <a:pt x="45046" y="43256"/>
                </a:cubicBezTo>
                <a:cubicBezTo>
                  <a:pt x="57480" y="53225"/>
                  <a:pt x="67538" y="62026"/>
                  <a:pt x="75209" y="69621"/>
                </a:cubicBezTo>
                <a:lnTo>
                  <a:pt x="68770" y="76466"/>
                </a:lnTo>
                <a:cubicBezTo>
                  <a:pt x="61239" y="68236"/>
                  <a:pt x="52489" y="59690"/>
                  <a:pt x="42506" y="50837"/>
                </a:cubicBezTo>
                <a:cubicBezTo>
                  <a:pt x="37731" y="61175"/>
                  <a:pt x="28625" y="70180"/>
                  <a:pt x="15189" y="77838"/>
                </a:cubicBezTo>
                <a:cubicBezTo>
                  <a:pt x="12242" y="73761"/>
                  <a:pt x="10274" y="71234"/>
                  <a:pt x="9283" y="70243"/>
                </a:cubicBezTo>
                <a:cubicBezTo>
                  <a:pt x="20751" y="64198"/>
                  <a:pt x="28587" y="57493"/>
                  <a:pt x="32804" y="50101"/>
                </a:cubicBezTo>
                <a:cubicBezTo>
                  <a:pt x="36182" y="44691"/>
                  <a:pt x="38150" y="36703"/>
                  <a:pt x="38709" y="26161"/>
                </a:cubicBezTo>
                <a:lnTo>
                  <a:pt x="8547" y="26161"/>
                </a:lnTo>
                <a:lnTo>
                  <a:pt x="8547" y="101993"/>
                </a:lnTo>
                <a:lnTo>
                  <a:pt x="0" y="101993"/>
                </a:lnTo>
                <a:lnTo>
                  <a:pt x="0" y="1814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1756800" y="5053680"/>
            <a:ext cx="97560" cy="103320"/>
          </a:xfrm>
          <a:custGeom>
            <a:avLst/>
            <a:gdLst>
              <a:gd name="textAreaLeft" fmla="*/ 0 w 97560"/>
              <a:gd name="textAreaRight" fmla="*/ 97920 w 975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97878" h="103670">
                <a:moveTo>
                  <a:pt x="28168" y="0"/>
                </a:moveTo>
                <a:lnTo>
                  <a:pt x="36817" y="2324"/>
                </a:lnTo>
                <a:cubicBezTo>
                  <a:pt x="34912" y="7353"/>
                  <a:pt x="32892" y="12128"/>
                  <a:pt x="30746" y="16662"/>
                </a:cubicBezTo>
                <a:lnTo>
                  <a:pt x="97878" y="16662"/>
                </a:lnTo>
                <a:cubicBezTo>
                  <a:pt x="96748" y="46393"/>
                  <a:pt x="95834" y="67145"/>
                  <a:pt x="95135" y="78892"/>
                </a:cubicBezTo>
                <a:cubicBezTo>
                  <a:pt x="94576" y="93027"/>
                  <a:pt x="87922" y="100088"/>
                  <a:pt x="75196" y="100088"/>
                </a:cubicBezTo>
                <a:cubicBezTo>
                  <a:pt x="69850" y="100088"/>
                  <a:pt x="63322" y="99910"/>
                  <a:pt x="55587" y="99555"/>
                </a:cubicBezTo>
                <a:cubicBezTo>
                  <a:pt x="55308" y="96545"/>
                  <a:pt x="54813" y="93446"/>
                  <a:pt x="54114" y="90271"/>
                </a:cubicBezTo>
                <a:cubicBezTo>
                  <a:pt x="61214" y="91198"/>
                  <a:pt x="67741" y="91656"/>
                  <a:pt x="73723" y="91656"/>
                </a:cubicBezTo>
                <a:cubicBezTo>
                  <a:pt x="81813" y="91656"/>
                  <a:pt x="86131" y="87045"/>
                  <a:pt x="86690" y="77838"/>
                </a:cubicBezTo>
                <a:cubicBezTo>
                  <a:pt x="87541" y="64135"/>
                  <a:pt x="88341" y="46329"/>
                  <a:pt x="89128" y="24472"/>
                </a:cubicBezTo>
                <a:lnTo>
                  <a:pt x="74561" y="24472"/>
                </a:lnTo>
                <a:cubicBezTo>
                  <a:pt x="72110" y="60109"/>
                  <a:pt x="55905" y="86512"/>
                  <a:pt x="25946" y="103670"/>
                </a:cubicBezTo>
                <a:cubicBezTo>
                  <a:pt x="24053" y="101143"/>
                  <a:pt x="22148" y="98755"/>
                  <a:pt x="20256" y="96507"/>
                </a:cubicBezTo>
                <a:cubicBezTo>
                  <a:pt x="48234" y="80479"/>
                  <a:pt x="63423" y="56464"/>
                  <a:pt x="65824" y="24472"/>
                </a:cubicBezTo>
                <a:lnTo>
                  <a:pt x="49733" y="24472"/>
                </a:lnTo>
                <a:cubicBezTo>
                  <a:pt x="45402" y="50685"/>
                  <a:pt x="31216" y="71183"/>
                  <a:pt x="7175" y="85966"/>
                </a:cubicBezTo>
                <a:cubicBezTo>
                  <a:pt x="5346" y="83426"/>
                  <a:pt x="3492" y="81076"/>
                  <a:pt x="1587" y="78892"/>
                </a:cubicBezTo>
                <a:cubicBezTo>
                  <a:pt x="23799" y="65252"/>
                  <a:pt x="36944" y="47116"/>
                  <a:pt x="41033" y="24472"/>
                </a:cubicBezTo>
                <a:lnTo>
                  <a:pt x="26695" y="24472"/>
                </a:lnTo>
                <a:cubicBezTo>
                  <a:pt x="20853" y="35014"/>
                  <a:pt x="14109" y="43980"/>
                  <a:pt x="6438" y="51358"/>
                </a:cubicBezTo>
                <a:cubicBezTo>
                  <a:pt x="4610" y="49403"/>
                  <a:pt x="2463" y="47320"/>
                  <a:pt x="0" y="45136"/>
                </a:cubicBezTo>
                <a:cubicBezTo>
                  <a:pt x="12382" y="33185"/>
                  <a:pt x="21767" y="18148"/>
                  <a:pt x="28168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337840" y="513036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7">
                <a:moveTo>
                  <a:pt x="16294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2621160" y="5053680"/>
            <a:ext cx="102960" cy="95040"/>
          </a:xfrm>
          <a:custGeom>
            <a:avLst/>
            <a:gdLst>
              <a:gd name="textAreaLeft" fmla="*/ 0 w 102960"/>
              <a:gd name="textAreaRight" fmla="*/ 103320 w 1029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03352" h="95453">
                <a:moveTo>
                  <a:pt x="0" y="86804"/>
                </a:moveTo>
                <a:lnTo>
                  <a:pt x="18669" y="86804"/>
                </a:lnTo>
                <a:lnTo>
                  <a:pt x="18669" y="19621"/>
                </a:lnTo>
                <a:lnTo>
                  <a:pt x="27520" y="19621"/>
                </a:lnTo>
                <a:lnTo>
                  <a:pt x="27520" y="86804"/>
                </a:lnTo>
                <a:lnTo>
                  <a:pt x="53365" y="86804"/>
                </a:lnTo>
                <a:lnTo>
                  <a:pt x="53365" y="0"/>
                </a:lnTo>
                <a:lnTo>
                  <a:pt x="62433" y="0"/>
                </a:lnTo>
                <a:lnTo>
                  <a:pt x="62433" y="31000"/>
                </a:lnTo>
                <a:lnTo>
                  <a:pt x="97764" y="31000"/>
                </a:lnTo>
                <a:lnTo>
                  <a:pt x="97764" y="39446"/>
                </a:lnTo>
                <a:lnTo>
                  <a:pt x="62433" y="39446"/>
                </a:lnTo>
                <a:lnTo>
                  <a:pt x="62433" y="86804"/>
                </a:lnTo>
                <a:lnTo>
                  <a:pt x="103352" y="86804"/>
                </a:lnTo>
                <a:lnTo>
                  <a:pt x="103352" y="95453"/>
                </a:lnTo>
                <a:lnTo>
                  <a:pt x="0" y="95453"/>
                </a:lnTo>
                <a:lnTo>
                  <a:pt x="0" y="86804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3168360" y="5055480"/>
            <a:ext cx="87840" cy="100440"/>
          </a:xfrm>
          <a:custGeom>
            <a:avLst/>
            <a:gdLst>
              <a:gd name="textAreaLeft" fmla="*/ 0 w 87840"/>
              <a:gd name="textAreaRight" fmla="*/ 88200 w 87840"/>
              <a:gd name="textAreaTop" fmla="*/ 0 h 100440"/>
              <a:gd name="textAreaBottom" fmla="*/ 100800 h 100440"/>
            </a:gdLst>
            <a:ahLst/>
            <a:rect l="textAreaLeft" t="textAreaTop" r="textAreaRight" b="textAreaBottom"/>
            <a:pathLst>
              <a:path w="88176" h="100723">
                <a:moveTo>
                  <a:pt x="76149" y="51473"/>
                </a:moveTo>
                <a:lnTo>
                  <a:pt x="76149" y="47574"/>
                </a:lnTo>
                <a:lnTo>
                  <a:pt x="48412" y="47574"/>
                </a:lnTo>
                <a:lnTo>
                  <a:pt x="48412" y="88912"/>
                </a:lnTo>
                <a:lnTo>
                  <a:pt x="79311" y="88912"/>
                </a:lnTo>
                <a:lnTo>
                  <a:pt x="79311" y="58851"/>
                </a:lnTo>
                <a:lnTo>
                  <a:pt x="88176" y="58851"/>
                </a:lnTo>
                <a:lnTo>
                  <a:pt x="88176" y="100723"/>
                </a:lnTo>
                <a:lnTo>
                  <a:pt x="79311" y="100723"/>
                </a:lnTo>
                <a:lnTo>
                  <a:pt x="79311" y="96926"/>
                </a:lnTo>
                <a:lnTo>
                  <a:pt x="0" y="96926"/>
                </a:lnTo>
                <a:lnTo>
                  <a:pt x="0" y="58851"/>
                </a:lnTo>
                <a:lnTo>
                  <a:pt x="8966" y="58851"/>
                </a:lnTo>
                <a:lnTo>
                  <a:pt x="8966" y="88912"/>
                </a:lnTo>
                <a:lnTo>
                  <a:pt x="39243" y="88912"/>
                </a:lnTo>
                <a:lnTo>
                  <a:pt x="39243" y="47574"/>
                </a:lnTo>
                <a:lnTo>
                  <a:pt x="2857" y="47574"/>
                </a:lnTo>
                <a:lnTo>
                  <a:pt x="2857" y="9702"/>
                </a:lnTo>
                <a:lnTo>
                  <a:pt x="11823" y="9702"/>
                </a:lnTo>
                <a:lnTo>
                  <a:pt x="11823" y="39560"/>
                </a:lnTo>
                <a:lnTo>
                  <a:pt x="39243" y="39560"/>
                </a:lnTo>
                <a:lnTo>
                  <a:pt x="39243" y="0"/>
                </a:lnTo>
                <a:lnTo>
                  <a:pt x="48412" y="0"/>
                </a:lnTo>
                <a:lnTo>
                  <a:pt x="48412" y="39560"/>
                </a:lnTo>
                <a:lnTo>
                  <a:pt x="76149" y="39560"/>
                </a:lnTo>
                <a:lnTo>
                  <a:pt x="76149" y="9702"/>
                </a:lnTo>
                <a:lnTo>
                  <a:pt x="85115" y="9702"/>
                </a:lnTo>
                <a:lnTo>
                  <a:pt x="85115" y="51473"/>
                </a:lnTo>
                <a:lnTo>
                  <a:pt x="76149" y="51473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399960" y="5216760"/>
            <a:ext cx="52560" cy="81360"/>
          </a:xfrm>
          <a:custGeom>
            <a:avLst/>
            <a:gdLst>
              <a:gd name="textAreaLeft" fmla="*/ 0 w 52560"/>
              <a:gd name="textAreaRight" fmla="*/ 52920 w 52560"/>
              <a:gd name="textAreaTop" fmla="*/ 0 h 81360"/>
              <a:gd name="textAreaBottom" fmla="*/ 81720 h 81360"/>
            </a:gdLst>
            <a:ahLst/>
            <a:rect l="textAreaLeft" t="textAreaTop" r="textAreaRight" b="textAreaBottom"/>
            <a:pathLst>
              <a:path w="53098" h="81686">
                <a:moveTo>
                  <a:pt x="53098" y="3593"/>
                </a:moveTo>
                <a:lnTo>
                  <a:pt x="21145" y="81686"/>
                </a:lnTo>
                <a:lnTo>
                  <a:pt x="10452" y="81686"/>
                </a:lnTo>
                <a:lnTo>
                  <a:pt x="40817" y="9131"/>
                </a:lnTo>
                <a:lnTo>
                  <a:pt x="0" y="9131"/>
                </a:lnTo>
                <a:lnTo>
                  <a:pt x="0" y="0"/>
                </a:lnTo>
                <a:lnTo>
                  <a:pt x="53098" y="0"/>
                </a:lnTo>
                <a:lnTo>
                  <a:pt x="53098" y="3593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505800" y="528660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98">
                <a:moveTo>
                  <a:pt x="6807" y="0"/>
                </a:moveTo>
                <a:cubicBezTo>
                  <a:pt x="8661" y="0"/>
                  <a:pt x="10261" y="647"/>
                  <a:pt x="11595" y="1930"/>
                </a:cubicBezTo>
                <a:cubicBezTo>
                  <a:pt x="12928" y="3250"/>
                  <a:pt x="13601" y="4825"/>
                  <a:pt x="13601" y="6692"/>
                </a:cubicBezTo>
                <a:cubicBezTo>
                  <a:pt x="13601" y="8585"/>
                  <a:pt x="12928" y="10172"/>
                  <a:pt x="11595" y="11455"/>
                </a:cubicBezTo>
                <a:cubicBezTo>
                  <a:pt x="10261" y="12750"/>
                  <a:pt x="8661" y="13398"/>
                  <a:pt x="6807" y="13398"/>
                </a:cubicBezTo>
                <a:cubicBezTo>
                  <a:pt x="4940" y="13398"/>
                  <a:pt x="3340" y="12750"/>
                  <a:pt x="2006" y="11455"/>
                </a:cubicBezTo>
                <a:cubicBezTo>
                  <a:pt x="673" y="10172"/>
                  <a:pt x="0" y="8585"/>
                  <a:pt x="0" y="6692"/>
                </a:cubicBezTo>
                <a:cubicBezTo>
                  <a:pt x="0" y="4825"/>
                  <a:pt x="673" y="3250"/>
                  <a:pt x="2006" y="1930"/>
                </a:cubicBezTo>
                <a:cubicBezTo>
                  <a:pt x="3340" y="647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1118160" y="5215680"/>
            <a:ext cx="94320" cy="92520"/>
          </a:xfrm>
          <a:custGeom>
            <a:avLst/>
            <a:gdLst>
              <a:gd name="textAreaLeft" fmla="*/ 0 w 94320"/>
              <a:gd name="textAreaRight" fmla="*/ 94680 w 9432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94716" h="93027">
                <a:moveTo>
                  <a:pt x="10769" y="42836"/>
                </a:moveTo>
                <a:lnTo>
                  <a:pt x="10769" y="74879"/>
                </a:lnTo>
                <a:cubicBezTo>
                  <a:pt x="10769" y="81355"/>
                  <a:pt x="13931" y="84594"/>
                  <a:pt x="20256" y="84594"/>
                </a:cubicBezTo>
                <a:lnTo>
                  <a:pt x="71932" y="84594"/>
                </a:lnTo>
                <a:cubicBezTo>
                  <a:pt x="78130" y="84594"/>
                  <a:pt x="81788" y="82625"/>
                  <a:pt x="82918" y="78676"/>
                </a:cubicBezTo>
                <a:cubicBezTo>
                  <a:pt x="83972" y="75450"/>
                  <a:pt x="84836" y="69748"/>
                  <a:pt x="85547" y="61607"/>
                </a:cubicBezTo>
                <a:cubicBezTo>
                  <a:pt x="88417" y="62801"/>
                  <a:pt x="91478" y="63842"/>
                  <a:pt x="94716" y="64769"/>
                </a:cubicBezTo>
                <a:cubicBezTo>
                  <a:pt x="93662" y="72643"/>
                  <a:pt x="92646" y="78308"/>
                  <a:pt x="91655" y="81736"/>
                </a:cubicBezTo>
                <a:cubicBezTo>
                  <a:pt x="89903" y="89268"/>
                  <a:pt x="84099" y="93027"/>
                  <a:pt x="74256" y="93027"/>
                </a:cubicBezTo>
                <a:lnTo>
                  <a:pt x="18897" y="93027"/>
                </a:lnTo>
                <a:cubicBezTo>
                  <a:pt x="7708" y="93027"/>
                  <a:pt x="2120" y="87185"/>
                  <a:pt x="2120" y="75526"/>
                </a:cubicBezTo>
                <a:lnTo>
                  <a:pt x="2120" y="35026"/>
                </a:lnTo>
                <a:lnTo>
                  <a:pt x="74256" y="35026"/>
                </a:lnTo>
                <a:lnTo>
                  <a:pt x="74256" y="7810"/>
                </a:lnTo>
                <a:lnTo>
                  <a:pt x="0" y="7810"/>
                </a:lnTo>
                <a:lnTo>
                  <a:pt x="0" y="0"/>
                </a:lnTo>
                <a:lnTo>
                  <a:pt x="82918" y="0"/>
                </a:lnTo>
                <a:lnTo>
                  <a:pt x="82918" y="48628"/>
                </a:lnTo>
                <a:lnTo>
                  <a:pt x="74256" y="48628"/>
                </a:lnTo>
                <a:lnTo>
                  <a:pt x="74256" y="42836"/>
                </a:lnTo>
                <a:lnTo>
                  <a:pt x="10769" y="4283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505800" y="544140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98">
                <a:moveTo>
                  <a:pt x="6807" y="0"/>
                </a:moveTo>
                <a:cubicBezTo>
                  <a:pt x="8661" y="0"/>
                  <a:pt x="10261" y="647"/>
                  <a:pt x="11595" y="1930"/>
                </a:cubicBezTo>
                <a:cubicBezTo>
                  <a:pt x="12928" y="3250"/>
                  <a:pt x="13601" y="4826"/>
                  <a:pt x="13601" y="6692"/>
                </a:cubicBezTo>
                <a:cubicBezTo>
                  <a:pt x="13601" y="8585"/>
                  <a:pt x="12928" y="10172"/>
                  <a:pt x="11595" y="11455"/>
                </a:cubicBezTo>
                <a:cubicBezTo>
                  <a:pt x="10261" y="12750"/>
                  <a:pt x="8661" y="13398"/>
                  <a:pt x="6807" y="13398"/>
                </a:cubicBezTo>
                <a:cubicBezTo>
                  <a:pt x="4940" y="13398"/>
                  <a:pt x="3340" y="12750"/>
                  <a:pt x="2006" y="11455"/>
                </a:cubicBezTo>
                <a:cubicBezTo>
                  <a:pt x="673" y="10172"/>
                  <a:pt x="0" y="8585"/>
                  <a:pt x="0" y="6692"/>
                </a:cubicBezTo>
                <a:cubicBezTo>
                  <a:pt x="0" y="4826"/>
                  <a:pt x="673" y="3250"/>
                  <a:pt x="2006" y="1930"/>
                </a:cubicBezTo>
                <a:cubicBezTo>
                  <a:pt x="3340" y="647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2337840" y="544032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8">
                <a:moveTo>
                  <a:pt x="16294" y="0"/>
                </a:moveTo>
                <a:lnTo>
                  <a:pt x="7378" y="28118"/>
                </a:lnTo>
                <a:lnTo>
                  <a:pt x="0" y="28118"/>
                </a:lnTo>
                <a:lnTo>
                  <a:pt x="6489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3051720" y="5365080"/>
            <a:ext cx="104760" cy="99360"/>
          </a:xfrm>
          <a:custGeom>
            <a:avLst/>
            <a:gdLst>
              <a:gd name="textAreaLeft" fmla="*/ 0 w 104760"/>
              <a:gd name="textAreaRight" fmla="*/ 105120 w 1047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105143" h="99898">
                <a:moveTo>
                  <a:pt x="29425" y="4965"/>
                </a:moveTo>
                <a:lnTo>
                  <a:pt x="36385" y="0"/>
                </a:lnTo>
                <a:cubicBezTo>
                  <a:pt x="44259" y="4864"/>
                  <a:pt x="52908" y="17310"/>
                  <a:pt x="62331" y="37350"/>
                </a:cubicBezTo>
                <a:cubicBezTo>
                  <a:pt x="75476" y="66103"/>
                  <a:pt x="89750" y="83642"/>
                  <a:pt x="105143" y="89966"/>
                </a:cubicBezTo>
                <a:lnTo>
                  <a:pt x="97764" y="99250"/>
                </a:lnTo>
                <a:cubicBezTo>
                  <a:pt x="82372" y="90119"/>
                  <a:pt x="68135" y="70840"/>
                  <a:pt x="55054" y="41452"/>
                </a:cubicBezTo>
                <a:cubicBezTo>
                  <a:pt x="54000" y="39103"/>
                  <a:pt x="52958" y="36855"/>
                  <a:pt x="51930" y="34709"/>
                </a:cubicBezTo>
                <a:cubicBezTo>
                  <a:pt x="43789" y="62661"/>
                  <a:pt x="28613" y="84391"/>
                  <a:pt x="6426" y="99898"/>
                </a:cubicBezTo>
                <a:cubicBezTo>
                  <a:pt x="4533" y="97078"/>
                  <a:pt x="2387" y="94437"/>
                  <a:pt x="0" y="91986"/>
                </a:cubicBezTo>
                <a:cubicBezTo>
                  <a:pt x="22809" y="77596"/>
                  <a:pt x="38163" y="54851"/>
                  <a:pt x="46088" y="23748"/>
                </a:cubicBezTo>
                <a:cubicBezTo>
                  <a:pt x="40563" y="14528"/>
                  <a:pt x="35001" y="8267"/>
                  <a:pt x="29425" y="496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3808440" y="5371200"/>
            <a:ext cx="103320" cy="93960"/>
          </a:xfrm>
          <a:custGeom>
            <a:avLst/>
            <a:gdLst>
              <a:gd name="textAreaLeft" fmla="*/ 0 w 103320"/>
              <a:gd name="textAreaRight" fmla="*/ 103680 w 1033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03784" h="94297">
                <a:moveTo>
                  <a:pt x="0" y="35547"/>
                </a:moveTo>
                <a:lnTo>
                  <a:pt x="49034" y="35547"/>
                </a:lnTo>
                <a:lnTo>
                  <a:pt x="49034" y="8331"/>
                </a:lnTo>
                <a:lnTo>
                  <a:pt x="8432" y="8331"/>
                </a:lnTo>
                <a:lnTo>
                  <a:pt x="8432" y="0"/>
                </a:lnTo>
                <a:lnTo>
                  <a:pt x="95770" y="0"/>
                </a:lnTo>
                <a:lnTo>
                  <a:pt x="95770" y="8331"/>
                </a:lnTo>
                <a:lnTo>
                  <a:pt x="57911" y="8331"/>
                </a:lnTo>
                <a:lnTo>
                  <a:pt x="57911" y="35547"/>
                </a:lnTo>
                <a:lnTo>
                  <a:pt x="103784" y="35547"/>
                </a:lnTo>
                <a:lnTo>
                  <a:pt x="103784" y="43878"/>
                </a:lnTo>
                <a:lnTo>
                  <a:pt x="57911" y="43878"/>
                </a:lnTo>
                <a:lnTo>
                  <a:pt x="57911" y="80060"/>
                </a:lnTo>
                <a:cubicBezTo>
                  <a:pt x="57911" y="84835"/>
                  <a:pt x="57022" y="88277"/>
                  <a:pt x="55270" y="90385"/>
                </a:cubicBezTo>
                <a:cubicBezTo>
                  <a:pt x="53288" y="92862"/>
                  <a:pt x="49605" y="94157"/>
                  <a:pt x="44182" y="94297"/>
                </a:cubicBezTo>
                <a:cubicBezTo>
                  <a:pt x="41020" y="94297"/>
                  <a:pt x="35090" y="94259"/>
                  <a:pt x="26365" y="94183"/>
                </a:cubicBezTo>
                <a:cubicBezTo>
                  <a:pt x="26022" y="90957"/>
                  <a:pt x="25450" y="87757"/>
                  <a:pt x="24676" y="84594"/>
                </a:cubicBezTo>
                <a:cubicBezTo>
                  <a:pt x="32626" y="85153"/>
                  <a:pt x="38150" y="85445"/>
                  <a:pt x="41236" y="85445"/>
                </a:cubicBezTo>
                <a:cubicBezTo>
                  <a:pt x="44399" y="85445"/>
                  <a:pt x="46507" y="84835"/>
                  <a:pt x="47561" y="83642"/>
                </a:cubicBezTo>
                <a:cubicBezTo>
                  <a:pt x="48552" y="82664"/>
                  <a:pt x="49034" y="80441"/>
                  <a:pt x="49034" y="76999"/>
                </a:cubicBezTo>
                <a:lnTo>
                  <a:pt x="49034" y="43878"/>
                </a:lnTo>
                <a:lnTo>
                  <a:pt x="0" y="43878"/>
                </a:lnTo>
                <a:lnTo>
                  <a:pt x="0" y="3554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4249080" y="5364720"/>
            <a:ext cx="86040" cy="101520"/>
          </a:xfrm>
          <a:custGeom>
            <a:avLst/>
            <a:gdLst>
              <a:gd name="textAreaLeft" fmla="*/ 0 w 86040"/>
              <a:gd name="textAreaRight" fmla="*/ 86400 w 86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283" h="101993">
                <a:moveTo>
                  <a:pt x="0" y="18148"/>
                </a:moveTo>
                <a:lnTo>
                  <a:pt x="38912" y="18148"/>
                </a:lnTo>
                <a:lnTo>
                  <a:pt x="38912" y="0"/>
                </a:lnTo>
                <a:lnTo>
                  <a:pt x="47574" y="0"/>
                </a:lnTo>
                <a:lnTo>
                  <a:pt x="47574" y="18148"/>
                </a:lnTo>
                <a:lnTo>
                  <a:pt x="86283" y="18148"/>
                </a:lnTo>
                <a:lnTo>
                  <a:pt x="86283" y="87744"/>
                </a:lnTo>
                <a:cubicBezTo>
                  <a:pt x="86283" y="96684"/>
                  <a:pt x="81876" y="101117"/>
                  <a:pt x="73101" y="101041"/>
                </a:cubicBezTo>
                <a:cubicBezTo>
                  <a:pt x="68452" y="101041"/>
                  <a:pt x="62750" y="100964"/>
                  <a:pt x="56007" y="100825"/>
                </a:cubicBezTo>
                <a:cubicBezTo>
                  <a:pt x="55803" y="98437"/>
                  <a:pt x="55270" y="95389"/>
                  <a:pt x="54419" y="91655"/>
                </a:cubicBezTo>
                <a:cubicBezTo>
                  <a:pt x="61112" y="92214"/>
                  <a:pt x="66662" y="92531"/>
                  <a:pt x="71094" y="92608"/>
                </a:cubicBezTo>
                <a:cubicBezTo>
                  <a:pt x="75513" y="92735"/>
                  <a:pt x="77736" y="90525"/>
                  <a:pt x="77736" y="85966"/>
                </a:cubicBezTo>
                <a:lnTo>
                  <a:pt x="77736" y="26161"/>
                </a:lnTo>
                <a:lnTo>
                  <a:pt x="47358" y="26161"/>
                </a:lnTo>
                <a:cubicBezTo>
                  <a:pt x="47078" y="32562"/>
                  <a:pt x="46304" y="38252"/>
                  <a:pt x="45046" y="43255"/>
                </a:cubicBezTo>
                <a:cubicBezTo>
                  <a:pt x="57480" y="53225"/>
                  <a:pt x="67538" y="62026"/>
                  <a:pt x="75209" y="69621"/>
                </a:cubicBezTo>
                <a:lnTo>
                  <a:pt x="68770" y="76466"/>
                </a:lnTo>
                <a:cubicBezTo>
                  <a:pt x="61239" y="68236"/>
                  <a:pt x="52489" y="59689"/>
                  <a:pt x="42506" y="50837"/>
                </a:cubicBezTo>
                <a:cubicBezTo>
                  <a:pt x="37731" y="61175"/>
                  <a:pt x="28625" y="70180"/>
                  <a:pt x="15188" y="77838"/>
                </a:cubicBezTo>
                <a:cubicBezTo>
                  <a:pt x="12242" y="73761"/>
                  <a:pt x="10274" y="71234"/>
                  <a:pt x="9283" y="70243"/>
                </a:cubicBezTo>
                <a:cubicBezTo>
                  <a:pt x="20751" y="64198"/>
                  <a:pt x="28587" y="57492"/>
                  <a:pt x="32804" y="50101"/>
                </a:cubicBezTo>
                <a:cubicBezTo>
                  <a:pt x="36182" y="44691"/>
                  <a:pt x="38150" y="36702"/>
                  <a:pt x="38709" y="26161"/>
                </a:cubicBezTo>
                <a:lnTo>
                  <a:pt x="8547" y="26161"/>
                </a:lnTo>
                <a:lnTo>
                  <a:pt x="8547" y="101993"/>
                </a:lnTo>
                <a:lnTo>
                  <a:pt x="0" y="101993"/>
                </a:lnTo>
                <a:lnTo>
                  <a:pt x="0" y="1814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4393800" y="539388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48">
                <a:moveTo>
                  <a:pt x="6807" y="0"/>
                </a:moveTo>
                <a:cubicBezTo>
                  <a:pt x="8661" y="0"/>
                  <a:pt x="10261" y="660"/>
                  <a:pt x="11595" y="1956"/>
                </a:cubicBezTo>
                <a:cubicBezTo>
                  <a:pt x="12928" y="3251"/>
                  <a:pt x="13601" y="4813"/>
                  <a:pt x="13601" y="6642"/>
                </a:cubicBezTo>
                <a:cubicBezTo>
                  <a:pt x="13601" y="8483"/>
                  <a:pt x="12954" y="10045"/>
                  <a:pt x="11658" y="11366"/>
                </a:cubicBezTo>
                <a:cubicBezTo>
                  <a:pt x="10350" y="12687"/>
                  <a:pt x="8725" y="13347"/>
                  <a:pt x="6807" y="13347"/>
                </a:cubicBezTo>
                <a:cubicBezTo>
                  <a:pt x="4876" y="13347"/>
                  <a:pt x="3251" y="12687"/>
                  <a:pt x="1943" y="11366"/>
                </a:cubicBezTo>
                <a:cubicBezTo>
                  <a:pt x="647" y="10045"/>
                  <a:pt x="0" y="8483"/>
                  <a:pt x="0" y="6642"/>
                </a:cubicBezTo>
                <a:cubicBezTo>
                  <a:pt x="0" y="4813"/>
                  <a:pt x="673" y="3251"/>
                  <a:pt x="2006" y="1956"/>
                </a:cubicBezTo>
                <a:cubicBezTo>
                  <a:pt x="3340" y="660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4389840" y="544032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306" h="28117">
                <a:moveTo>
                  <a:pt x="16306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306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1527840" y="5828040"/>
            <a:ext cx="103680" cy="104760"/>
          </a:xfrm>
          <a:custGeom>
            <a:avLst/>
            <a:gdLst>
              <a:gd name="textAreaLeft" fmla="*/ 0 w 103680"/>
              <a:gd name="textAreaRight" fmla="*/ 104040 w 1036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987" h="104952">
                <a:moveTo>
                  <a:pt x="2324" y="18669"/>
                </a:moveTo>
                <a:lnTo>
                  <a:pt x="52933" y="18669"/>
                </a:lnTo>
                <a:cubicBezTo>
                  <a:pt x="49390" y="11925"/>
                  <a:pt x="46608" y="6997"/>
                  <a:pt x="44615" y="3898"/>
                </a:cubicBezTo>
                <a:lnTo>
                  <a:pt x="52844" y="0"/>
                </a:lnTo>
                <a:cubicBezTo>
                  <a:pt x="54813" y="3035"/>
                  <a:pt x="57759" y="7937"/>
                  <a:pt x="61696" y="14757"/>
                </a:cubicBezTo>
                <a:lnTo>
                  <a:pt x="54000" y="18669"/>
                </a:lnTo>
                <a:lnTo>
                  <a:pt x="103987" y="18669"/>
                </a:lnTo>
                <a:lnTo>
                  <a:pt x="103987" y="26695"/>
                </a:lnTo>
                <a:lnTo>
                  <a:pt x="40030" y="26695"/>
                </a:lnTo>
                <a:cubicBezTo>
                  <a:pt x="39776" y="33096"/>
                  <a:pt x="39522" y="38518"/>
                  <a:pt x="39230" y="43040"/>
                </a:cubicBezTo>
                <a:lnTo>
                  <a:pt x="90169" y="43040"/>
                </a:lnTo>
                <a:cubicBezTo>
                  <a:pt x="89331" y="58292"/>
                  <a:pt x="88417" y="71539"/>
                  <a:pt x="87426" y="82803"/>
                </a:cubicBezTo>
                <a:cubicBezTo>
                  <a:pt x="86664" y="95529"/>
                  <a:pt x="80467" y="101879"/>
                  <a:pt x="68872" y="101879"/>
                </a:cubicBezTo>
                <a:cubicBezTo>
                  <a:pt x="63525" y="101879"/>
                  <a:pt x="56388" y="101600"/>
                  <a:pt x="47459" y="101028"/>
                </a:cubicBezTo>
                <a:cubicBezTo>
                  <a:pt x="47104" y="98361"/>
                  <a:pt x="46570" y="95135"/>
                  <a:pt x="45885" y="91338"/>
                </a:cubicBezTo>
                <a:cubicBezTo>
                  <a:pt x="54813" y="92519"/>
                  <a:pt x="62052" y="93128"/>
                  <a:pt x="67614" y="93128"/>
                </a:cubicBezTo>
                <a:cubicBezTo>
                  <a:pt x="74066" y="93128"/>
                  <a:pt x="77698" y="89306"/>
                  <a:pt x="78460" y="81635"/>
                </a:cubicBezTo>
                <a:cubicBezTo>
                  <a:pt x="79311" y="73278"/>
                  <a:pt x="80048" y="63029"/>
                  <a:pt x="80683" y="50952"/>
                </a:cubicBezTo>
                <a:lnTo>
                  <a:pt x="38646" y="50952"/>
                </a:lnTo>
                <a:cubicBezTo>
                  <a:pt x="36677" y="74142"/>
                  <a:pt x="25933" y="92150"/>
                  <a:pt x="6426" y="104952"/>
                </a:cubicBezTo>
                <a:cubicBezTo>
                  <a:pt x="4533" y="102692"/>
                  <a:pt x="2387" y="100304"/>
                  <a:pt x="0" y="97776"/>
                </a:cubicBezTo>
                <a:cubicBezTo>
                  <a:pt x="18554" y="85534"/>
                  <a:pt x="28511" y="69163"/>
                  <a:pt x="29844" y="48615"/>
                </a:cubicBezTo>
                <a:cubicBezTo>
                  <a:pt x="30340" y="43065"/>
                  <a:pt x="30733" y="35750"/>
                  <a:pt x="31064" y="26695"/>
                </a:cubicBezTo>
                <a:lnTo>
                  <a:pt x="2324" y="26695"/>
                </a:lnTo>
                <a:lnTo>
                  <a:pt x="2324" y="1866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1682280" y="585900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47">
                <a:moveTo>
                  <a:pt x="6807" y="0"/>
                </a:moveTo>
                <a:cubicBezTo>
                  <a:pt x="8661" y="0"/>
                  <a:pt x="10261" y="660"/>
                  <a:pt x="11595" y="1955"/>
                </a:cubicBezTo>
                <a:cubicBezTo>
                  <a:pt x="12928" y="3251"/>
                  <a:pt x="13601" y="4813"/>
                  <a:pt x="13601" y="6642"/>
                </a:cubicBezTo>
                <a:cubicBezTo>
                  <a:pt x="13601" y="8483"/>
                  <a:pt x="12954" y="10045"/>
                  <a:pt x="11658" y="11366"/>
                </a:cubicBezTo>
                <a:cubicBezTo>
                  <a:pt x="10350" y="12687"/>
                  <a:pt x="8724" y="13347"/>
                  <a:pt x="6807" y="13347"/>
                </a:cubicBezTo>
                <a:cubicBezTo>
                  <a:pt x="4876" y="13347"/>
                  <a:pt x="3251" y="12687"/>
                  <a:pt x="1943" y="11366"/>
                </a:cubicBezTo>
                <a:cubicBezTo>
                  <a:pt x="647" y="10045"/>
                  <a:pt x="0" y="8483"/>
                  <a:pt x="0" y="6642"/>
                </a:cubicBezTo>
                <a:cubicBezTo>
                  <a:pt x="0" y="4813"/>
                  <a:pt x="673" y="3251"/>
                  <a:pt x="2006" y="1955"/>
                </a:cubicBezTo>
                <a:cubicBezTo>
                  <a:pt x="3340" y="660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1678320" y="59054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306" h="28117">
                <a:moveTo>
                  <a:pt x="16306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306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990000" y="5990040"/>
            <a:ext cx="101160" cy="96840"/>
          </a:xfrm>
          <a:custGeom>
            <a:avLst/>
            <a:gdLst>
              <a:gd name="textAreaLeft" fmla="*/ 0 w 101160"/>
              <a:gd name="textAreaRight" fmla="*/ 101520 w 1011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01460" h="97244">
                <a:moveTo>
                  <a:pt x="5588" y="25196"/>
                </a:moveTo>
                <a:lnTo>
                  <a:pt x="41135" y="25196"/>
                </a:lnTo>
                <a:cubicBezTo>
                  <a:pt x="42672" y="19443"/>
                  <a:pt x="44081" y="13639"/>
                  <a:pt x="45351" y="7810"/>
                </a:cubicBezTo>
                <a:lnTo>
                  <a:pt x="0" y="7810"/>
                </a:lnTo>
                <a:lnTo>
                  <a:pt x="0" y="0"/>
                </a:lnTo>
                <a:lnTo>
                  <a:pt x="101460" y="0"/>
                </a:lnTo>
                <a:lnTo>
                  <a:pt x="101460" y="7810"/>
                </a:lnTo>
                <a:lnTo>
                  <a:pt x="54737" y="7810"/>
                </a:lnTo>
                <a:cubicBezTo>
                  <a:pt x="53047" y="13817"/>
                  <a:pt x="51269" y="19621"/>
                  <a:pt x="49402" y="25196"/>
                </a:cubicBezTo>
                <a:lnTo>
                  <a:pt x="95554" y="25196"/>
                </a:lnTo>
                <a:lnTo>
                  <a:pt x="95554" y="84480"/>
                </a:lnTo>
                <a:cubicBezTo>
                  <a:pt x="95554" y="92570"/>
                  <a:pt x="91897" y="96609"/>
                  <a:pt x="84582" y="96609"/>
                </a:cubicBezTo>
                <a:cubicBezTo>
                  <a:pt x="80010" y="96609"/>
                  <a:pt x="75399" y="96494"/>
                  <a:pt x="70764" y="96291"/>
                </a:cubicBezTo>
                <a:cubicBezTo>
                  <a:pt x="69989" y="91300"/>
                  <a:pt x="69456" y="88379"/>
                  <a:pt x="69189" y="87528"/>
                </a:cubicBezTo>
                <a:cubicBezTo>
                  <a:pt x="73825" y="88023"/>
                  <a:pt x="78003" y="88277"/>
                  <a:pt x="81737" y="88277"/>
                </a:cubicBezTo>
                <a:cubicBezTo>
                  <a:pt x="85534" y="88277"/>
                  <a:pt x="87426" y="86334"/>
                  <a:pt x="87426" y="82474"/>
                </a:cubicBezTo>
                <a:lnTo>
                  <a:pt x="87426" y="33007"/>
                </a:lnTo>
                <a:lnTo>
                  <a:pt x="67919" y="33007"/>
                </a:lnTo>
                <a:lnTo>
                  <a:pt x="67919" y="91122"/>
                </a:lnTo>
                <a:lnTo>
                  <a:pt x="60007" y="91122"/>
                </a:lnTo>
                <a:lnTo>
                  <a:pt x="60007" y="33007"/>
                </a:lnTo>
                <a:lnTo>
                  <a:pt x="40805" y="33007"/>
                </a:lnTo>
                <a:lnTo>
                  <a:pt x="40805" y="91122"/>
                </a:lnTo>
                <a:lnTo>
                  <a:pt x="32893" y="91122"/>
                </a:lnTo>
                <a:lnTo>
                  <a:pt x="32893" y="33007"/>
                </a:lnTo>
                <a:lnTo>
                  <a:pt x="13716" y="33007"/>
                </a:lnTo>
                <a:lnTo>
                  <a:pt x="13716" y="97244"/>
                </a:lnTo>
                <a:lnTo>
                  <a:pt x="5588" y="97244"/>
                </a:lnTo>
                <a:lnTo>
                  <a:pt x="5588" y="2519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1420200" y="5983200"/>
            <a:ext cx="104400" cy="97560"/>
          </a:xfrm>
          <a:custGeom>
            <a:avLst/>
            <a:gdLst>
              <a:gd name="textAreaLeft" fmla="*/ 0 w 104400"/>
              <a:gd name="textAreaRight" fmla="*/ 104760 w 104400"/>
              <a:gd name="textAreaTop" fmla="*/ 0 h 97560"/>
              <a:gd name="textAreaBottom" fmla="*/ 97920 h 97560"/>
            </a:gdLst>
            <a:ahLst/>
            <a:rect l="textAreaLeft" t="textAreaTop" r="textAreaRight" b="textAreaBottom"/>
            <a:pathLst>
              <a:path w="104724" h="97777">
                <a:moveTo>
                  <a:pt x="736" y="89865"/>
                </a:moveTo>
                <a:lnTo>
                  <a:pt x="49682" y="89865"/>
                </a:lnTo>
                <a:lnTo>
                  <a:pt x="49682" y="62966"/>
                </a:lnTo>
                <a:lnTo>
                  <a:pt x="12344" y="62966"/>
                </a:lnTo>
                <a:lnTo>
                  <a:pt x="12344" y="54838"/>
                </a:lnTo>
                <a:lnTo>
                  <a:pt x="49682" y="54838"/>
                </a:lnTo>
                <a:lnTo>
                  <a:pt x="49682" y="30479"/>
                </a:lnTo>
                <a:lnTo>
                  <a:pt x="21831" y="30479"/>
                </a:lnTo>
                <a:cubicBezTo>
                  <a:pt x="17157" y="38912"/>
                  <a:pt x="11772" y="46558"/>
                  <a:pt x="5702" y="53378"/>
                </a:cubicBezTo>
                <a:cubicBezTo>
                  <a:pt x="4216" y="51041"/>
                  <a:pt x="2324" y="48590"/>
                  <a:pt x="0" y="45986"/>
                </a:cubicBezTo>
                <a:cubicBezTo>
                  <a:pt x="9918" y="34874"/>
                  <a:pt x="17754" y="21310"/>
                  <a:pt x="23520" y="5283"/>
                </a:cubicBezTo>
                <a:lnTo>
                  <a:pt x="32169" y="7581"/>
                </a:lnTo>
                <a:cubicBezTo>
                  <a:pt x="30302" y="12725"/>
                  <a:pt x="28244" y="17652"/>
                  <a:pt x="25996" y="22364"/>
                </a:cubicBezTo>
                <a:lnTo>
                  <a:pt x="49682" y="22364"/>
                </a:lnTo>
                <a:lnTo>
                  <a:pt x="49682" y="0"/>
                </a:lnTo>
                <a:lnTo>
                  <a:pt x="58737" y="0"/>
                </a:lnTo>
                <a:lnTo>
                  <a:pt x="58737" y="22364"/>
                </a:lnTo>
                <a:lnTo>
                  <a:pt x="99034" y="22364"/>
                </a:lnTo>
                <a:lnTo>
                  <a:pt x="99034" y="30479"/>
                </a:lnTo>
                <a:lnTo>
                  <a:pt x="58737" y="30479"/>
                </a:lnTo>
                <a:lnTo>
                  <a:pt x="58737" y="54838"/>
                </a:lnTo>
                <a:lnTo>
                  <a:pt x="96088" y="54838"/>
                </a:lnTo>
                <a:lnTo>
                  <a:pt x="96088" y="62966"/>
                </a:lnTo>
                <a:lnTo>
                  <a:pt x="58737" y="62966"/>
                </a:lnTo>
                <a:lnTo>
                  <a:pt x="58737" y="89865"/>
                </a:lnTo>
                <a:lnTo>
                  <a:pt x="104724" y="89865"/>
                </a:lnTo>
                <a:lnTo>
                  <a:pt x="104724" y="97777"/>
                </a:lnTo>
                <a:lnTo>
                  <a:pt x="736" y="97777"/>
                </a:lnTo>
                <a:lnTo>
                  <a:pt x="736" y="89865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959840" y="5983200"/>
            <a:ext cx="103680" cy="104760"/>
          </a:xfrm>
          <a:custGeom>
            <a:avLst/>
            <a:gdLst>
              <a:gd name="textAreaLeft" fmla="*/ 0 w 103680"/>
              <a:gd name="textAreaRight" fmla="*/ 104040 w 1036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987" h="104952">
                <a:moveTo>
                  <a:pt x="2324" y="18669"/>
                </a:moveTo>
                <a:lnTo>
                  <a:pt x="52933" y="18669"/>
                </a:lnTo>
                <a:cubicBezTo>
                  <a:pt x="49390" y="11925"/>
                  <a:pt x="46608" y="6997"/>
                  <a:pt x="44615" y="3898"/>
                </a:cubicBezTo>
                <a:lnTo>
                  <a:pt x="52844" y="0"/>
                </a:lnTo>
                <a:cubicBezTo>
                  <a:pt x="54813" y="3035"/>
                  <a:pt x="57759" y="7937"/>
                  <a:pt x="61696" y="14757"/>
                </a:cubicBezTo>
                <a:lnTo>
                  <a:pt x="54000" y="18669"/>
                </a:lnTo>
                <a:lnTo>
                  <a:pt x="103987" y="18669"/>
                </a:lnTo>
                <a:lnTo>
                  <a:pt x="103987" y="26695"/>
                </a:lnTo>
                <a:lnTo>
                  <a:pt x="40030" y="26695"/>
                </a:lnTo>
                <a:cubicBezTo>
                  <a:pt x="39776" y="33096"/>
                  <a:pt x="39522" y="38518"/>
                  <a:pt x="39230" y="43040"/>
                </a:cubicBezTo>
                <a:lnTo>
                  <a:pt x="90170" y="43040"/>
                </a:lnTo>
                <a:cubicBezTo>
                  <a:pt x="89331" y="58292"/>
                  <a:pt x="88417" y="71539"/>
                  <a:pt x="87426" y="82803"/>
                </a:cubicBezTo>
                <a:cubicBezTo>
                  <a:pt x="86664" y="95529"/>
                  <a:pt x="80467" y="101879"/>
                  <a:pt x="68872" y="101879"/>
                </a:cubicBezTo>
                <a:cubicBezTo>
                  <a:pt x="63525" y="101879"/>
                  <a:pt x="56388" y="101600"/>
                  <a:pt x="47459" y="101028"/>
                </a:cubicBezTo>
                <a:cubicBezTo>
                  <a:pt x="47104" y="98361"/>
                  <a:pt x="46570" y="95135"/>
                  <a:pt x="45884" y="91338"/>
                </a:cubicBezTo>
                <a:cubicBezTo>
                  <a:pt x="54813" y="92519"/>
                  <a:pt x="62052" y="93129"/>
                  <a:pt x="67614" y="93129"/>
                </a:cubicBezTo>
                <a:cubicBezTo>
                  <a:pt x="74066" y="93129"/>
                  <a:pt x="77698" y="89306"/>
                  <a:pt x="78460" y="81635"/>
                </a:cubicBezTo>
                <a:cubicBezTo>
                  <a:pt x="79311" y="73278"/>
                  <a:pt x="80048" y="63030"/>
                  <a:pt x="80683" y="50952"/>
                </a:cubicBezTo>
                <a:lnTo>
                  <a:pt x="38646" y="50952"/>
                </a:lnTo>
                <a:cubicBezTo>
                  <a:pt x="36677" y="74142"/>
                  <a:pt x="25933" y="92151"/>
                  <a:pt x="6426" y="104952"/>
                </a:cubicBezTo>
                <a:cubicBezTo>
                  <a:pt x="4533" y="102692"/>
                  <a:pt x="2387" y="100304"/>
                  <a:pt x="0" y="97777"/>
                </a:cubicBezTo>
                <a:cubicBezTo>
                  <a:pt x="18554" y="85534"/>
                  <a:pt x="28511" y="69164"/>
                  <a:pt x="29845" y="48615"/>
                </a:cubicBezTo>
                <a:cubicBezTo>
                  <a:pt x="30340" y="43065"/>
                  <a:pt x="30733" y="35750"/>
                  <a:pt x="31064" y="26695"/>
                </a:cubicBezTo>
                <a:lnTo>
                  <a:pt x="2324" y="26695"/>
                </a:lnTo>
                <a:lnTo>
                  <a:pt x="2324" y="1866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2114280" y="601380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48">
                <a:moveTo>
                  <a:pt x="6807" y="0"/>
                </a:moveTo>
                <a:cubicBezTo>
                  <a:pt x="8661" y="0"/>
                  <a:pt x="10261" y="660"/>
                  <a:pt x="11595" y="1956"/>
                </a:cubicBezTo>
                <a:cubicBezTo>
                  <a:pt x="12928" y="3251"/>
                  <a:pt x="13601" y="4813"/>
                  <a:pt x="13601" y="6642"/>
                </a:cubicBezTo>
                <a:cubicBezTo>
                  <a:pt x="13601" y="8483"/>
                  <a:pt x="12954" y="10045"/>
                  <a:pt x="11658" y="11366"/>
                </a:cubicBezTo>
                <a:cubicBezTo>
                  <a:pt x="10350" y="12687"/>
                  <a:pt x="8725" y="13347"/>
                  <a:pt x="6807" y="13347"/>
                </a:cubicBezTo>
                <a:cubicBezTo>
                  <a:pt x="4876" y="13347"/>
                  <a:pt x="3251" y="12687"/>
                  <a:pt x="1943" y="11366"/>
                </a:cubicBezTo>
                <a:cubicBezTo>
                  <a:pt x="647" y="10045"/>
                  <a:pt x="0" y="8483"/>
                  <a:pt x="0" y="6642"/>
                </a:cubicBezTo>
                <a:cubicBezTo>
                  <a:pt x="0" y="4813"/>
                  <a:pt x="673" y="3251"/>
                  <a:pt x="2006" y="1956"/>
                </a:cubicBezTo>
                <a:cubicBezTo>
                  <a:pt x="3340" y="660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2110320" y="60602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306" h="28117">
                <a:moveTo>
                  <a:pt x="16306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306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989280" y="613872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03250" h="103466">
                <a:moveTo>
                  <a:pt x="84581" y="103466"/>
                </a:moveTo>
                <a:lnTo>
                  <a:pt x="84581" y="98932"/>
                </a:lnTo>
                <a:lnTo>
                  <a:pt x="10121" y="98932"/>
                </a:lnTo>
                <a:lnTo>
                  <a:pt x="10121" y="62979"/>
                </a:lnTo>
                <a:lnTo>
                  <a:pt x="19202" y="62979"/>
                </a:lnTo>
                <a:lnTo>
                  <a:pt x="19202" y="90919"/>
                </a:lnTo>
                <a:lnTo>
                  <a:pt x="47040" y="90919"/>
                </a:lnTo>
                <a:lnTo>
                  <a:pt x="47040" y="53898"/>
                </a:lnTo>
                <a:lnTo>
                  <a:pt x="0" y="53898"/>
                </a:lnTo>
                <a:lnTo>
                  <a:pt x="0" y="45884"/>
                </a:lnTo>
                <a:lnTo>
                  <a:pt x="47040" y="45884"/>
                </a:lnTo>
                <a:lnTo>
                  <a:pt x="47040" y="26898"/>
                </a:lnTo>
                <a:lnTo>
                  <a:pt x="7594" y="26898"/>
                </a:lnTo>
                <a:lnTo>
                  <a:pt x="7594" y="18872"/>
                </a:lnTo>
                <a:lnTo>
                  <a:pt x="47040" y="18872"/>
                </a:lnTo>
                <a:lnTo>
                  <a:pt x="47040" y="0"/>
                </a:lnTo>
                <a:lnTo>
                  <a:pt x="56311" y="0"/>
                </a:lnTo>
                <a:lnTo>
                  <a:pt x="56311" y="18872"/>
                </a:lnTo>
                <a:lnTo>
                  <a:pt x="96075" y="18872"/>
                </a:lnTo>
                <a:lnTo>
                  <a:pt x="96075" y="26898"/>
                </a:lnTo>
                <a:lnTo>
                  <a:pt x="56311" y="26898"/>
                </a:lnTo>
                <a:lnTo>
                  <a:pt x="56311" y="45884"/>
                </a:lnTo>
                <a:lnTo>
                  <a:pt x="103250" y="45884"/>
                </a:lnTo>
                <a:lnTo>
                  <a:pt x="103250" y="53898"/>
                </a:lnTo>
                <a:lnTo>
                  <a:pt x="56311" y="53898"/>
                </a:lnTo>
                <a:lnTo>
                  <a:pt x="56311" y="90919"/>
                </a:lnTo>
                <a:lnTo>
                  <a:pt x="84581" y="90919"/>
                </a:lnTo>
                <a:lnTo>
                  <a:pt x="84581" y="62979"/>
                </a:lnTo>
                <a:lnTo>
                  <a:pt x="93662" y="62979"/>
                </a:lnTo>
                <a:lnTo>
                  <a:pt x="93662" y="103466"/>
                </a:lnTo>
                <a:lnTo>
                  <a:pt x="84581" y="10346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1635840" y="6138000"/>
            <a:ext cx="103680" cy="104760"/>
          </a:xfrm>
          <a:custGeom>
            <a:avLst/>
            <a:gdLst>
              <a:gd name="textAreaLeft" fmla="*/ 0 w 103680"/>
              <a:gd name="textAreaRight" fmla="*/ 104040 w 1036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987" h="104952">
                <a:moveTo>
                  <a:pt x="2324" y="18669"/>
                </a:moveTo>
                <a:lnTo>
                  <a:pt x="52933" y="18669"/>
                </a:lnTo>
                <a:cubicBezTo>
                  <a:pt x="49390" y="11925"/>
                  <a:pt x="46608" y="6997"/>
                  <a:pt x="44615" y="3898"/>
                </a:cubicBezTo>
                <a:lnTo>
                  <a:pt x="52844" y="0"/>
                </a:lnTo>
                <a:cubicBezTo>
                  <a:pt x="54813" y="3035"/>
                  <a:pt x="57759" y="7937"/>
                  <a:pt x="61696" y="14757"/>
                </a:cubicBezTo>
                <a:lnTo>
                  <a:pt x="54000" y="18669"/>
                </a:lnTo>
                <a:lnTo>
                  <a:pt x="103987" y="18669"/>
                </a:lnTo>
                <a:lnTo>
                  <a:pt x="103987" y="26695"/>
                </a:lnTo>
                <a:lnTo>
                  <a:pt x="40030" y="26695"/>
                </a:lnTo>
                <a:cubicBezTo>
                  <a:pt x="39776" y="33096"/>
                  <a:pt x="39522" y="38519"/>
                  <a:pt x="39230" y="43040"/>
                </a:cubicBezTo>
                <a:lnTo>
                  <a:pt x="90170" y="43040"/>
                </a:lnTo>
                <a:cubicBezTo>
                  <a:pt x="89331" y="58292"/>
                  <a:pt x="88417" y="71539"/>
                  <a:pt x="87426" y="82804"/>
                </a:cubicBezTo>
                <a:cubicBezTo>
                  <a:pt x="86664" y="95529"/>
                  <a:pt x="80467" y="101879"/>
                  <a:pt x="68872" y="101879"/>
                </a:cubicBezTo>
                <a:cubicBezTo>
                  <a:pt x="63525" y="101879"/>
                  <a:pt x="56388" y="101600"/>
                  <a:pt x="47459" y="101028"/>
                </a:cubicBezTo>
                <a:cubicBezTo>
                  <a:pt x="47104" y="98361"/>
                  <a:pt x="46570" y="95135"/>
                  <a:pt x="45885" y="91338"/>
                </a:cubicBezTo>
                <a:cubicBezTo>
                  <a:pt x="54813" y="92519"/>
                  <a:pt x="62052" y="93129"/>
                  <a:pt x="67614" y="93129"/>
                </a:cubicBezTo>
                <a:cubicBezTo>
                  <a:pt x="74066" y="93129"/>
                  <a:pt x="77698" y="89306"/>
                  <a:pt x="78460" y="81635"/>
                </a:cubicBezTo>
                <a:cubicBezTo>
                  <a:pt x="79311" y="73279"/>
                  <a:pt x="80048" y="63030"/>
                  <a:pt x="80683" y="50952"/>
                </a:cubicBezTo>
                <a:lnTo>
                  <a:pt x="38646" y="50952"/>
                </a:lnTo>
                <a:cubicBezTo>
                  <a:pt x="36677" y="74142"/>
                  <a:pt x="25933" y="92151"/>
                  <a:pt x="6426" y="104952"/>
                </a:cubicBezTo>
                <a:cubicBezTo>
                  <a:pt x="4533" y="102692"/>
                  <a:pt x="2387" y="100304"/>
                  <a:pt x="0" y="97777"/>
                </a:cubicBezTo>
                <a:cubicBezTo>
                  <a:pt x="18554" y="85534"/>
                  <a:pt x="28511" y="69164"/>
                  <a:pt x="29845" y="48615"/>
                </a:cubicBezTo>
                <a:cubicBezTo>
                  <a:pt x="30340" y="43065"/>
                  <a:pt x="30733" y="35750"/>
                  <a:pt x="31064" y="26695"/>
                </a:cubicBezTo>
                <a:lnTo>
                  <a:pt x="2324" y="26695"/>
                </a:lnTo>
                <a:lnTo>
                  <a:pt x="2324" y="1866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1790280" y="616896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47">
                <a:moveTo>
                  <a:pt x="6807" y="0"/>
                </a:moveTo>
                <a:cubicBezTo>
                  <a:pt x="8661" y="0"/>
                  <a:pt x="10261" y="660"/>
                  <a:pt x="11595" y="1955"/>
                </a:cubicBezTo>
                <a:cubicBezTo>
                  <a:pt x="12928" y="3250"/>
                  <a:pt x="13601" y="4813"/>
                  <a:pt x="13601" y="6641"/>
                </a:cubicBezTo>
                <a:cubicBezTo>
                  <a:pt x="13601" y="8483"/>
                  <a:pt x="12953" y="10045"/>
                  <a:pt x="11658" y="11366"/>
                </a:cubicBezTo>
                <a:cubicBezTo>
                  <a:pt x="10350" y="12687"/>
                  <a:pt x="8724" y="13347"/>
                  <a:pt x="6807" y="13347"/>
                </a:cubicBezTo>
                <a:cubicBezTo>
                  <a:pt x="4876" y="13347"/>
                  <a:pt x="3251" y="12687"/>
                  <a:pt x="1943" y="11366"/>
                </a:cubicBezTo>
                <a:cubicBezTo>
                  <a:pt x="647" y="10045"/>
                  <a:pt x="0" y="8483"/>
                  <a:pt x="0" y="6641"/>
                </a:cubicBezTo>
                <a:cubicBezTo>
                  <a:pt x="0" y="4813"/>
                  <a:pt x="673" y="3250"/>
                  <a:pt x="2006" y="1955"/>
                </a:cubicBezTo>
                <a:cubicBezTo>
                  <a:pt x="3340" y="660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1786320" y="621540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306" h="28117">
                <a:moveTo>
                  <a:pt x="16306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306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1489680" y="6306120"/>
            <a:ext cx="33840" cy="31680"/>
          </a:xfrm>
          <a:custGeom>
            <a:avLst/>
            <a:gdLst>
              <a:gd name="textAreaLeft" fmla="*/ 0 w 33840"/>
              <a:gd name="textAreaRight" fmla="*/ 34200 w 338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378" h="31965">
                <a:moveTo>
                  <a:pt x="0" y="6019"/>
                </a:moveTo>
                <a:lnTo>
                  <a:pt x="5689" y="0"/>
                </a:lnTo>
                <a:cubicBezTo>
                  <a:pt x="16383" y="8737"/>
                  <a:pt x="25946" y="16992"/>
                  <a:pt x="34378" y="24803"/>
                </a:cubicBezTo>
                <a:lnTo>
                  <a:pt x="27838" y="31965"/>
                </a:lnTo>
                <a:cubicBezTo>
                  <a:pt x="17716" y="21704"/>
                  <a:pt x="8432" y="13055"/>
                  <a:pt x="0" y="6019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468440" y="6294600"/>
            <a:ext cx="8280" cy="44640"/>
          </a:xfrm>
          <a:custGeom>
            <a:avLst/>
            <a:gdLst>
              <a:gd name="textAreaLeft" fmla="*/ 0 w 8280"/>
              <a:gd name="textAreaRight" fmla="*/ 8640 w 82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8750" h="45136">
                <a:moveTo>
                  <a:pt x="4375" y="0"/>
                </a:moveTo>
                <a:lnTo>
                  <a:pt x="4375" y="45136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1422000" y="6306120"/>
            <a:ext cx="34200" cy="32760"/>
          </a:xfrm>
          <a:custGeom>
            <a:avLst/>
            <a:gdLst>
              <a:gd name="textAreaLeft" fmla="*/ 0 w 34200"/>
              <a:gd name="textAreaRight" fmla="*/ 34560 w 34200"/>
              <a:gd name="textAreaTop" fmla="*/ 0 h 32760"/>
              <a:gd name="textAreaBottom" fmla="*/ 33120 h 32760"/>
            </a:gdLst>
            <a:ahLst/>
            <a:rect l="textAreaLeft" t="textAreaTop" r="textAreaRight" b="textAreaBottom"/>
            <a:pathLst>
              <a:path w="34696" h="33108">
                <a:moveTo>
                  <a:pt x="27851" y="0"/>
                </a:moveTo>
                <a:lnTo>
                  <a:pt x="34696" y="5676"/>
                </a:lnTo>
                <a:cubicBezTo>
                  <a:pt x="24993" y="15875"/>
                  <a:pt x="15392" y="25019"/>
                  <a:pt x="5905" y="33108"/>
                </a:cubicBezTo>
                <a:cubicBezTo>
                  <a:pt x="3936" y="30429"/>
                  <a:pt x="1968" y="28117"/>
                  <a:pt x="0" y="26136"/>
                </a:cubicBezTo>
                <a:cubicBezTo>
                  <a:pt x="9626" y="18554"/>
                  <a:pt x="18922" y="9829"/>
                  <a:pt x="27851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1421280" y="6345000"/>
            <a:ext cx="102960" cy="47160"/>
          </a:xfrm>
          <a:custGeom>
            <a:avLst/>
            <a:gdLst>
              <a:gd name="textAreaLeft" fmla="*/ 0 w 102960"/>
              <a:gd name="textAreaRight" fmla="*/ 103320 w 102960"/>
              <a:gd name="textAreaTop" fmla="*/ 0 h 47160"/>
              <a:gd name="textAreaBottom" fmla="*/ 47520 h 47160"/>
            </a:gdLst>
            <a:ahLst/>
            <a:rect l="textAreaLeft" t="textAreaTop" r="textAreaRight" b="textAreaBottom"/>
            <a:pathLst>
              <a:path w="103454" h="47675">
                <a:moveTo>
                  <a:pt x="0" y="39661"/>
                </a:moveTo>
                <a:lnTo>
                  <a:pt x="47028" y="39661"/>
                </a:lnTo>
                <a:lnTo>
                  <a:pt x="47028" y="20459"/>
                </a:lnTo>
                <a:lnTo>
                  <a:pt x="8737" y="20459"/>
                </a:lnTo>
                <a:lnTo>
                  <a:pt x="8737" y="12446"/>
                </a:lnTo>
                <a:lnTo>
                  <a:pt x="47028" y="12446"/>
                </a:lnTo>
                <a:lnTo>
                  <a:pt x="47028" y="0"/>
                </a:lnTo>
                <a:lnTo>
                  <a:pt x="55892" y="0"/>
                </a:lnTo>
                <a:lnTo>
                  <a:pt x="55892" y="12446"/>
                </a:lnTo>
                <a:lnTo>
                  <a:pt x="94399" y="12446"/>
                </a:lnTo>
                <a:lnTo>
                  <a:pt x="94399" y="20459"/>
                </a:lnTo>
                <a:lnTo>
                  <a:pt x="55892" y="20459"/>
                </a:lnTo>
                <a:lnTo>
                  <a:pt x="55892" y="39661"/>
                </a:lnTo>
                <a:lnTo>
                  <a:pt x="103454" y="39661"/>
                </a:lnTo>
                <a:lnTo>
                  <a:pt x="103454" y="47675"/>
                </a:lnTo>
                <a:lnTo>
                  <a:pt x="0" y="47675"/>
                </a:lnTo>
                <a:lnTo>
                  <a:pt x="0" y="39661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1959840" y="6293160"/>
            <a:ext cx="103680" cy="104760"/>
          </a:xfrm>
          <a:custGeom>
            <a:avLst/>
            <a:gdLst>
              <a:gd name="textAreaLeft" fmla="*/ 0 w 103680"/>
              <a:gd name="textAreaRight" fmla="*/ 104040 w 1036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987" h="104953">
                <a:moveTo>
                  <a:pt x="2324" y="18669"/>
                </a:moveTo>
                <a:lnTo>
                  <a:pt x="52933" y="18669"/>
                </a:lnTo>
                <a:cubicBezTo>
                  <a:pt x="49390" y="11925"/>
                  <a:pt x="46608" y="6998"/>
                  <a:pt x="44615" y="3898"/>
                </a:cubicBezTo>
                <a:lnTo>
                  <a:pt x="52844" y="0"/>
                </a:lnTo>
                <a:cubicBezTo>
                  <a:pt x="54813" y="3035"/>
                  <a:pt x="57759" y="7937"/>
                  <a:pt x="61696" y="14757"/>
                </a:cubicBezTo>
                <a:lnTo>
                  <a:pt x="54000" y="18669"/>
                </a:lnTo>
                <a:lnTo>
                  <a:pt x="103987" y="18669"/>
                </a:lnTo>
                <a:lnTo>
                  <a:pt x="103987" y="26695"/>
                </a:lnTo>
                <a:lnTo>
                  <a:pt x="40030" y="26695"/>
                </a:lnTo>
                <a:cubicBezTo>
                  <a:pt x="39776" y="33096"/>
                  <a:pt x="39522" y="38519"/>
                  <a:pt x="39230" y="43040"/>
                </a:cubicBezTo>
                <a:lnTo>
                  <a:pt x="90170" y="43040"/>
                </a:lnTo>
                <a:cubicBezTo>
                  <a:pt x="89331" y="58293"/>
                  <a:pt x="88417" y="71539"/>
                  <a:pt x="87426" y="82804"/>
                </a:cubicBezTo>
                <a:cubicBezTo>
                  <a:pt x="86664" y="95529"/>
                  <a:pt x="80467" y="101879"/>
                  <a:pt x="68872" y="101879"/>
                </a:cubicBezTo>
                <a:cubicBezTo>
                  <a:pt x="63525" y="101879"/>
                  <a:pt x="56388" y="101600"/>
                  <a:pt x="47459" y="101028"/>
                </a:cubicBezTo>
                <a:cubicBezTo>
                  <a:pt x="47104" y="98361"/>
                  <a:pt x="46570" y="95135"/>
                  <a:pt x="45884" y="91338"/>
                </a:cubicBezTo>
                <a:cubicBezTo>
                  <a:pt x="54813" y="92519"/>
                  <a:pt x="62052" y="93129"/>
                  <a:pt x="67614" y="93129"/>
                </a:cubicBezTo>
                <a:cubicBezTo>
                  <a:pt x="74066" y="93129"/>
                  <a:pt x="77698" y="89306"/>
                  <a:pt x="78460" y="81635"/>
                </a:cubicBezTo>
                <a:cubicBezTo>
                  <a:pt x="79311" y="73279"/>
                  <a:pt x="80048" y="63030"/>
                  <a:pt x="80683" y="50952"/>
                </a:cubicBezTo>
                <a:lnTo>
                  <a:pt x="38646" y="50952"/>
                </a:lnTo>
                <a:cubicBezTo>
                  <a:pt x="36677" y="74142"/>
                  <a:pt x="25933" y="92151"/>
                  <a:pt x="6426" y="104952"/>
                </a:cubicBezTo>
                <a:cubicBezTo>
                  <a:pt x="4533" y="102692"/>
                  <a:pt x="2387" y="100304"/>
                  <a:pt x="0" y="97777"/>
                </a:cubicBezTo>
                <a:cubicBezTo>
                  <a:pt x="18554" y="85534"/>
                  <a:pt x="28511" y="69164"/>
                  <a:pt x="29845" y="48615"/>
                </a:cubicBezTo>
                <a:cubicBezTo>
                  <a:pt x="30340" y="43065"/>
                  <a:pt x="30733" y="35750"/>
                  <a:pt x="31064" y="26695"/>
                </a:cubicBezTo>
                <a:lnTo>
                  <a:pt x="2324" y="26695"/>
                </a:lnTo>
                <a:lnTo>
                  <a:pt x="2324" y="1866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2114280" y="632376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47">
                <a:moveTo>
                  <a:pt x="6807" y="0"/>
                </a:moveTo>
                <a:cubicBezTo>
                  <a:pt x="8661" y="0"/>
                  <a:pt x="10261" y="660"/>
                  <a:pt x="11595" y="1955"/>
                </a:cubicBezTo>
                <a:cubicBezTo>
                  <a:pt x="12928" y="3251"/>
                  <a:pt x="13601" y="4813"/>
                  <a:pt x="13601" y="6642"/>
                </a:cubicBezTo>
                <a:cubicBezTo>
                  <a:pt x="13601" y="8483"/>
                  <a:pt x="12954" y="10045"/>
                  <a:pt x="11658" y="11366"/>
                </a:cubicBezTo>
                <a:cubicBezTo>
                  <a:pt x="10350" y="12687"/>
                  <a:pt x="8725" y="13347"/>
                  <a:pt x="6807" y="13347"/>
                </a:cubicBezTo>
                <a:cubicBezTo>
                  <a:pt x="4876" y="13347"/>
                  <a:pt x="3251" y="12687"/>
                  <a:pt x="1943" y="11366"/>
                </a:cubicBezTo>
                <a:cubicBezTo>
                  <a:pt x="647" y="10045"/>
                  <a:pt x="0" y="8483"/>
                  <a:pt x="0" y="6642"/>
                </a:cubicBezTo>
                <a:cubicBezTo>
                  <a:pt x="0" y="4813"/>
                  <a:pt x="673" y="3251"/>
                  <a:pt x="2006" y="1955"/>
                </a:cubicBezTo>
                <a:cubicBezTo>
                  <a:pt x="3340" y="660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2110320" y="637020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306" h="28118">
                <a:moveTo>
                  <a:pt x="16306" y="0"/>
                </a:moveTo>
                <a:lnTo>
                  <a:pt x="7378" y="28118"/>
                </a:lnTo>
                <a:lnTo>
                  <a:pt x="0" y="28118"/>
                </a:lnTo>
                <a:lnTo>
                  <a:pt x="6489" y="0"/>
                </a:lnTo>
                <a:lnTo>
                  <a:pt x="16306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777600" y="652752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8">
                <a:moveTo>
                  <a:pt x="25895" y="17933"/>
                </a:moveTo>
                <a:lnTo>
                  <a:pt x="19558" y="24307"/>
                </a:lnTo>
                <a:cubicBezTo>
                  <a:pt x="13614" y="17843"/>
                  <a:pt x="7111" y="11684"/>
                  <a:pt x="0" y="5804"/>
                </a:cubicBezTo>
                <a:lnTo>
                  <a:pt x="5587" y="0"/>
                </a:lnTo>
                <a:cubicBezTo>
                  <a:pt x="14351" y="7073"/>
                  <a:pt x="21107" y="13043"/>
                  <a:pt x="25895" y="1793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93600" y="652752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8">
                <a:moveTo>
                  <a:pt x="25895" y="17933"/>
                </a:moveTo>
                <a:lnTo>
                  <a:pt x="19558" y="24307"/>
                </a:lnTo>
                <a:cubicBezTo>
                  <a:pt x="13614" y="17843"/>
                  <a:pt x="7112" y="11684"/>
                  <a:pt x="0" y="5804"/>
                </a:cubicBezTo>
                <a:lnTo>
                  <a:pt x="5588" y="0"/>
                </a:lnTo>
                <a:cubicBezTo>
                  <a:pt x="14351" y="7073"/>
                  <a:pt x="21107" y="13043"/>
                  <a:pt x="25895" y="1793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528560" y="6455880"/>
            <a:ext cx="104400" cy="92880"/>
          </a:xfrm>
          <a:custGeom>
            <a:avLst/>
            <a:gdLst>
              <a:gd name="textAreaLeft" fmla="*/ 0 w 104400"/>
              <a:gd name="textAreaRight" fmla="*/ 104760 w 104400"/>
              <a:gd name="textAreaTop" fmla="*/ 0 h 92880"/>
              <a:gd name="textAreaBottom" fmla="*/ 93240 h 92880"/>
            </a:gdLst>
            <a:ahLst/>
            <a:rect l="textAreaLeft" t="textAreaTop" r="textAreaRight" b="textAreaBottom"/>
            <a:pathLst>
              <a:path w="104838" h="93345">
                <a:moveTo>
                  <a:pt x="95986" y="63601"/>
                </a:moveTo>
                <a:cubicBezTo>
                  <a:pt x="99491" y="65062"/>
                  <a:pt x="102450" y="66154"/>
                  <a:pt x="104838" y="66865"/>
                </a:cubicBezTo>
                <a:cubicBezTo>
                  <a:pt x="103708" y="73761"/>
                  <a:pt x="102158" y="79831"/>
                  <a:pt x="100202" y="85102"/>
                </a:cubicBezTo>
                <a:cubicBezTo>
                  <a:pt x="97942" y="90588"/>
                  <a:pt x="94259" y="93345"/>
                  <a:pt x="89128" y="93345"/>
                </a:cubicBezTo>
                <a:cubicBezTo>
                  <a:pt x="82651" y="93345"/>
                  <a:pt x="76923" y="92100"/>
                  <a:pt x="71932" y="89649"/>
                </a:cubicBezTo>
                <a:cubicBezTo>
                  <a:pt x="59563" y="82829"/>
                  <a:pt x="53086" y="66445"/>
                  <a:pt x="52527" y="40500"/>
                </a:cubicBezTo>
                <a:cubicBezTo>
                  <a:pt x="52387" y="31635"/>
                  <a:pt x="52349" y="20739"/>
                  <a:pt x="52425" y="7797"/>
                </a:cubicBezTo>
                <a:lnTo>
                  <a:pt x="0" y="7797"/>
                </a:lnTo>
                <a:lnTo>
                  <a:pt x="0" y="0"/>
                </a:lnTo>
                <a:lnTo>
                  <a:pt x="61594" y="0"/>
                </a:lnTo>
                <a:cubicBezTo>
                  <a:pt x="61328" y="9359"/>
                  <a:pt x="61175" y="18681"/>
                  <a:pt x="61175" y="28003"/>
                </a:cubicBezTo>
                <a:cubicBezTo>
                  <a:pt x="73837" y="18186"/>
                  <a:pt x="83146" y="10274"/>
                  <a:pt x="89128" y="4216"/>
                </a:cubicBezTo>
                <a:lnTo>
                  <a:pt x="96723" y="11912"/>
                </a:lnTo>
                <a:cubicBezTo>
                  <a:pt x="91160" y="15849"/>
                  <a:pt x="81140" y="22974"/>
                  <a:pt x="66662" y="33261"/>
                </a:cubicBezTo>
                <a:cubicBezTo>
                  <a:pt x="78016" y="38455"/>
                  <a:pt x="88874" y="43700"/>
                  <a:pt x="99250" y="49047"/>
                </a:cubicBezTo>
                <a:lnTo>
                  <a:pt x="94183" y="57479"/>
                </a:lnTo>
                <a:cubicBezTo>
                  <a:pt x="84200" y="51358"/>
                  <a:pt x="73215" y="45211"/>
                  <a:pt x="61239" y="39014"/>
                </a:cubicBezTo>
                <a:cubicBezTo>
                  <a:pt x="61264" y="64693"/>
                  <a:pt x="67614" y="79489"/>
                  <a:pt x="80276" y="83426"/>
                </a:cubicBezTo>
                <a:cubicBezTo>
                  <a:pt x="87020" y="85750"/>
                  <a:pt x="91198" y="84416"/>
                  <a:pt x="92811" y="79412"/>
                </a:cubicBezTo>
                <a:cubicBezTo>
                  <a:pt x="94018" y="75412"/>
                  <a:pt x="95072" y="70141"/>
                  <a:pt x="95986" y="63601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959840" y="6447960"/>
            <a:ext cx="103680" cy="104760"/>
          </a:xfrm>
          <a:custGeom>
            <a:avLst/>
            <a:gdLst>
              <a:gd name="textAreaLeft" fmla="*/ 0 w 103680"/>
              <a:gd name="textAreaRight" fmla="*/ 104040 w 1036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987" h="104952">
                <a:moveTo>
                  <a:pt x="2324" y="18669"/>
                </a:moveTo>
                <a:lnTo>
                  <a:pt x="52933" y="18669"/>
                </a:lnTo>
                <a:cubicBezTo>
                  <a:pt x="49390" y="11925"/>
                  <a:pt x="46608" y="6997"/>
                  <a:pt x="44615" y="3898"/>
                </a:cubicBezTo>
                <a:lnTo>
                  <a:pt x="52844" y="0"/>
                </a:lnTo>
                <a:cubicBezTo>
                  <a:pt x="54813" y="3035"/>
                  <a:pt x="57759" y="7937"/>
                  <a:pt x="61696" y="14757"/>
                </a:cubicBezTo>
                <a:lnTo>
                  <a:pt x="54000" y="18669"/>
                </a:lnTo>
                <a:lnTo>
                  <a:pt x="103987" y="18669"/>
                </a:lnTo>
                <a:lnTo>
                  <a:pt x="103987" y="26695"/>
                </a:lnTo>
                <a:lnTo>
                  <a:pt x="40030" y="26695"/>
                </a:lnTo>
                <a:cubicBezTo>
                  <a:pt x="39776" y="33096"/>
                  <a:pt x="39522" y="38518"/>
                  <a:pt x="39230" y="43040"/>
                </a:cubicBezTo>
                <a:lnTo>
                  <a:pt x="90170" y="43040"/>
                </a:lnTo>
                <a:cubicBezTo>
                  <a:pt x="89331" y="58292"/>
                  <a:pt x="88417" y="71539"/>
                  <a:pt x="87426" y="82803"/>
                </a:cubicBezTo>
                <a:cubicBezTo>
                  <a:pt x="86664" y="95529"/>
                  <a:pt x="80467" y="101879"/>
                  <a:pt x="68872" y="101879"/>
                </a:cubicBezTo>
                <a:cubicBezTo>
                  <a:pt x="63525" y="101879"/>
                  <a:pt x="56388" y="101600"/>
                  <a:pt x="47459" y="101028"/>
                </a:cubicBezTo>
                <a:cubicBezTo>
                  <a:pt x="47104" y="98361"/>
                  <a:pt x="46570" y="95135"/>
                  <a:pt x="45884" y="91338"/>
                </a:cubicBezTo>
                <a:cubicBezTo>
                  <a:pt x="54813" y="92519"/>
                  <a:pt x="62052" y="93129"/>
                  <a:pt x="67614" y="93129"/>
                </a:cubicBezTo>
                <a:cubicBezTo>
                  <a:pt x="74066" y="93129"/>
                  <a:pt x="77698" y="89306"/>
                  <a:pt x="78460" y="81635"/>
                </a:cubicBezTo>
                <a:cubicBezTo>
                  <a:pt x="79311" y="73278"/>
                  <a:pt x="80048" y="63030"/>
                  <a:pt x="80683" y="50952"/>
                </a:cubicBezTo>
                <a:lnTo>
                  <a:pt x="38646" y="50952"/>
                </a:lnTo>
                <a:cubicBezTo>
                  <a:pt x="36677" y="74142"/>
                  <a:pt x="25933" y="92150"/>
                  <a:pt x="6426" y="104952"/>
                </a:cubicBezTo>
                <a:cubicBezTo>
                  <a:pt x="4533" y="102692"/>
                  <a:pt x="2387" y="100304"/>
                  <a:pt x="0" y="97776"/>
                </a:cubicBezTo>
                <a:cubicBezTo>
                  <a:pt x="18554" y="85534"/>
                  <a:pt x="28511" y="69163"/>
                  <a:pt x="29845" y="48615"/>
                </a:cubicBezTo>
                <a:cubicBezTo>
                  <a:pt x="30340" y="43065"/>
                  <a:pt x="30733" y="35750"/>
                  <a:pt x="31064" y="26695"/>
                </a:cubicBezTo>
                <a:lnTo>
                  <a:pt x="2324" y="26695"/>
                </a:lnTo>
                <a:lnTo>
                  <a:pt x="2324" y="1866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2114280" y="647892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47">
                <a:moveTo>
                  <a:pt x="6807" y="0"/>
                </a:moveTo>
                <a:cubicBezTo>
                  <a:pt x="8661" y="0"/>
                  <a:pt x="10261" y="660"/>
                  <a:pt x="11595" y="1955"/>
                </a:cubicBezTo>
                <a:cubicBezTo>
                  <a:pt x="12928" y="3251"/>
                  <a:pt x="13601" y="4813"/>
                  <a:pt x="13601" y="6642"/>
                </a:cubicBezTo>
                <a:cubicBezTo>
                  <a:pt x="13601" y="8483"/>
                  <a:pt x="12954" y="10045"/>
                  <a:pt x="11658" y="11366"/>
                </a:cubicBezTo>
                <a:cubicBezTo>
                  <a:pt x="10350" y="12687"/>
                  <a:pt x="8725" y="13347"/>
                  <a:pt x="6807" y="13347"/>
                </a:cubicBezTo>
                <a:cubicBezTo>
                  <a:pt x="4876" y="13347"/>
                  <a:pt x="3251" y="12687"/>
                  <a:pt x="1943" y="11366"/>
                </a:cubicBezTo>
                <a:cubicBezTo>
                  <a:pt x="647" y="10045"/>
                  <a:pt x="0" y="8483"/>
                  <a:pt x="0" y="6642"/>
                </a:cubicBezTo>
                <a:cubicBezTo>
                  <a:pt x="0" y="4813"/>
                  <a:pt x="673" y="3251"/>
                  <a:pt x="2006" y="1955"/>
                </a:cubicBezTo>
                <a:cubicBezTo>
                  <a:pt x="3340" y="660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2110320" y="652536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306" h="28117">
                <a:moveTo>
                  <a:pt x="16306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306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556560" y="6603120"/>
            <a:ext cx="104400" cy="103320"/>
          </a:xfrm>
          <a:custGeom>
            <a:avLst/>
            <a:gdLst>
              <a:gd name="textAreaLeft" fmla="*/ 0 w 104400"/>
              <a:gd name="textAreaRight" fmla="*/ 104760 w 1044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4609" h="103568">
                <a:moveTo>
                  <a:pt x="72339" y="28473"/>
                </a:moveTo>
                <a:cubicBezTo>
                  <a:pt x="83172" y="39370"/>
                  <a:pt x="91846" y="49009"/>
                  <a:pt x="98399" y="57366"/>
                </a:cubicBezTo>
                <a:lnTo>
                  <a:pt x="91008" y="62751"/>
                </a:lnTo>
                <a:cubicBezTo>
                  <a:pt x="88836" y="59906"/>
                  <a:pt x="86613" y="57099"/>
                  <a:pt x="84366" y="54318"/>
                </a:cubicBezTo>
                <a:cubicBezTo>
                  <a:pt x="79159" y="54470"/>
                  <a:pt x="74231" y="54597"/>
                  <a:pt x="69595" y="54736"/>
                </a:cubicBezTo>
                <a:lnTo>
                  <a:pt x="69595" y="86068"/>
                </a:lnTo>
                <a:cubicBezTo>
                  <a:pt x="69595" y="89217"/>
                  <a:pt x="69976" y="91224"/>
                  <a:pt x="70764" y="92075"/>
                </a:cubicBezTo>
                <a:cubicBezTo>
                  <a:pt x="71666" y="93332"/>
                  <a:pt x="73545" y="93980"/>
                  <a:pt x="76339" y="93980"/>
                </a:cubicBezTo>
                <a:lnTo>
                  <a:pt x="86359" y="93980"/>
                </a:lnTo>
                <a:cubicBezTo>
                  <a:pt x="91008" y="93980"/>
                  <a:pt x="93611" y="92227"/>
                  <a:pt x="94183" y="88696"/>
                </a:cubicBezTo>
                <a:cubicBezTo>
                  <a:pt x="94665" y="85750"/>
                  <a:pt x="95046" y="81140"/>
                  <a:pt x="95338" y="74879"/>
                </a:cubicBezTo>
                <a:cubicBezTo>
                  <a:pt x="97866" y="75869"/>
                  <a:pt x="100965" y="76911"/>
                  <a:pt x="104609" y="78054"/>
                </a:cubicBezTo>
                <a:cubicBezTo>
                  <a:pt x="104127" y="82969"/>
                  <a:pt x="103530" y="87439"/>
                  <a:pt x="102819" y="91453"/>
                </a:cubicBezTo>
                <a:cubicBezTo>
                  <a:pt x="101701" y="97980"/>
                  <a:pt x="96812" y="101244"/>
                  <a:pt x="88163" y="101244"/>
                </a:cubicBezTo>
                <a:lnTo>
                  <a:pt x="74866" y="101244"/>
                </a:lnTo>
                <a:cubicBezTo>
                  <a:pt x="69595" y="101244"/>
                  <a:pt x="65976" y="100139"/>
                  <a:pt x="64008" y="97879"/>
                </a:cubicBezTo>
                <a:cubicBezTo>
                  <a:pt x="62039" y="95973"/>
                  <a:pt x="61048" y="92494"/>
                  <a:pt x="61048" y="87439"/>
                </a:cubicBezTo>
                <a:lnTo>
                  <a:pt x="61048" y="55067"/>
                </a:lnTo>
                <a:cubicBezTo>
                  <a:pt x="54089" y="55309"/>
                  <a:pt x="47828" y="55537"/>
                  <a:pt x="42291" y="55727"/>
                </a:cubicBezTo>
                <a:cubicBezTo>
                  <a:pt x="41897" y="67132"/>
                  <a:pt x="39649" y="76073"/>
                  <a:pt x="35534" y="82588"/>
                </a:cubicBezTo>
                <a:cubicBezTo>
                  <a:pt x="29972" y="91516"/>
                  <a:pt x="19888" y="98514"/>
                  <a:pt x="5270" y="103568"/>
                </a:cubicBezTo>
                <a:cubicBezTo>
                  <a:pt x="3848" y="101244"/>
                  <a:pt x="2108" y="98641"/>
                  <a:pt x="0" y="95770"/>
                </a:cubicBezTo>
                <a:cubicBezTo>
                  <a:pt x="13982" y="91402"/>
                  <a:pt x="23393" y="85331"/>
                  <a:pt x="28257" y="77520"/>
                </a:cubicBezTo>
                <a:cubicBezTo>
                  <a:pt x="31737" y="72009"/>
                  <a:pt x="33655" y="64858"/>
                  <a:pt x="33997" y="56108"/>
                </a:cubicBezTo>
                <a:cubicBezTo>
                  <a:pt x="29362" y="56324"/>
                  <a:pt x="25374" y="56528"/>
                  <a:pt x="22034" y="56756"/>
                </a:cubicBezTo>
                <a:cubicBezTo>
                  <a:pt x="19989" y="56883"/>
                  <a:pt x="17183" y="57442"/>
                  <a:pt x="13601" y="58432"/>
                </a:cubicBezTo>
                <a:lnTo>
                  <a:pt x="9270" y="49365"/>
                </a:lnTo>
                <a:cubicBezTo>
                  <a:pt x="12992" y="48514"/>
                  <a:pt x="16268" y="46825"/>
                  <a:pt x="19088" y="44298"/>
                </a:cubicBezTo>
                <a:cubicBezTo>
                  <a:pt x="25971" y="37795"/>
                  <a:pt x="32486" y="30695"/>
                  <a:pt x="38646" y="22986"/>
                </a:cubicBezTo>
                <a:lnTo>
                  <a:pt x="1993" y="22986"/>
                </a:lnTo>
                <a:lnTo>
                  <a:pt x="1993" y="15189"/>
                </a:lnTo>
                <a:lnTo>
                  <a:pt x="51663" y="15189"/>
                </a:lnTo>
                <a:cubicBezTo>
                  <a:pt x="49212" y="10833"/>
                  <a:pt x="46926" y="7163"/>
                  <a:pt x="44818" y="4216"/>
                </a:cubicBezTo>
                <a:lnTo>
                  <a:pt x="52298" y="0"/>
                </a:lnTo>
                <a:cubicBezTo>
                  <a:pt x="54838" y="3441"/>
                  <a:pt x="57505" y="7493"/>
                  <a:pt x="60325" y="12128"/>
                </a:cubicBezTo>
                <a:lnTo>
                  <a:pt x="54724" y="15189"/>
                </a:lnTo>
                <a:lnTo>
                  <a:pt x="103136" y="15189"/>
                </a:lnTo>
                <a:lnTo>
                  <a:pt x="103136" y="22986"/>
                </a:lnTo>
                <a:lnTo>
                  <a:pt x="50088" y="22986"/>
                </a:lnTo>
                <a:cubicBezTo>
                  <a:pt x="43370" y="30899"/>
                  <a:pt x="35433" y="39332"/>
                  <a:pt x="26250" y="48311"/>
                </a:cubicBezTo>
                <a:cubicBezTo>
                  <a:pt x="48082" y="47841"/>
                  <a:pt x="65468" y="47447"/>
                  <a:pt x="78409" y="47104"/>
                </a:cubicBezTo>
                <a:cubicBezTo>
                  <a:pt x="74434" y="42316"/>
                  <a:pt x="70370" y="37630"/>
                  <a:pt x="66230" y="33007"/>
                </a:cubicBezTo>
                <a:lnTo>
                  <a:pt x="72339" y="28473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1959840" y="6603120"/>
            <a:ext cx="103680" cy="104760"/>
          </a:xfrm>
          <a:custGeom>
            <a:avLst/>
            <a:gdLst>
              <a:gd name="textAreaLeft" fmla="*/ 0 w 103680"/>
              <a:gd name="textAreaRight" fmla="*/ 104040 w 1036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987" h="104953">
                <a:moveTo>
                  <a:pt x="2324" y="18668"/>
                </a:moveTo>
                <a:lnTo>
                  <a:pt x="52933" y="18668"/>
                </a:lnTo>
                <a:cubicBezTo>
                  <a:pt x="49390" y="11925"/>
                  <a:pt x="46608" y="6998"/>
                  <a:pt x="44615" y="3898"/>
                </a:cubicBezTo>
                <a:lnTo>
                  <a:pt x="52844" y="0"/>
                </a:lnTo>
                <a:cubicBezTo>
                  <a:pt x="54813" y="3035"/>
                  <a:pt x="57759" y="7937"/>
                  <a:pt x="61696" y="14757"/>
                </a:cubicBezTo>
                <a:lnTo>
                  <a:pt x="54000" y="18668"/>
                </a:lnTo>
                <a:lnTo>
                  <a:pt x="103987" y="18668"/>
                </a:lnTo>
                <a:lnTo>
                  <a:pt x="103987" y="26695"/>
                </a:lnTo>
                <a:lnTo>
                  <a:pt x="40030" y="26695"/>
                </a:lnTo>
                <a:cubicBezTo>
                  <a:pt x="39776" y="33096"/>
                  <a:pt x="39522" y="38519"/>
                  <a:pt x="39230" y="43040"/>
                </a:cubicBezTo>
                <a:lnTo>
                  <a:pt x="90170" y="43040"/>
                </a:lnTo>
                <a:cubicBezTo>
                  <a:pt x="89331" y="58293"/>
                  <a:pt x="88417" y="71539"/>
                  <a:pt x="87426" y="82804"/>
                </a:cubicBezTo>
                <a:cubicBezTo>
                  <a:pt x="86664" y="95529"/>
                  <a:pt x="80467" y="101879"/>
                  <a:pt x="68872" y="101879"/>
                </a:cubicBezTo>
                <a:cubicBezTo>
                  <a:pt x="63525" y="101879"/>
                  <a:pt x="56388" y="101600"/>
                  <a:pt x="47459" y="101028"/>
                </a:cubicBezTo>
                <a:cubicBezTo>
                  <a:pt x="47104" y="98361"/>
                  <a:pt x="46570" y="95136"/>
                  <a:pt x="45884" y="91338"/>
                </a:cubicBezTo>
                <a:cubicBezTo>
                  <a:pt x="54813" y="92519"/>
                  <a:pt x="62052" y="93129"/>
                  <a:pt x="67614" y="93129"/>
                </a:cubicBezTo>
                <a:cubicBezTo>
                  <a:pt x="74066" y="93129"/>
                  <a:pt x="77698" y="89306"/>
                  <a:pt x="78460" y="81635"/>
                </a:cubicBezTo>
                <a:cubicBezTo>
                  <a:pt x="79311" y="73279"/>
                  <a:pt x="80048" y="63030"/>
                  <a:pt x="80683" y="50952"/>
                </a:cubicBezTo>
                <a:lnTo>
                  <a:pt x="38646" y="50952"/>
                </a:lnTo>
                <a:cubicBezTo>
                  <a:pt x="36677" y="74142"/>
                  <a:pt x="25933" y="92150"/>
                  <a:pt x="6426" y="104952"/>
                </a:cubicBezTo>
                <a:cubicBezTo>
                  <a:pt x="4533" y="102692"/>
                  <a:pt x="2387" y="100304"/>
                  <a:pt x="0" y="97776"/>
                </a:cubicBezTo>
                <a:cubicBezTo>
                  <a:pt x="18554" y="85534"/>
                  <a:pt x="28511" y="69163"/>
                  <a:pt x="29845" y="48615"/>
                </a:cubicBezTo>
                <a:cubicBezTo>
                  <a:pt x="30340" y="43065"/>
                  <a:pt x="30733" y="35750"/>
                  <a:pt x="31064" y="26695"/>
                </a:cubicBezTo>
                <a:lnTo>
                  <a:pt x="2324" y="26695"/>
                </a:lnTo>
                <a:lnTo>
                  <a:pt x="2324" y="1866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372960" y="453960"/>
            <a:ext cx="47160" cy="51840"/>
          </a:xfrm>
          <a:custGeom>
            <a:avLst/>
            <a:gdLst>
              <a:gd name="textAreaLeft" fmla="*/ 0 w 47160"/>
              <a:gd name="textAreaRight" fmla="*/ 47520 w 4716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47675" h="52285">
                <a:moveTo>
                  <a:pt x="0" y="0"/>
                </a:moveTo>
                <a:cubicBezTo>
                  <a:pt x="12801" y="13931"/>
                  <a:pt x="25603" y="27876"/>
                  <a:pt x="38379" y="41795"/>
                </a:cubicBezTo>
                <a:lnTo>
                  <a:pt x="3403" y="41795"/>
                </a:lnTo>
                <a:lnTo>
                  <a:pt x="3403" y="52285"/>
                </a:lnTo>
                <a:lnTo>
                  <a:pt x="38379" y="52285"/>
                </a:lnTo>
                <a:cubicBezTo>
                  <a:pt x="38900" y="52235"/>
                  <a:pt x="44056" y="51816"/>
                  <a:pt x="46951" y="47155"/>
                </a:cubicBezTo>
                <a:cubicBezTo>
                  <a:pt x="49961" y="42367"/>
                  <a:pt x="47853" y="37401"/>
                  <a:pt x="47675" y="36982"/>
                </a:cubicBezTo>
                <a:cubicBezTo>
                  <a:pt x="36436" y="24650"/>
                  <a:pt x="25184" y="12344"/>
                  <a:pt x="13944" y="0"/>
                </a:cubicBez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428400" y="432720"/>
            <a:ext cx="10440" cy="73440"/>
          </a:xfrm>
          <a:custGeom>
            <a:avLst/>
            <a:gdLst>
              <a:gd name="textAreaLeft" fmla="*/ 0 w 10440"/>
              <a:gd name="textAreaRight" fmla="*/ 10800 w 10440"/>
              <a:gd name="textAreaTop" fmla="*/ 0 h 73440"/>
              <a:gd name="textAreaBottom" fmla="*/ 73800 h 73440"/>
            </a:gdLst>
            <a:ahLst/>
            <a:rect l="textAreaLeft" t="textAreaTop" r="textAreaRight" b="textAreaBottom"/>
            <a:pathLst>
              <a:path w="10718" h="73647">
                <a:moveTo>
                  <a:pt x="5359" y="0"/>
                </a:moveTo>
                <a:lnTo>
                  <a:pt x="5359" y="73647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440280" y="453960"/>
            <a:ext cx="35640" cy="51840"/>
          </a:xfrm>
          <a:custGeom>
            <a:avLst/>
            <a:gdLst>
              <a:gd name="textAreaLeft" fmla="*/ 0 w 35640"/>
              <a:gd name="textAreaRight" fmla="*/ 36000 w 3564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5915" h="52285">
                <a:moveTo>
                  <a:pt x="21970" y="0"/>
                </a:moveTo>
                <a:cubicBezTo>
                  <a:pt x="14630" y="8153"/>
                  <a:pt x="7315" y="16268"/>
                  <a:pt x="0" y="24434"/>
                </a:cubicBezTo>
                <a:cubicBezTo>
                  <a:pt x="7315" y="33705"/>
                  <a:pt x="14630" y="42989"/>
                  <a:pt x="21970" y="52285"/>
                </a:cubicBezTo>
                <a:lnTo>
                  <a:pt x="35915" y="52285"/>
                </a:lnTo>
                <a:cubicBezTo>
                  <a:pt x="28320" y="42989"/>
                  <a:pt x="20688" y="33705"/>
                  <a:pt x="13119" y="24434"/>
                </a:cubicBezTo>
                <a:cubicBezTo>
                  <a:pt x="20688" y="16268"/>
                  <a:pt x="28320" y="8153"/>
                  <a:pt x="35915" y="0"/>
                </a:cubicBezTo>
                <a:lnTo>
                  <a:pt x="2197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477720" y="453960"/>
            <a:ext cx="51840" cy="78840"/>
          </a:xfrm>
          <a:custGeom>
            <a:avLst/>
            <a:gdLst>
              <a:gd name="textAreaLeft" fmla="*/ 0 w 51840"/>
              <a:gd name="textAreaRight" fmla="*/ 52200 w 518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52146" h="79222">
                <a:moveTo>
                  <a:pt x="0" y="0"/>
                </a:moveTo>
                <a:lnTo>
                  <a:pt x="13944" y="0"/>
                </a:lnTo>
                <a:cubicBezTo>
                  <a:pt x="19443" y="7035"/>
                  <a:pt x="24955" y="14058"/>
                  <a:pt x="30429" y="21056"/>
                </a:cubicBezTo>
                <a:cubicBezTo>
                  <a:pt x="34061" y="14058"/>
                  <a:pt x="37655" y="7035"/>
                  <a:pt x="41275" y="0"/>
                </a:cubicBezTo>
                <a:lnTo>
                  <a:pt x="52146" y="0"/>
                </a:lnTo>
                <a:lnTo>
                  <a:pt x="10820" y="79197"/>
                </a:lnTo>
                <a:cubicBezTo>
                  <a:pt x="7213" y="79197"/>
                  <a:pt x="3594" y="79197"/>
                  <a:pt x="0" y="79222"/>
                </a:cubicBezTo>
                <a:lnTo>
                  <a:pt x="24726" y="31673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539640" y="453960"/>
            <a:ext cx="69120" cy="51840"/>
          </a:xfrm>
          <a:custGeom>
            <a:avLst/>
            <a:gdLst>
              <a:gd name="textAreaLeft" fmla="*/ 0 w 69120"/>
              <a:gd name="textAreaRight" fmla="*/ 69480 w 691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69354" h="52184">
                <a:moveTo>
                  <a:pt x="0" y="17335"/>
                </a:moveTo>
                <a:lnTo>
                  <a:pt x="0" y="52184"/>
                </a:lnTo>
                <a:lnTo>
                  <a:pt x="8115" y="52184"/>
                </a:lnTo>
                <a:lnTo>
                  <a:pt x="8115" y="17310"/>
                </a:lnTo>
                <a:cubicBezTo>
                  <a:pt x="9347" y="12052"/>
                  <a:pt x="14109" y="8343"/>
                  <a:pt x="19469" y="8382"/>
                </a:cubicBezTo>
                <a:cubicBezTo>
                  <a:pt x="24777" y="8458"/>
                  <a:pt x="29400" y="12153"/>
                  <a:pt x="30606" y="17335"/>
                </a:cubicBezTo>
                <a:lnTo>
                  <a:pt x="30606" y="52184"/>
                </a:lnTo>
                <a:lnTo>
                  <a:pt x="38747" y="52184"/>
                </a:lnTo>
                <a:lnTo>
                  <a:pt x="38747" y="17335"/>
                </a:lnTo>
                <a:cubicBezTo>
                  <a:pt x="39954" y="12077"/>
                  <a:pt x="44704" y="8343"/>
                  <a:pt x="50076" y="8382"/>
                </a:cubicBezTo>
                <a:cubicBezTo>
                  <a:pt x="55346" y="8432"/>
                  <a:pt x="60032" y="12153"/>
                  <a:pt x="61239" y="17335"/>
                </a:cubicBezTo>
                <a:lnTo>
                  <a:pt x="61239" y="52184"/>
                </a:lnTo>
                <a:lnTo>
                  <a:pt x="69354" y="52184"/>
                </a:lnTo>
                <a:lnTo>
                  <a:pt x="69354" y="17335"/>
                </a:lnTo>
                <a:cubicBezTo>
                  <a:pt x="67221" y="7073"/>
                  <a:pt x="58864" y="-25"/>
                  <a:pt x="50076" y="0"/>
                </a:cubicBezTo>
                <a:cubicBezTo>
                  <a:pt x="41097" y="25"/>
                  <a:pt x="35496" y="7442"/>
                  <a:pt x="34797" y="8356"/>
                </a:cubicBezTo>
                <a:cubicBezTo>
                  <a:pt x="34112" y="7416"/>
                  <a:pt x="28447" y="50"/>
                  <a:pt x="19443" y="0"/>
                </a:cubicBezTo>
                <a:cubicBezTo>
                  <a:pt x="10617" y="-25"/>
                  <a:pt x="2184" y="7048"/>
                  <a:pt x="0" y="1733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675360" y="453960"/>
            <a:ext cx="38520" cy="51840"/>
          </a:xfrm>
          <a:custGeom>
            <a:avLst/>
            <a:gdLst>
              <a:gd name="textAreaLeft" fmla="*/ 0 w 38520"/>
              <a:gd name="textAreaRight" fmla="*/ 38880 w 385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8722" h="52235">
                <a:moveTo>
                  <a:pt x="38722" y="17310"/>
                </a:moveTo>
                <a:cubicBezTo>
                  <a:pt x="37630" y="7543"/>
                  <a:pt x="29298" y="50"/>
                  <a:pt x="19430" y="0"/>
                </a:cubicBezTo>
                <a:cubicBezTo>
                  <a:pt x="9626" y="-76"/>
                  <a:pt x="1219" y="7315"/>
                  <a:pt x="0" y="17056"/>
                </a:cubicBezTo>
                <a:lnTo>
                  <a:pt x="0" y="52235"/>
                </a:lnTo>
                <a:lnTo>
                  <a:pt x="8115" y="52235"/>
                </a:lnTo>
                <a:lnTo>
                  <a:pt x="8115" y="17310"/>
                </a:lnTo>
                <a:cubicBezTo>
                  <a:pt x="9334" y="12026"/>
                  <a:pt x="14071" y="8293"/>
                  <a:pt x="19430" y="8331"/>
                </a:cubicBezTo>
                <a:cubicBezTo>
                  <a:pt x="24739" y="8356"/>
                  <a:pt x="29425" y="12103"/>
                  <a:pt x="30606" y="17310"/>
                </a:cubicBezTo>
                <a:lnTo>
                  <a:pt x="30606" y="52235"/>
                </a:lnTo>
                <a:lnTo>
                  <a:pt x="38696" y="52235"/>
                </a:lnTo>
                <a:cubicBezTo>
                  <a:pt x="38722" y="40601"/>
                  <a:pt x="38722" y="28943"/>
                  <a:pt x="38722" y="1731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8513640" y="1004400"/>
            <a:ext cx="183960" cy="150840"/>
          </a:xfrm>
          <a:custGeom>
            <a:avLst/>
            <a:gdLst>
              <a:gd name="textAreaLeft" fmla="*/ 0 w 183960"/>
              <a:gd name="textAreaRight" fmla="*/ 184320 w 1839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84378" h="151345">
                <a:moveTo>
                  <a:pt x="0" y="0"/>
                </a:moveTo>
                <a:lnTo>
                  <a:pt x="48094" y="0"/>
                </a:lnTo>
                <a:lnTo>
                  <a:pt x="48094" y="40081"/>
                </a:lnTo>
                <a:lnTo>
                  <a:pt x="70548" y="11239"/>
                </a:lnTo>
                <a:cubicBezTo>
                  <a:pt x="108598" y="27050"/>
                  <a:pt x="146519" y="44996"/>
                  <a:pt x="184378" y="65087"/>
                </a:cubicBezTo>
                <a:lnTo>
                  <a:pt x="159994" y="106781"/>
                </a:lnTo>
                <a:cubicBezTo>
                  <a:pt x="122580" y="84340"/>
                  <a:pt x="85293" y="65087"/>
                  <a:pt x="48094" y="49060"/>
                </a:cubicBezTo>
                <a:lnTo>
                  <a:pt x="48094" y="151345"/>
                </a:lnTo>
                <a:lnTo>
                  <a:pt x="0" y="151345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8397000" y="840240"/>
            <a:ext cx="309960" cy="154080"/>
          </a:xfrm>
          <a:custGeom>
            <a:avLst/>
            <a:gdLst>
              <a:gd name="textAreaLeft" fmla="*/ 0 w 309960"/>
              <a:gd name="textAreaRight" fmla="*/ 310320 w 3099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310363" h="154546">
                <a:moveTo>
                  <a:pt x="0" y="114782"/>
                </a:moveTo>
                <a:lnTo>
                  <a:pt x="116700" y="114782"/>
                </a:lnTo>
                <a:lnTo>
                  <a:pt x="116700" y="0"/>
                </a:lnTo>
                <a:lnTo>
                  <a:pt x="164795" y="0"/>
                </a:lnTo>
                <a:lnTo>
                  <a:pt x="164795" y="38480"/>
                </a:lnTo>
                <a:lnTo>
                  <a:pt x="291122" y="38480"/>
                </a:lnTo>
                <a:lnTo>
                  <a:pt x="291122" y="77597"/>
                </a:lnTo>
                <a:lnTo>
                  <a:pt x="164795" y="77597"/>
                </a:lnTo>
                <a:lnTo>
                  <a:pt x="164795" y="114782"/>
                </a:lnTo>
                <a:lnTo>
                  <a:pt x="310363" y="114782"/>
                </a:lnTo>
                <a:lnTo>
                  <a:pt x="310363" y="154546"/>
                </a:lnTo>
                <a:lnTo>
                  <a:pt x="0" y="154546"/>
                </a:lnTo>
                <a:lnTo>
                  <a:pt x="0" y="11478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7718760" y="722052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11" h="25400">
                <a:moveTo>
                  <a:pt x="6350" y="6350"/>
                </a:moveTo>
                <a:lnTo>
                  <a:pt x="211061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8101800" y="722052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36" h="25400">
                <a:moveTo>
                  <a:pt x="6350" y="6350"/>
                </a:moveTo>
                <a:lnTo>
                  <a:pt x="211086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7977960" y="7183440"/>
            <a:ext cx="28080" cy="77400"/>
          </a:xfrm>
          <a:custGeom>
            <a:avLst/>
            <a:gdLst>
              <a:gd name="textAreaLeft" fmla="*/ 0 w 28080"/>
              <a:gd name="textAreaRight" fmla="*/ 28440 w 2808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28473" h="77622">
                <a:moveTo>
                  <a:pt x="28473" y="77622"/>
                </a:moveTo>
                <a:lnTo>
                  <a:pt x="18986" y="77622"/>
                </a:lnTo>
                <a:lnTo>
                  <a:pt x="18986" y="17132"/>
                </a:lnTo>
                <a:cubicBezTo>
                  <a:pt x="16700" y="19316"/>
                  <a:pt x="13703" y="21488"/>
                  <a:pt x="9994" y="23672"/>
                </a:cubicBezTo>
                <a:cubicBezTo>
                  <a:pt x="6286" y="25857"/>
                  <a:pt x="2958" y="27495"/>
                  <a:pt x="0" y="28587"/>
                </a:cubicBezTo>
                <a:lnTo>
                  <a:pt x="0" y="19405"/>
                </a:lnTo>
                <a:cubicBezTo>
                  <a:pt x="5308" y="16903"/>
                  <a:pt x="9956" y="13881"/>
                  <a:pt x="13919" y="10324"/>
                </a:cubicBezTo>
                <a:cubicBezTo>
                  <a:pt x="17894" y="6781"/>
                  <a:pt x="20701" y="3327"/>
                  <a:pt x="22364" y="0"/>
                </a:cubicBezTo>
                <a:lnTo>
                  <a:pt x="28473" y="0"/>
                </a:lnTo>
                <a:lnTo>
                  <a:pt x="28473" y="7762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5672160" y="603000"/>
            <a:ext cx="4677840" cy="18360"/>
          </a:xfrm>
          <a:custGeom>
            <a:avLst/>
            <a:gdLst>
              <a:gd name="textAreaLeft" fmla="*/ 0 w 4677840"/>
              <a:gd name="textAreaRight" fmla="*/ 4678200 w 4677840"/>
              <a:gd name="textAreaTop" fmla="*/ 0 h 18360"/>
              <a:gd name="textAreaBottom" fmla="*/ 18720 h 18360"/>
            </a:gdLst>
            <a:ahLst/>
            <a:rect l="textAreaLeft" t="textAreaTop" r="textAreaRight" b="textAreaBottom"/>
            <a:pathLst>
              <a:path w="4678108" h="18796">
                <a:moveTo>
                  <a:pt x="6350" y="6350"/>
                </a:moveTo>
                <a:lnTo>
                  <a:pt x="4671758" y="6350"/>
                </a:lnTo>
              </a:path>
            </a:pathLst>
          </a:custGeom>
          <a:noFill/>
          <a:ln w="12700">
            <a:solidFill>
              <a:srgbClr val="76798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5700960" y="453960"/>
            <a:ext cx="47160" cy="51840"/>
          </a:xfrm>
          <a:custGeom>
            <a:avLst/>
            <a:gdLst>
              <a:gd name="textAreaLeft" fmla="*/ 0 w 47160"/>
              <a:gd name="textAreaRight" fmla="*/ 47520 w 4716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47675" h="52285">
                <a:moveTo>
                  <a:pt x="0" y="0"/>
                </a:moveTo>
                <a:cubicBezTo>
                  <a:pt x="12801" y="13919"/>
                  <a:pt x="25603" y="27876"/>
                  <a:pt x="38379" y="41795"/>
                </a:cubicBezTo>
                <a:lnTo>
                  <a:pt x="3403" y="41795"/>
                </a:lnTo>
                <a:lnTo>
                  <a:pt x="3403" y="52285"/>
                </a:lnTo>
                <a:lnTo>
                  <a:pt x="38379" y="52285"/>
                </a:lnTo>
                <a:cubicBezTo>
                  <a:pt x="38899" y="52235"/>
                  <a:pt x="44056" y="51816"/>
                  <a:pt x="46951" y="47155"/>
                </a:cubicBezTo>
                <a:cubicBezTo>
                  <a:pt x="49961" y="42367"/>
                  <a:pt x="47853" y="37401"/>
                  <a:pt x="47675" y="36982"/>
                </a:cubicBezTo>
                <a:cubicBezTo>
                  <a:pt x="36436" y="24650"/>
                  <a:pt x="25184" y="12331"/>
                  <a:pt x="13944" y="0"/>
                </a:cubicBez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5756400" y="432720"/>
            <a:ext cx="10440" cy="73440"/>
          </a:xfrm>
          <a:custGeom>
            <a:avLst/>
            <a:gdLst>
              <a:gd name="textAreaLeft" fmla="*/ 0 w 10440"/>
              <a:gd name="textAreaRight" fmla="*/ 10800 w 10440"/>
              <a:gd name="textAreaTop" fmla="*/ 0 h 73440"/>
              <a:gd name="textAreaBottom" fmla="*/ 73800 h 73440"/>
            </a:gdLst>
            <a:ahLst/>
            <a:rect l="textAreaLeft" t="textAreaTop" r="textAreaRight" b="textAreaBottom"/>
            <a:pathLst>
              <a:path w="10718" h="73647">
                <a:moveTo>
                  <a:pt x="5359" y="0"/>
                </a:moveTo>
                <a:lnTo>
                  <a:pt x="5359" y="73647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5768280" y="453960"/>
            <a:ext cx="35640" cy="51840"/>
          </a:xfrm>
          <a:custGeom>
            <a:avLst/>
            <a:gdLst>
              <a:gd name="textAreaLeft" fmla="*/ 0 w 35640"/>
              <a:gd name="textAreaRight" fmla="*/ 36000 w 3564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5916" h="52285">
                <a:moveTo>
                  <a:pt x="21971" y="0"/>
                </a:moveTo>
                <a:cubicBezTo>
                  <a:pt x="14630" y="8140"/>
                  <a:pt x="7315" y="16268"/>
                  <a:pt x="0" y="24434"/>
                </a:cubicBezTo>
                <a:cubicBezTo>
                  <a:pt x="7315" y="33705"/>
                  <a:pt x="14630" y="42989"/>
                  <a:pt x="21971" y="52285"/>
                </a:cubicBezTo>
                <a:lnTo>
                  <a:pt x="35915" y="52285"/>
                </a:lnTo>
                <a:cubicBezTo>
                  <a:pt x="28321" y="42989"/>
                  <a:pt x="20688" y="33705"/>
                  <a:pt x="13119" y="24434"/>
                </a:cubicBezTo>
                <a:cubicBezTo>
                  <a:pt x="20688" y="16268"/>
                  <a:pt x="28321" y="8140"/>
                  <a:pt x="35915" y="0"/>
                </a:cubicBezTo>
                <a:lnTo>
                  <a:pt x="21971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5805720" y="453960"/>
            <a:ext cx="51840" cy="78840"/>
          </a:xfrm>
          <a:custGeom>
            <a:avLst/>
            <a:gdLst>
              <a:gd name="textAreaLeft" fmla="*/ 0 w 51840"/>
              <a:gd name="textAreaRight" fmla="*/ 52200 w 518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52146" h="79222">
                <a:moveTo>
                  <a:pt x="0" y="0"/>
                </a:moveTo>
                <a:lnTo>
                  <a:pt x="13944" y="0"/>
                </a:lnTo>
                <a:cubicBezTo>
                  <a:pt x="19443" y="7023"/>
                  <a:pt x="24955" y="14058"/>
                  <a:pt x="30429" y="21056"/>
                </a:cubicBezTo>
                <a:cubicBezTo>
                  <a:pt x="34061" y="14058"/>
                  <a:pt x="37655" y="7023"/>
                  <a:pt x="41275" y="0"/>
                </a:cubicBezTo>
                <a:lnTo>
                  <a:pt x="52146" y="0"/>
                </a:lnTo>
                <a:lnTo>
                  <a:pt x="10820" y="79197"/>
                </a:lnTo>
                <a:cubicBezTo>
                  <a:pt x="7213" y="79197"/>
                  <a:pt x="3594" y="79197"/>
                  <a:pt x="0" y="79222"/>
                </a:cubicBezTo>
                <a:lnTo>
                  <a:pt x="24727" y="31673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5867640" y="453960"/>
            <a:ext cx="69120" cy="51840"/>
          </a:xfrm>
          <a:custGeom>
            <a:avLst/>
            <a:gdLst>
              <a:gd name="textAreaLeft" fmla="*/ 0 w 69120"/>
              <a:gd name="textAreaRight" fmla="*/ 69480 w 691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69354" h="52184">
                <a:moveTo>
                  <a:pt x="0" y="17335"/>
                </a:moveTo>
                <a:lnTo>
                  <a:pt x="0" y="52184"/>
                </a:lnTo>
                <a:lnTo>
                  <a:pt x="8115" y="52184"/>
                </a:lnTo>
                <a:lnTo>
                  <a:pt x="8115" y="17310"/>
                </a:lnTo>
                <a:cubicBezTo>
                  <a:pt x="9347" y="12052"/>
                  <a:pt x="14109" y="8331"/>
                  <a:pt x="19468" y="8382"/>
                </a:cubicBezTo>
                <a:cubicBezTo>
                  <a:pt x="24777" y="8458"/>
                  <a:pt x="29400" y="12153"/>
                  <a:pt x="30607" y="17335"/>
                </a:cubicBezTo>
                <a:lnTo>
                  <a:pt x="30607" y="52184"/>
                </a:lnTo>
                <a:lnTo>
                  <a:pt x="38747" y="52184"/>
                </a:lnTo>
                <a:lnTo>
                  <a:pt x="38747" y="17335"/>
                </a:lnTo>
                <a:cubicBezTo>
                  <a:pt x="39954" y="12077"/>
                  <a:pt x="44703" y="8331"/>
                  <a:pt x="50076" y="8382"/>
                </a:cubicBezTo>
                <a:cubicBezTo>
                  <a:pt x="55346" y="8432"/>
                  <a:pt x="60032" y="12153"/>
                  <a:pt x="61239" y="17335"/>
                </a:cubicBezTo>
                <a:lnTo>
                  <a:pt x="61239" y="52184"/>
                </a:lnTo>
                <a:lnTo>
                  <a:pt x="69354" y="52184"/>
                </a:lnTo>
                <a:lnTo>
                  <a:pt x="69354" y="17335"/>
                </a:lnTo>
                <a:cubicBezTo>
                  <a:pt x="67221" y="7061"/>
                  <a:pt x="58864" y="-25"/>
                  <a:pt x="50076" y="0"/>
                </a:cubicBezTo>
                <a:cubicBezTo>
                  <a:pt x="41097" y="25"/>
                  <a:pt x="35496" y="7442"/>
                  <a:pt x="34797" y="8356"/>
                </a:cubicBezTo>
                <a:cubicBezTo>
                  <a:pt x="34112" y="7416"/>
                  <a:pt x="28447" y="50"/>
                  <a:pt x="19443" y="0"/>
                </a:cubicBezTo>
                <a:cubicBezTo>
                  <a:pt x="10617" y="-25"/>
                  <a:pt x="2184" y="7035"/>
                  <a:pt x="0" y="1733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6003360" y="453960"/>
            <a:ext cx="38520" cy="51840"/>
          </a:xfrm>
          <a:custGeom>
            <a:avLst/>
            <a:gdLst>
              <a:gd name="textAreaLeft" fmla="*/ 0 w 38520"/>
              <a:gd name="textAreaRight" fmla="*/ 38880 w 385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8722" h="52235">
                <a:moveTo>
                  <a:pt x="38722" y="17310"/>
                </a:moveTo>
                <a:cubicBezTo>
                  <a:pt x="37630" y="7531"/>
                  <a:pt x="29298" y="50"/>
                  <a:pt x="19430" y="0"/>
                </a:cubicBezTo>
                <a:cubicBezTo>
                  <a:pt x="9626" y="-76"/>
                  <a:pt x="1219" y="7315"/>
                  <a:pt x="0" y="17056"/>
                </a:cubicBezTo>
                <a:lnTo>
                  <a:pt x="0" y="52235"/>
                </a:lnTo>
                <a:lnTo>
                  <a:pt x="8115" y="52235"/>
                </a:lnTo>
                <a:lnTo>
                  <a:pt x="8115" y="17310"/>
                </a:lnTo>
                <a:cubicBezTo>
                  <a:pt x="9334" y="12026"/>
                  <a:pt x="14071" y="8280"/>
                  <a:pt x="19430" y="8331"/>
                </a:cubicBezTo>
                <a:cubicBezTo>
                  <a:pt x="24739" y="8356"/>
                  <a:pt x="29425" y="12103"/>
                  <a:pt x="30607" y="17310"/>
                </a:cubicBezTo>
                <a:lnTo>
                  <a:pt x="30607" y="52235"/>
                </a:lnTo>
                <a:lnTo>
                  <a:pt x="38696" y="52235"/>
                </a:lnTo>
                <a:cubicBezTo>
                  <a:pt x="38722" y="40601"/>
                  <a:pt x="38722" y="28943"/>
                  <a:pt x="38722" y="1731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10030680" y="520200"/>
            <a:ext cx="12960" cy="12960"/>
          </a:xfrm>
          <a:custGeom>
            <a:avLst/>
            <a:gdLst>
              <a:gd name="textAreaLeft" fmla="*/ 0 w 12960"/>
              <a:gd name="textAreaRight" fmla="*/ 13320 w 1296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487" h="13487">
                <a:moveTo>
                  <a:pt x="13487" y="6743"/>
                </a:moveTo>
                <a:cubicBezTo>
                  <a:pt x="13487" y="10464"/>
                  <a:pt x="10490" y="13487"/>
                  <a:pt x="6743" y="13487"/>
                </a:cubicBezTo>
                <a:cubicBezTo>
                  <a:pt x="3022" y="13487"/>
                  <a:pt x="0" y="10464"/>
                  <a:pt x="0" y="6743"/>
                </a:cubicBezTo>
                <a:cubicBezTo>
                  <a:pt x="0" y="3009"/>
                  <a:pt x="3022" y="0"/>
                  <a:pt x="6743" y="0"/>
                </a:cubicBezTo>
                <a:cubicBezTo>
                  <a:pt x="10490" y="0"/>
                  <a:pt x="13487" y="3009"/>
                  <a:pt x="13487" y="674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4702680" y="521280"/>
            <a:ext cx="12960" cy="12960"/>
          </a:xfrm>
          <a:custGeom>
            <a:avLst/>
            <a:gdLst>
              <a:gd name="textAreaLeft" fmla="*/ 0 w 12960"/>
              <a:gd name="textAreaRight" fmla="*/ 13320 w 1296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487" h="13487">
                <a:moveTo>
                  <a:pt x="13487" y="6743"/>
                </a:moveTo>
                <a:cubicBezTo>
                  <a:pt x="13487" y="10477"/>
                  <a:pt x="10477" y="13487"/>
                  <a:pt x="6743" y="13487"/>
                </a:cubicBezTo>
                <a:cubicBezTo>
                  <a:pt x="3022" y="13487"/>
                  <a:pt x="0" y="10477"/>
                  <a:pt x="0" y="6743"/>
                </a:cubicBezTo>
                <a:cubicBezTo>
                  <a:pt x="0" y="3022"/>
                  <a:pt x="3022" y="0"/>
                  <a:pt x="6743" y="0"/>
                </a:cubicBezTo>
                <a:cubicBezTo>
                  <a:pt x="10477" y="0"/>
                  <a:pt x="13487" y="3022"/>
                  <a:pt x="13487" y="674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546120" y="279360"/>
            <a:ext cx="317160" cy="31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4432320" y="482760"/>
            <a:ext cx="266400" cy="88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3"/>
          <a:stretch/>
        </p:blipFill>
        <p:spPr>
          <a:xfrm>
            <a:off x="4724280" y="482760"/>
            <a:ext cx="253800" cy="8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4"/>
          <a:stretch/>
        </p:blipFill>
        <p:spPr>
          <a:xfrm>
            <a:off x="368280" y="851040"/>
            <a:ext cx="4609800" cy="1307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5"/>
          <a:stretch/>
        </p:blipFill>
        <p:spPr>
          <a:xfrm>
            <a:off x="380880" y="2349360"/>
            <a:ext cx="1460160" cy="164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6"/>
          <a:stretch/>
        </p:blipFill>
        <p:spPr>
          <a:xfrm>
            <a:off x="380880" y="2577960"/>
            <a:ext cx="888480" cy="126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7"/>
          <a:stretch/>
        </p:blipFill>
        <p:spPr>
          <a:xfrm>
            <a:off x="1359000" y="2577960"/>
            <a:ext cx="774360" cy="12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8"/>
          <a:stretch/>
        </p:blipFill>
        <p:spPr>
          <a:xfrm>
            <a:off x="2222640" y="2577960"/>
            <a:ext cx="1866600" cy="12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9"/>
          <a:stretch/>
        </p:blipFill>
        <p:spPr>
          <a:xfrm>
            <a:off x="4178160" y="2577960"/>
            <a:ext cx="786960" cy="12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10"/>
          <a:stretch/>
        </p:blipFill>
        <p:spPr>
          <a:xfrm>
            <a:off x="380880" y="2730600"/>
            <a:ext cx="774360" cy="126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11"/>
          <a:stretch/>
        </p:blipFill>
        <p:spPr>
          <a:xfrm>
            <a:off x="1257480" y="2730600"/>
            <a:ext cx="596520" cy="12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12"/>
          <a:stretch/>
        </p:blipFill>
        <p:spPr>
          <a:xfrm>
            <a:off x="1905120" y="2730600"/>
            <a:ext cx="114120" cy="12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13"/>
          <a:stretch/>
        </p:blipFill>
        <p:spPr>
          <a:xfrm>
            <a:off x="2120760" y="2730600"/>
            <a:ext cx="888480" cy="12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14"/>
          <a:stretch/>
        </p:blipFill>
        <p:spPr>
          <a:xfrm>
            <a:off x="3098880" y="2730600"/>
            <a:ext cx="228240" cy="126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15"/>
          <a:stretch/>
        </p:blipFill>
        <p:spPr>
          <a:xfrm>
            <a:off x="3416400" y="2730600"/>
            <a:ext cx="1549080" cy="12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16"/>
          <a:stretch/>
        </p:blipFill>
        <p:spPr>
          <a:xfrm>
            <a:off x="380880" y="289548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17"/>
          <a:stretch/>
        </p:blipFill>
        <p:spPr>
          <a:xfrm>
            <a:off x="596880" y="288288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18"/>
          <a:stretch/>
        </p:blipFill>
        <p:spPr>
          <a:xfrm>
            <a:off x="812880" y="2882880"/>
            <a:ext cx="495000" cy="13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19"/>
          <a:stretch/>
        </p:blipFill>
        <p:spPr>
          <a:xfrm>
            <a:off x="1359000" y="2882880"/>
            <a:ext cx="240840" cy="139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0"/>
          <a:stretch/>
        </p:blipFill>
        <p:spPr>
          <a:xfrm>
            <a:off x="1676520" y="2882880"/>
            <a:ext cx="571320" cy="13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1"/>
          <a:stretch/>
        </p:blipFill>
        <p:spPr>
          <a:xfrm>
            <a:off x="2336760" y="2882880"/>
            <a:ext cx="456840" cy="139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2"/>
          <a:stretch/>
        </p:blipFill>
        <p:spPr>
          <a:xfrm>
            <a:off x="2984400" y="2882880"/>
            <a:ext cx="126720" cy="13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3"/>
          <a:stretch/>
        </p:blipFill>
        <p:spPr>
          <a:xfrm>
            <a:off x="3200400" y="2882880"/>
            <a:ext cx="786960" cy="13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4"/>
          <a:stretch/>
        </p:blipFill>
        <p:spPr>
          <a:xfrm>
            <a:off x="4076640" y="2882880"/>
            <a:ext cx="342720" cy="139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5"/>
          <a:stretch/>
        </p:blipFill>
        <p:spPr>
          <a:xfrm>
            <a:off x="4508640" y="288288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6"/>
          <a:stretch/>
        </p:blipFill>
        <p:spPr>
          <a:xfrm>
            <a:off x="380880" y="3048120"/>
            <a:ext cx="774360" cy="12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7"/>
          <a:stretch/>
        </p:blipFill>
        <p:spPr>
          <a:xfrm>
            <a:off x="1244520" y="3035160"/>
            <a:ext cx="596520" cy="13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8"/>
          <a:stretch/>
        </p:blipFill>
        <p:spPr>
          <a:xfrm>
            <a:off x="380880" y="3746520"/>
            <a:ext cx="1028520" cy="164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9"/>
          <a:stretch/>
        </p:blipFill>
        <p:spPr>
          <a:xfrm>
            <a:off x="558720" y="3949560"/>
            <a:ext cx="228240" cy="139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30"/>
          <a:stretch/>
        </p:blipFill>
        <p:spPr>
          <a:xfrm>
            <a:off x="888840" y="3949560"/>
            <a:ext cx="329760" cy="13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1"/>
          <a:stretch/>
        </p:blipFill>
        <p:spPr>
          <a:xfrm>
            <a:off x="1308240" y="3949560"/>
            <a:ext cx="139320" cy="139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32"/>
          <a:stretch/>
        </p:blipFill>
        <p:spPr>
          <a:xfrm>
            <a:off x="1523880" y="3949560"/>
            <a:ext cx="126720" cy="13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3"/>
          <a:stretch/>
        </p:blipFill>
        <p:spPr>
          <a:xfrm>
            <a:off x="1739880" y="3949560"/>
            <a:ext cx="456840" cy="13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34"/>
          <a:stretch/>
        </p:blipFill>
        <p:spPr>
          <a:xfrm>
            <a:off x="2286000" y="3962520"/>
            <a:ext cx="228240" cy="12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5"/>
          <a:stretch/>
        </p:blipFill>
        <p:spPr>
          <a:xfrm>
            <a:off x="2616120" y="4025880"/>
            <a:ext cx="50400" cy="63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36"/>
          <a:stretch/>
        </p:blipFill>
        <p:spPr>
          <a:xfrm>
            <a:off x="2717640" y="3949560"/>
            <a:ext cx="456840" cy="13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7"/>
          <a:stretch/>
        </p:blipFill>
        <p:spPr>
          <a:xfrm>
            <a:off x="3251160" y="3949560"/>
            <a:ext cx="240840" cy="139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8"/>
          <a:stretch/>
        </p:blipFill>
        <p:spPr>
          <a:xfrm>
            <a:off x="3581280" y="3949560"/>
            <a:ext cx="342720" cy="139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9"/>
          <a:stretch/>
        </p:blipFill>
        <p:spPr>
          <a:xfrm>
            <a:off x="4013280" y="3949560"/>
            <a:ext cx="888480" cy="139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40"/>
          <a:stretch/>
        </p:blipFill>
        <p:spPr>
          <a:xfrm>
            <a:off x="546120" y="4114800"/>
            <a:ext cx="558360" cy="126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41"/>
          <a:stretch/>
        </p:blipFill>
        <p:spPr>
          <a:xfrm>
            <a:off x="1193760" y="411480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42"/>
          <a:stretch/>
        </p:blipFill>
        <p:spPr>
          <a:xfrm>
            <a:off x="1523880" y="4114800"/>
            <a:ext cx="583920" cy="12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3"/>
          <a:stretch/>
        </p:blipFill>
        <p:spPr>
          <a:xfrm>
            <a:off x="558720" y="426708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44"/>
          <a:stretch/>
        </p:blipFill>
        <p:spPr>
          <a:xfrm>
            <a:off x="990720" y="4267080"/>
            <a:ext cx="990360" cy="12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5"/>
          <a:stretch/>
        </p:blipFill>
        <p:spPr>
          <a:xfrm>
            <a:off x="2070000" y="4267080"/>
            <a:ext cx="482400" cy="12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46"/>
          <a:stretch/>
        </p:blipFill>
        <p:spPr>
          <a:xfrm>
            <a:off x="4102200" y="4229280"/>
            <a:ext cx="114120" cy="63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47"/>
          <a:stretch/>
        </p:blipFill>
        <p:spPr>
          <a:xfrm>
            <a:off x="4394160" y="4229280"/>
            <a:ext cx="114120" cy="63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8"/>
          <a:stretch/>
        </p:blipFill>
        <p:spPr>
          <a:xfrm>
            <a:off x="4686480" y="4229280"/>
            <a:ext cx="114120" cy="6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49"/>
          <a:stretch/>
        </p:blipFill>
        <p:spPr>
          <a:xfrm>
            <a:off x="558720" y="441972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50"/>
          <a:stretch/>
        </p:blipFill>
        <p:spPr>
          <a:xfrm>
            <a:off x="990720" y="441972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51"/>
          <a:stretch/>
        </p:blipFill>
        <p:spPr>
          <a:xfrm>
            <a:off x="1422360" y="441972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52"/>
          <a:stretch/>
        </p:blipFill>
        <p:spPr>
          <a:xfrm>
            <a:off x="1994040" y="4432320"/>
            <a:ext cx="101160" cy="101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3"/>
          <a:stretch/>
        </p:blipFill>
        <p:spPr>
          <a:xfrm>
            <a:off x="2222640" y="4419720"/>
            <a:ext cx="266400" cy="12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54"/>
          <a:stretch/>
        </p:blipFill>
        <p:spPr>
          <a:xfrm>
            <a:off x="380880" y="4584600"/>
            <a:ext cx="88560" cy="101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55"/>
          <a:stretch/>
        </p:blipFill>
        <p:spPr>
          <a:xfrm>
            <a:off x="558720" y="4572000"/>
            <a:ext cx="342720" cy="139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56"/>
          <a:stretch/>
        </p:blipFill>
        <p:spPr>
          <a:xfrm>
            <a:off x="990720" y="4572000"/>
            <a:ext cx="558360" cy="13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57"/>
          <a:stretch/>
        </p:blipFill>
        <p:spPr>
          <a:xfrm>
            <a:off x="1638360" y="457200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58"/>
          <a:stretch/>
        </p:blipFill>
        <p:spPr>
          <a:xfrm>
            <a:off x="1854360" y="4572000"/>
            <a:ext cx="1091880" cy="139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59"/>
          <a:stretch/>
        </p:blipFill>
        <p:spPr>
          <a:xfrm>
            <a:off x="3035160" y="4572000"/>
            <a:ext cx="812520" cy="139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60"/>
          <a:stretch/>
        </p:blipFill>
        <p:spPr>
          <a:xfrm>
            <a:off x="4013280" y="4572000"/>
            <a:ext cx="456840" cy="139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61"/>
          <a:stretch/>
        </p:blipFill>
        <p:spPr>
          <a:xfrm>
            <a:off x="4648320" y="457200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62"/>
          <a:stretch/>
        </p:blipFill>
        <p:spPr>
          <a:xfrm>
            <a:off x="546120" y="4724280"/>
            <a:ext cx="672840" cy="139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63"/>
          <a:stretch/>
        </p:blipFill>
        <p:spPr>
          <a:xfrm>
            <a:off x="1295280" y="473724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64"/>
          <a:stretch/>
        </p:blipFill>
        <p:spPr>
          <a:xfrm>
            <a:off x="1625760" y="4724280"/>
            <a:ext cx="558360" cy="139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65"/>
          <a:stretch/>
        </p:blipFill>
        <p:spPr>
          <a:xfrm>
            <a:off x="2438280" y="4724280"/>
            <a:ext cx="279000" cy="139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66"/>
          <a:stretch/>
        </p:blipFill>
        <p:spPr>
          <a:xfrm>
            <a:off x="558720" y="4889520"/>
            <a:ext cx="659880" cy="126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67"/>
          <a:stretch/>
        </p:blipFill>
        <p:spPr>
          <a:xfrm>
            <a:off x="1308240" y="488952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68"/>
          <a:stretch/>
        </p:blipFill>
        <p:spPr>
          <a:xfrm>
            <a:off x="1536840" y="4889520"/>
            <a:ext cx="545760" cy="126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69"/>
          <a:stretch/>
        </p:blipFill>
        <p:spPr>
          <a:xfrm>
            <a:off x="2171880" y="488952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70"/>
          <a:stretch/>
        </p:blipFill>
        <p:spPr>
          <a:xfrm>
            <a:off x="2616120" y="4889520"/>
            <a:ext cx="1447560" cy="126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71"/>
          <a:stretch/>
        </p:blipFill>
        <p:spPr>
          <a:xfrm>
            <a:off x="393840" y="5041800"/>
            <a:ext cx="75960" cy="11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72"/>
          <a:stretch/>
        </p:blipFill>
        <p:spPr>
          <a:xfrm>
            <a:off x="558720" y="504180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73"/>
          <a:stretch/>
        </p:blipFill>
        <p:spPr>
          <a:xfrm>
            <a:off x="990720" y="5041800"/>
            <a:ext cx="774360" cy="126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74"/>
          <a:stretch/>
        </p:blipFill>
        <p:spPr>
          <a:xfrm>
            <a:off x="1854360" y="504180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75"/>
          <a:stretch/>
        </p:blipFill>
        <p:spPr>
          <a:xfrm>
            <a:off x="2400480" y="5041800"/>
            <a:ext cx="228240" cy="126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76"/>
          <a:stretch/>
        </p:blipFill>
        <p:spPr>
          <a:xfrm>
            <a:off x="2717640" y="504180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77"/>
          <a:stretch/>
        </p:blipFill>
        <p:spPr>
          <a:xfrm>
            <a:off x="3263760" y="5118120"/>
            <a:ext cx="50400" cy="50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78"/>
          <a:stretch/>
        </p:blipFill>
        <p:spPr>
          <a:xfrm>
            <a:off x="558720" y="5194440"/>
            <a:ext cx="545760" cy="126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79"/>
          <a:stretch/>
        </p:blipFill>
        <p:spPr>
          <a:xfrm>
            <a:off x="1206360" y="5194440"/>
            <a:ext cx="1561680" cy="126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80"/>
          <a:stretch/>
        </p:blipFill>
        <p:spPr>
          <a:xfrm>
            <a:off x="393840" y="5359320"/>
            <a:ext cx="75960" cy="114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81"/>
          <a:stretch/>
        </p:blipFill>
        <p:spPr>
          <a:xfrm>
            <a:off x="558720" y="5346720"/>
            <a:ext cx="1739520" cy="139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82"/>
          <a:stretch/>
        </p:blipFill>
        <p:spPr>
          <a:xfrm>
            <a:off x="2387520" y="5346720"/>
            <a:ext cx="672840" cy="139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83"/>
          <a:stretch/>
        </p:blipFill>
        <p:spPr>
          <a:xfrm>
            <a:off x="3149640" y="5346720"/>
            <a:ext cx="672840" cy="139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84"/>
          <a:stretch/>
        </p:blipFill>
        <p:spPr>
          <a:xfrm>
            <a:off x="3898800" y="5346720"/>
            <a:ext cx="355320" cy="13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85"/>
          <a:stretch/>
        </p:blipFill>
        <p:spPr>
          <a:xfrm>
            <a:off x="4444920" y="5346720"/>
            <a:ext cx="456840" cy="139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86"/>
          <a:stretch/>
        </p:blipFill>
        <p:spPr>
          <a:xfrm>
            <a:off x="380880" y="5486400"/>
            <a:ext cx="4520880" cy="304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87"/>
          <a:stretch/>
        </p:blipFill>
        <p:spPr>
          <a:xfrm>
            <a:off x="546120" y="5816520"/>
            <a:ext cx="990360" cy="126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88"/>
          <a:stretch/>
        </p:blipFill>
        <p:spPr>
          <a:xfrm>
            <a:off x="546120" y="596916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89"/>
          <a:stretch/>
        </p:blipFill>
        <p:spPr>
          <a:xfrm>
            <a:off x="1079640" y="5969160"/>
            <a:ext cx="355320" cy="126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90"/>
          <a:stretch/>
        </p:blipFill>
        <p:spPr>
          <a:xfrm>
            <a:off x="1511280" y="596916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91"/>
          <a:stretch/>
        </p:blipFill>
        <p:spPr>
          <a:xfrm>
            <a:off x="546120" y="6121440"/>
            <a:ext cx="444240" cy="139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92"/>
          <a:stretch/>
        </p:blipFill>
        <p:spPr>
          <a:xfrm>
            <a:off x="1079640" y="6121440"/>
            <a:ext cx="571320" cy="139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93"/>
          <a:stretch/>
        </p:blipFill>
        <p:spPr>
          <a:xfrm>
            <a:off x="546120" y="6273720"/>
            <a:ext cx="888480" cy="139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94"/>
          <a:stretch/>
        </p:blipFill>
        <p:spPr>
          <a:xfrm>
            <a:off x="1511280" y="628668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95"/>
          <a:stretch/>
        </p:blipFill>
        <p:spPr>
          <a:xfrm>
            <a:off x="546120" y="643896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96"/>
          <a:stretch/>
        </p:blipFill>
        <p:spPr>
          <a:xfrm>
            <a:off x="863640" y="643896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97"/>
          <a:stretch/>
        </p:blipFill>
        <p:spPr>
          <a:xfrm>
            <a:off x="1079640" y="643896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98"/>
          <a:stretch/>
        </p:blipFill>
        <p:spPr>
          <a:xfrm>
            <a:off x="1625760" y="643896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99"/>
          <a:stretch/>
        </p:blipFill>
        <p:spPr>
          <a:xfrm>
            <a:off x="647640" y="6591240"/>
            <a:ext cx="1320480" cy="126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100"/>
          <a:stretch/>
        </p:blipFill>
        <p:spPr>
          <a:xfrm>
            <a:off x="2057400" y="6667560"/>
            <a:ext cx="50400" cy="50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101"/>
          <a:stretch/>
        </p:blipFill>
        <p:spPr>
          <a:xfrm>
            <a:off x="2629080" y="7175520"/>
            <a:ext cx="75960" cy="101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102"/>
          <a:stretch/>
        </p:blipFill>
        <p:spPr>
          <a:xfrm>
            <a:off x="5867280" y="279360"/>
            <a:ext cx="329760" cy="317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103"/>
          <a:stretch/>
        </p:blipFill>
        <p:spPr>
          <a:xfrm>
            <a:off x="9766440" y="482760"/>
            <a:ext cx="253800" cy="88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104"/>
          <a:stretch/>
        </p:blipFill>
        <p:spPr>
          <a:xfrm>
            <a:off x="10058400" y="482760"/>
            <a:ext cx="253800" cy="88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105"/>
          <a:stretch/>
        </p:blipFill>
        <p:spPr>
          <a:xfrm>
            <a:off x="7365960" y="82548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106"/>
          <a:stretch/>
        </p:blipFill>
        <p:spPr>
          <a:xfrm>
            <a:off x="7873920" y="82548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107"/>
          <a:stretch/>
        </p:blipFill>
        <p:spPr>
          <a:xfrm>
            <a:off x="5842080" y="1486080"/>
            <a:ext cx="4343040" cy="5155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108"/>
          <a:stretch/>
        </p:blipFill>
        <p:spPr>
          <a:xfrm>
            <a:off x="8013600" y="7175520"/>
            <a:ext cx="75960" cy="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3"/>
          <p:cNvSpPr/>
          <p:nvPr/>
        </p:nvSpPr>
        <p:spPr>
          <a:xfrm>
            <a:off x="7705440" y="720216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36" h="25400">
                <a:moveTo>
                  <a:pt x="6350" y="6350"/>
                </a:moveTo>
                <a:lnTo>
                  <a:pt x="211087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3"/>
          <p:cNvSpPr/>
          <p:nvPr/>
        </p:nvSpPr>
        <p:spPr>
          <a:xfrm>
            <a:off x="8088480" y="720216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11" h="25400">
                <a:moveTo>
                  <a:pt x="6350" y="6350"/>
                </a:moveTo>
                <a:lnTo>
                  <a:pt x="211061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8016120" y="7165080"/>
            <a:ext cx="50760" cy="77400"/>
          </a:xfrm>
          <a:custGeom>
            <a:avLst/>
            <a:gdLst>
              <a:gd name="textAreaLeft" fmla="*/ 0 w 50760"/>
              <a:gd name="textAreaRight" fmla="*/ 51120 w 5076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51093" h="77622">
                <a:moveTo>
                  <a:pt x="51092" y="68491"/>
                </a:moveTo>
                <a:lnTo>
                  <a:pt x="51092" y="77622"/>
                </a:lnTo>
                <a:lnTo>
                  <a:pt x="0" y="77622"/>
                </a:lnTo>
                <a:cubicBezTo>
                  <a:pt x="-75" y="75336"/>
                  <a:pt x="292" y="73152"/>
                  <a:pt x="1092" y="71043"/>
                </a:cubicBezTo>
                <a:cubicBezTo>
                  <a:pt x="2400" y="67551"/>
                  <a:pt x="4483" y="64122"/>
                  <a:pt x="7353" y="60756"/>
                </a:cubicBezTo>
                <a:cubicBezTo>
                  <a:pt x="10211" y="57378"/>
                  <a:pt x="14351" y="53479"/>
                  <a:pt x="19761" y="49047"/>
                </a:cubicBezTo>
                <a:cubicBezTo>
                  <a:pt x="28168" y="42151"/>
                  <a:pt x="33858" y="36690"/>
                  <a:pt x="36804" y="32677"/>
                </a:cubicBezTo>
                <a:cubicBezTo>
                  <a:pt x="39751" y="28651"/>
                  <a:pt x="41224" y="24828"/>
                  <a:pt x="41224" y="21259"/>
                </a:cubicBezTo>
                <a:cubicBezTo>
                  <a:pt x="41224" y="17488"/>
                  <a:pt x="39878" y="14313"/>
                  <a:pt x="37198" y="11734"/>
                </a:cubicBezTo>
                <a:cubicBezTo>
                  <a:pt x="34493" y="9156"/>
                  <a:pt x="31001" y="7873"/>
                  <a:pt x="26670" y="7873"/>
                </a:cubicBezTo>
                <a:cubicBezTo>
                  <a:pt x="22098" y="7873"/>
                  <a:pt x="18453" y="9233"/>
                  <a:pt x="15697" y="11963"/>
                </a:cubicBezTo>
                <a:cubicBezTo>
                  <a:pt x="12966" y="14719"/>
                  <a:pt x="11583" y="18504"/>
                  <a:pt x="11544" y="23368"/>
                </a:cubicBezTo>
                <a:lnTo>
                  <a:pt x="1778" y="22352"/>
                </a:lnTo>
                <a:cubicBezTo>
                  <a:pt x="2451" y="15088"/>
                  <a:pt x="4953" y="9525"/>
                  <a:pt x="9321" y="5715"/>
                </a:cubicBezTo>
                <a:cubicBezTo>
                  <a:pt x="13690" y="1917"/>
                  <a:pt x="19545" y="0"/>
                  <a:pt x="26885" y="0"/>
                </a:cubicBezTo>
                <a:cubicBezTo>
                  <a:pt x="34303" y="0"/>
                  <a:pt x="40182" y="2070"/>
                  <a:pt x="44488" y="6184"/>
                </a:cubicBezTo>
                <a:cubicBezTo>
                  <a:pt x="48819" y="10274"/>
                  <a:pt x="50990" y="15379"/>
                  <a:pt x="50990" y="21463"/>
                </a:cubicBezTo>
                <a:cubicBezTo>
                  <a:pt x="50990" y="24562"/>
                  <a:pt x="50343" y="27584"/>
                  <a:pt x="49086" y="30594"/>
                </a:cubicBezTo>
                <a:cubicBezTo>
                  <a:pt x="47815" y="33566"/>
                  <a:pt x="45707" y="36716"/>
                  <a:pt x="42786" y="40017"/>
                </a:cubicBezTo>
                <a:cubicBezTo>
                  <a:pt x="39852" y="43345"/>
                  <a:pt x="34963" y="47879"/>
                  <a:pt x="28143" y="53632"/>
                </a:cubicBezTo>
                <a:cubicBezTo>
                  <a:pt x="22453" y="58420"/>
                  <a:pt x="18796" y="61645"/>
                  <a:pt x="17183" y="63360"/>
                </a:cubicBezTo>
                <a:cubicBezTo>
                  <a:pt x="15570" y="65062"/>
                  <a:pt x="14237" y="66776"/>
                  <a:pt x="13170" y="68491"/>
                </a:cubicBezTo>
                <a:lnTo>
                  <a:pt x="51092" y="68491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5672160" y="584280"/>
            <a:ext cx="4677840" cy="18360"/>
          </a:xfrm>
          <a:custGeom>
            <a:avLst/>
            <a:gdLst>
              <a:gd name="textAreaLeft" fmla="*/ 0 w 4677840"/>
              <a:gd name="textAreaRight" fmla="*/ 4678200 w 4677840"/>
              <a:gd name="textAreaTop" fmla="*/ 0 h 18360"/>
              <a:gd name="textAreaBottom" fmla="*/ 18720 h 18360"/>
            </a:gdLst>
            <a:ahLst/>
            <a:rect l="textAreaLeft" t="textAreaTop" r="textAreaRight" b="textAreaBottom"/>
            <a:pathLst>
              <a:path w="4678095" h="18796">
                <a:moveTo>
                  <a:pt x="6350" y="6350"/>
                </a:moveTo>
                <a:lnTo>
                  <a:pt x="4671745" y="6350"/>
                </a:lnTo>
              </a:path>
            </a:pathLst>
          </a:custGeom>
          <a:noFill/>
          <a:ln w="12700">
            <a:solidFill>
              <a:srgbClr val="76798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5703840" y="972360"/>
            <a:ext cx="1135440" cy="165960"/>
          </a:xfrm>
          <a:custGeom>
            <a:avLst/>
            <a:gdLst>
              <a:gd name="textAreaLeft" fmla="*/ 0 w 1135440"/>
              <a:gd name="textAreaRight" fmla="*/ 1135800 w 1135440"/>
              <a:gd name="textAreaTop" fmla="*/ 0 h 165960"/>
              <a:gd name="textAreaBottom" fmla="*/ 166320 h 165960"/>
            </a:gdLst>
            <a:ahLst/>
            <a:rect l="textAreaLeft" t="textAreaTop" r="textAreaRight" b="textAreaBottom"/>
            <a:pathLst>
              <a:path w="1135735" h="166471">
                <a:moveTo>
                  <a:pt x="1135735" y="83223"/>
                </a:moveTo>
                <a:cubicBezTo>
                  <a:pt x="1135735" y="129184"/>
                  <a:pt x="1095972" y="166471"/>
                  <a:pt x="1046962" y="166471"/>
                </a:cubicBezTo>
                <a:lnTo>
                  <a:pt x="88772" y="166471"/>
                </a:lnTo>
                <a:cubicBezTo>
                  <a:pt x="39738" y="166471"/>
                  <a:pt x="0" y="129184"/>
                  <a:pt x="0" y="83223"/>
                </a:cubicBezTo>
                <a:cubicBezTo>
                  <a:pt x="0" y="37261"/>
                  <a:pt x="39738" y="0"/>
                  <a:pt x="88772" y="0"/>
                </a:cubicBezTo>
                <a:lnTo>
                  <a:pt x="1046962" y="0"/>
                </a:lnTo>
                <a:cubicBezTo>
                  <a:pt x="1095972" y="0"/>
                  <a:pt x="1135735" y="37261"/>
                  <a:pt x="1135735" y="8322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6029280" y="1011240"/>
            <a:ext cx="48600" cy="95040"/>
          </a:xfrm>
          <a:custGeom>
            <a:avLst/>
            <a:gdLst>
              <a:gd name="textAreaLeft" fmla="*/ 0 w 48600"/>
              <a:gd name="textAreaRight" fmla="*/ 48960 w 486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8844" h="95250">
                <a:moveTo>
                  <a:pt x="24422" y="0"/>
                </a:moveTo>
                <a:lnTo>
                  <a:pt x="24422" y="95250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5703840" y="5132520"/>
            <a:ext cx="1034280" cy="165960"/>
          </a:xfrm>
          <a:custGeom>
            <a:avLst/>
            <a:gdLst>
              <a:gd name="textAreaLeft" fmla="*/ 0 w 1034280"/>
              <a:gd name="textAreaRight" fmla="*/ 1034640 w 1034280"/>
              <a:gd name="textAreaTop" fmla="*/ 0 h 165960"/>
              <a:gd name="textAreaBottom" fmla="*/ 166320 h 165960"/>
            </a:gdLst>
            <a:ahLst/>
            <a:rect l="textAreaLeft" t="textAreaTop" r="textAreaRight" b="textAreaBottom"/>
            <a:pathLst>
              <a:path w="1034706" h="166497">
                <a:moveTo>
                  <a:pt x="1034706" y="83223"/>
                </a:moveTo>
                <a:cubicBezTo>
                  <a:pt x="1034706" y="129184"/>
                  <a:pt x="994943" y="166496"/>
                  <a:pt x="945933" y="166496"/>
                </a:cubicBezTo>
                <a:lnTo>
                  <a:pt x="88785" y="166496"/>
                </a:lnTo>
                <a:cubicBezTo>
                  <a:pt x="39738" y="166496"/>
                  <a:pt x="0" y="129184"/>
                  <a:pt x="0" y="83223"/>
                </a:cubicBezTo>
                <a:cubicBezTo>
                  <a:pt x="0" y="37261"/>
                  <a:pt x="39738" y="0"/>
                  <a:pt x="88785" y="0"/>
                </a:cubicBezTo>
                <a:lnTo>
                  <a:pt x="945933" y="0"/>
                </a:lnTo>
                <a:cubicBezTo>
                  <a:pt x="994943" y="0"/>
                  <a:pt x="1034706" y="37261"/>
                  <a:pt x="1034706" y="8322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6814800" y="5485320"/>
            <a:ext cx="2233080" cy="254880"/>
          </a:xfrm>
          <a:custGeom>
            <a:avLst/>
            <a:gdLst>
              <a:gd name="textAreaLeft" fmla="*/ 0 w 2233080"/>
              <a:gd name="textAreaRight" fmla="*/ 2233440 w 2233080"/>
              <a:gd name="textAreaTop" fmla="*/ 0 h 254880"/>
              <a:gd name="textAreaBottom" fmla="*/ 255240 h 254880"/>
            </a:gdLst>
            <a:ahLst/>
            <a:rect l="textAreaLeft" t="textAreaTop" r="textAreaRight" b="textAreaBottom"/>
            <a:pathLst>
              <a:path w="2233486" h="255092">
                <a:moveTo>
                  <a:pt x="2233485" y="95973"/>
                </a:moveTo>
                <a:lnTo>
                  <a:pt x="2233307" y="60997"/>
                </a:lnTo>
                <a:lnTo>
                  <a:pt x="2233307" y="60756"/>
                </a:lnTo>
                <a:lnTo>
                  <a:pt x="2233307" y="60502"/>
                </a:lnTo>
                <a:cubicBezTo>
                  <a:pt x="2233092" y="56057"/>
                  <a:pt x="2232711" y="52438"/>
                  <a:pt x="2232126" y="49136"/>
                </a:cubicBezTo>
                <a:cubicBezTo>
                  <a:pt x="2231745" y="47104"/>
                  <a:pt x="2231276" y="45173"/>
                  <a:pt x="2230704" y="43243"/>
                </a:cubicBezTo>
                <a:cubicBezTo>
                  <a:pt x="2230158" y="41376"/>
                  <a:pt x="2229498" y="39471"/>
                  <a:pt x="2228698" y="37680"/>
                </a:cubicBezTo>
                <a:cubicBezTo>
                  <a:pt x="2227160" y="34010"/>
                  <a:pt x="2225256" y="30441"/>
                  <a:pt x="2223020" y="27190"/>
                </a:cubicBezTo>
                <a:cubicBezTo>
                  <a:pt x="2220785" y="23837"/>
                  <a:pt x="2218232" y="20739"/>
                  <a:pt x="2215426" y="17919"/>
                </a:cubicBezTo>
                <a:cubicBezTo>
                  <a:pt x="2209876" y="12356"/>
                  <a:pt x="2203056" y="7797"/>
                  <a:pt x="2195652" y="4736"/>
                </a:cubicBezTo>
                <a:cubicBezTo>
                  <a:pt x="2188336" y="1689"/>
                  <a:pt x="2180450" y="101"/>
                  <a:pt x="2172563" y="101"/>
                </a:cubicBezTo>
                <a:lnTo>
                  <a:pt x="2172386" y="126"/>
                </a:lnTo>
                <a:lnTo>
                  <a:pt x="1893938" y="126"/>
                </a:lnTo>
                <a:lnTo>
                  <a:pt x="1617662" y="126"/>
                </a:lnTo>
                <a:lnTo>
                  <a:pt x="1479550" y="126"/>
                </a:lnTo>
                <a:lnTo>
                  <a:pt x="1341412" y="126"/>
                </a:lnTo>
                <a:lnTo>
                  <a:pt x="1203300" y="126"/>
                </a:lnTo>
                <a:lnTo>
                  <a:pt x="1065187" y="126"/>
                </a:lnTo>
                <a:lnTo>
                  <a:pt x="927049" y="126"/>
                </a:lnTo>
                <a:lnTo>
                  <a:pt x="788937" y="126"/>
                </a:lnTo>
                <a:lnTo>
                  <a:pt x="650799" y="126"/>
                </a:lnTo>
                <a:lnTo>
                  <a:pt x="581711" y="126"/>
                </a:lnTo>
                <a:lnTo>
                  <a:pt x="512660" y="126"/>
                </a:lnTo>
                <a:lnTo>
                  <a:pt x="443598" y="126"/>
                </a:lnTo>
                <a:lnTo>
                  <a:pt x="374574" y="126"/>
                </a:lnTo>
                <a:lnTo>
                  <a:pt x="305486" y="126"/>
                </a:lnTo>
                <a:lnTo>
                  <a:pt x="270967" y="126"/>
                </a:lnTo>
                <a:lnTo>
                  <a:pt x="236435" y="126"/>
                </a:lnTo>
                <a:lnTo>
                  <a:pt x="201904" y="126"/>
                </a:lnTo>
                <a:lnTo>
                  <a:pt x="167373" y="126"/>
                </a:lnTo>
                <a:lnTo>
                  <a:pt x="155867" y="126"/>
                </a:lnTo>
                <a:lnTo>
                  <a:pt x="144360" y="126"/>
                </a:lnTo>
                <a:lnTo>
                  <a:pt x="132829" y="126"/>
                </a:lnTo>
                <a:lnTo>
                  <a:pt x="115557" y="101"/>
                </a:lnTo>
                <a:lnTo>
                  <a:pt x="104521" y="126"/>
                </a:lnTo>
                <a:lnTo>
                  <a:pt x="97599" y="126"/>
                </a:lnTo>
                <a:lnTo>
                  <a:pt x="90703" y="126"/>
                </a:lnTo>
                <a:lnTo>
                  <a:pt x="87262" y="126"/>
                </a:lnTo>
                <a:cubicBezTo>
                  <a:pt x="81534" y="126"/>
                  <a:pt x="75819" y="50"/>
                  <a:pt x="69774" y="25"/>
                </a:cubicBezTo>
                <a:lnTo>
                  <a:pt x="65735" y="0"/>
                </a:lnTo>
                <a:cubicBezTo>
                  <a:pt x="61810" y="0"/>
                  <a:pt x="57251" y="101"/>
                  <a:pt x="52755" y="698"/>
                </a:cubicBezTo>
                <a:cubicBezTo>
                  <a:pt x="47053" y="1473"/>
                  <a:pt x="41465" y="3085"/>
                  <a:pt x="36157" y="5410"/>
                </a:cubicBezTo>
                <a:cubicBezTo>
                  <a:pt x="30874" y="7797"/>
                  <a:pt x="25972" y="10896"/>
                  <a:pt x="21602" y="14592"/>
                </a:cubicBezTo>
                <a:cubicBezTo>
                  <a:pt x="17233" y="18338"/>
                  <a:pt x="13386" y="22681"/>
                  <a:pt x="10198" y="27482"/>
                </a:cubicBezTo>
                <a:cubicBezTo>
                  <a:pt x="6870" y="32448"/>
                  <a:pt x="4381" y="37706"/>
                  <a:pt x="2794" y="43040"/>
                </a:cubicBezTo>
                <a:cubicBezTo>
                  <a:pt x="2032" y="45567"/>
                  <a:pt x="1435" y="48348"/>
                  <a:pt x="940" y="51498"/>
                </a:cubicBezTo>
                <a:cubicBezTo>
                  <a:pt x="596" y="53860"/>
                  <a:pt x="343" y="56514"/>
                  <a:pt x="140" y="60109"/>
                </a:cubicBezTo>
                <a:lnTo>
                  <a:pt x="101" y="63474"/>
                </a:lnTo>
                <a:cubicBezTo>
                  <a:pt x="101" y="64998"/>
                  <a:pt x="127" y="66509"/>
                  <a:pt x="127" y="67995"/>
                </a:cubicBezTo>
                <a:lnTo>
                  <a:pt x="140" y="147040"/>
                </a:lnTo>
                <a:lnTo>
                  <a:pt x="140" y="147637"/>
                </a:lnTo>
                <a:lnTo>
                  <a:pt x="140" y="165696"/>
                </a:lnTo>
                <a:lnTo>
                  <a:pt x="127" y="167144"/>
                </a:lnTo>
                <a:lnTo>
                  <a:pt x="0" y="183857"/>
                </a:lnTo>
                <a:lnTo>
                  <a:pt x="0" y="184480"/>
                </a:lnTo>
                <a:lnTo>
                  <a:pt x="51" y="185127"/>
                </a:lnTo>
                <a:lnTo>
                  <a:pt x="2349" y="209803"/>
                </a:lnTo>
                <a:lnTo>
                  <a:pt x="2476" y="211086"/>
                </a:lnTo>
                <a:lnTo>
                  <a:pt x="2844" y="212331"/>
                </a:lnTo>
                <a:cubicBezTo>
                  <a:pt x="3962" y="215874"/>
                  <a:pt x="5499" y="219506"/>
                  <a:pt x="7467" y="223075"/>
                </a:cubicBezTo>
                <a:cubicBezTo>
                  <a:pt x="9626" y="226961"/>
                  <a:pt x="12128" y="230593"/>
                  <a:pt x="14909" y="233819"/>
                </a:cubicBezTo>
                <a:cubicBezTo>
                  <a:pt x="17729" y="237108"/>
                  <a:pt x="20955" y="240144"/>
                  <a:pt x="24486" y="242747"/>
                </a:cubicBezTo>
                <a:cubicBezTo>
                  <a:pt x="27952" y="245376"/>
                  <a:pt x="31725" y="247599"/>
                  <a:pt x="35662" y="249415"/>
                </a:cubicBezTo>
                <a:cubicBezTo>
                  <a:pt x="43599" y="253060"/>
                  <a:pt x="52235" y="254977"/>
                  <a:pt x="60845" y="254977"/>
                </a:cubicBezTo>
                <a:lnTo>
                  <a:pt x="61062" y="254977"/>
                </a:lnTo>
                <a:lnTo>
                  <a:pt x="233057" y="254977"/>
                </a:lnTo>
                <a:lnTo>
                  <a:pt x="332308" y="254977"/>
                </a:lnTo>
                <a:lnTo>
                  <a:pt x="609765" y="254977"/>
                </a:lnTo>
                <a:lnTo>
                  <a:pt x="887234" y="254977"/>
                </a:lnTo>
                <a:lnTo>
                  <a:pt x="1025969" y="254977"/>
                </a:lnTo>
                <a:lnTo>
                  <a:pt x="1164704" y="254977"/>
                </a:lnTo>
                <a:lnTo>
                  <a:pt x="1303464" y="254977"/>
                </a:lnTo>
                <a:lnTo>
                  <a:pt x="1442187" y="254977"/>
                </a:lnTo>
                <a:lnTo>
                  <a:pt x="1511541" y="254977"/>
                </a:lnTo>
                <a:lnTo>
                  <a:pt x="1580921" y="254977"/>
                </a:lnTo>
                <a:lnTo>
                  <a:pt x="1650276" y="254977"/>
                </a:lnTo>
                <a:lnTo>
                  <a:pt x="1719656" y="254977"/>
                </a:lnTo>
                <a:lnTo>
                  <a:pt x="1789036" y="254977"/>
                </a:lnTo>
                <a:lnTo>
                  <a:pt x="1858391" y="254977"/>
                </a:lnTo>
                <a:lnTo>
                  <a:pt x="1927771" y="254977"/>
                </a:lnTo>
                <a:lnTo>
                  <a:pt x="1962442" y="254977"/>
                </a:lnTo>
                <a:lnTo>
                  <a:pt x="1997126" y="254977"/>
                </a:lnTo>
                <a:lnTo>
                  <a:pt x="2031796" y="254977"/>
                </a:lnTo>
                <a:lnTo>
                  <a:pt x="2066506" y="254952"/>
                </a:lnTo>
                <a:lnTo>
                  <a:pt x="2083841" y="254952"/>
                </a:lnTo>
                <a:lnTo>
                  <a:pt x="2101227" y="254977"/>
                </a:lnTo>
                <a:lnTo>
                  <a:pt x="2118538" y="254977"/>
                </a:lnTo>
                <a:lnTo>
                  <a:pt x="2129650" y="254952"/>
                </a:lnTo>
                <a:lnTo>
                  <a:pt x="2138312" y="254952"/>
                </a:lnTo>
                <a:cubicBezTo>
                  <a:pt x="2141207" y="254952"/>
                  <a:pt x="2152522" y="254952"/>
                  <a:pt x="2155355" y="254977"/>
                </a:cubicBezTo>
                <a:lnTo>
                  <a:pt x="2161159" y="255041"/>
                </a:lnTo>
                <a:lnTo>
                  <a:pt x="2164105" y="255066"/>
                </a:lnTo>
                <a:lnTo>
                  <a:pt x="2167432" y="255092"/>
                </a:lnTo>
                <a:lnTo>
                  <a:pt x="2167483" y="255092"/>
                </a:lnTo>
                <a:lnTo>
                  <a:pt x="2167509" y="255092"/>
                </a:lnTo>
                <a:cubicBezTo>
                  <a:pt x="2169262" y="255092"/>
                  <a:pt x="2171027" y="255066"/>
                  <a:pt x="2172741" y="255015"/>
                </a:cubicBezTo>
                <a:cubicBezTo>
                  <a:pt x="2175942" y="254927"/>
                  <a:pt x="2178736" y="254672"/>
                  <a:pt x="2181415" y="254279"/>
                </a:cubicBezTo>
                <a:cubicBezTo>
                  <a:pt x="2184298" y="253860"/>
                  <a:pt x="2187181" y="253212"/>
                  <a:pt x="2189848" y="252412"/>
                </a:cubicBezTo>
                <a:cubicBezTo>
                  <a:pt x="2192553" y="251599"/>
                  <a:pt x="2195309" y="250558"/>
                  <a:pt x="2198040" y="249288"/>
                </a:cubicBezTo>
                <a:cubicBezTo>
                  <a:pt x="2200592" y="248106"/>
                  <a:pt x="2203119" y="246684"/>
                  <a:pt x="2205558" y="245122"/>
                </a:cubicBezTo>
                <a:cubicBezTo>
                  <a:pt x="2207933" y="243585"/>
                  <a:pt x="2210270" y="241820"/>
                  <a:pt x="2212505" y="239890"/>
                </a:cubicBezTo>
                <a:cubicBezTo>
                  <a:pt x="2214702" y="237934"/>
                  <a:pt x="2216772" y="235851"/>
                  <a:pt x="2218525" y="233768"/>
                </a:cubicBezTo>
                <a:cubicBezTo>
                  <a:pt x="2220392" y="231635"/>
                  <a:pt x="2222119" y="229298"/>
                  <a:pt x="2223732" y="226821"/>
                </a:cubicBezTo>
                <a:cubicBezTo>
                  <a:pt x="2225344" y="224332"/>
                  <a:pt x="2226742" y="221779"/>
                  <a:pt x="2227936" y="219201"/>
                </a:cubicBezTo>
                <a:cubicBezTo>
                  <a:pt x="2229193" y="216446"/>
                  <a:pt x="2230184" y="213702"/>
                  <a:pt x="2230908" y="211048"/>
                </a:cubicBezTo>
                <a:cubicBezTo>
                  <a:pt x="2231644" y="208419"/>
                  <a:pt x="2232190" y="205663"/>
                  <a:pt x="2232621" y="202488"/>
                </a:cubicBezTo>
                <a:cubicBezTo>
                  <a:pt x="2232965" y="199809"/>
                  <a:pt x="2233218" y="196951"/>
                  <a:pt x="2233307" y="193878"/>
                </a:cubicBezTo>
                <a:cubicBezTo>
                  <a:pt x="2233460" y="190995"/>
                  <a:pt x="2233485" y="188099"/>
                  <a:pt x="2233485" y="185191"/>
                </a:cubicBezTo>
                <a:lnTo>
                  <a:pt x="2233460" y="167119"/>
                </a:lnTo>
                <a:cubicBezTo>
                  <a:pt x="2233460" y="167042"/>
                  <a:pt x="2233485" y="166966"/>
                  <a:pt x="2233485" y="166890"/>
                </a:cubicBezTo>
                <a:lnTo>
                  <a:pt x="2233485" y="166547"/>
                </a:lnTo>
                <a:lnTo>
                  <a:pt x="2233460" y="147294"/>
                </a:lnTo>
                <a:lnTo>
                  <a:pt x="2233485" y="96443"/>
                </a:lnTo>
                <a:lnTo>
                  <a:pt x="2233485" y="95973"/>
                </a:lnTo>
              </a:path>
            </a:pathLst>
          </a:custGeom>
          <a:solidFill>
            <a:srgbClr val="07090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9342720" y="5287680"/>
            <a:ext cx="101520" cy="86760"/>
          </a:xfrm>
          <a:custGeom>
            <a:avLst/>
            <a:gdLst>
              <a:gd name="textAreaLeft" fmla="*/ 0 w 101520"/>
              <a:gd name="textAreaRight" fmla="*/ 101880 w 101520"/>
              <a:gd name="textAreaTop" fmla="*/ 0 h 86760"/>
              <a:gd name="textAreaBottom" fmla="*/ 87120 h 86760"/>
            </a:gdLst>
            <a:ahLst/>
            <a:rect l="textAreaLeft" t="textAreaTop" r="textAreaRight" b="textAreaBottom"/>
            <a:pathLst>
              <a:path w="101790" h="87007">
                <a:moveTo>
                  <a:pt x="0" y="78778"/>
                </a:moveTo>
                <a:lnTo>
                  <a:pt x="46215" y="78778"/>
                </a:lnTo>
                <a:lnTo>
                  <a:pt x="46215" y="8432"/>
                </a:lnTo>
                <a:lnTo>
                  <a:pt x="6032" y="8432"/>
                </a:lnTo>
                <a:lnTo>
                  <a:pt x="6032" y="0"/>
                </a:lnTo>
                <a:lnTo>
                  <a:pt x="95872" y="0"/>
                </a:lnTo>
                <a:lnTo>
                  <a:pt x="95872" y="8432"/>
                </a:lnTo>
                <a:lnTo>
                  <a:pt x="55486" y="8432"/>
                </a:lnTo>
                <a:lnTo>
                  <a:pt x="55486" y="78778"/>
                </a:lnTo>
                <a:lnTo>
                  <a:pt x="101790" y="78778"/>
                </a:lnTo>
                <a:lnTo>
                  <a:pt x="101790" y="87007"/>
                </a:lnTo>
                <a:lnTo>
                  <a:pt x="0" y="87007"/>
                </a:lnTo>
                <a:lnTo>
                  <a:pt x="0" y="7877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7921800" y="5328720"/>
            <a:ext cx="1381680" cy="264600"/>
          </a:xfrm>
          <a:custGeom>
            <a:avLst/>
            <a:gdLst>
              <a:gd name="textAreaLeft" fmla="*/ 0 w 1381680"/>
              <a:gd name="textAreaRight" fmla="*/ 1382040 w 1381680"/>
              <a:gd name="textAreaTop" fmla="*/ 0 h 264600"/>
              <a:gd name="textAreaBottom" fmla="*/ 264960 h 264600"/>
            </a:gdLst>
            <a:ahLst/>
            <a:rect l="textAreaLeft" t="textAreaTop" r="textAreaRight" b="textAreaBottom"/>
            <a:pathLst>
              <a:path w="1381988" h="264959">
                <a:moveTo>
                  <a:pt x="6350" y="258609"/>
                </a:moveTo>
                <a:lnTo>
                  <a:pt x="6350" y="10540"/>
                </a:lnTo>
                <a:lnTo>
                  <a:pt x="1375638" y="6350"/>
                </a:lnTo>
              </a:path>
            </a:pathLst>
          </a:custGeom>
          <a:noFill/>
          <a:ln w="12700">
            <a:solidFill>
              <a:srgbClr val="6a6d7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9455040" y="5966640"/>
            <a:ext cx="86760" cy="63000"/>
          </a:xfrm>
          <a:custGeom>
            <a:avLst/>
            <a:gdLst>
              <a:gd name="textAreaLeft" fmla="*/ 0 w 86760"/>
              <a:gd name="textAreaRight" fmla="*/ 87120 w 86760"/>
              <a:gd name="textAreaTop" fmla="*/ 0 h 63000"/>
              <a:gd name="textAreaBottom" fmla="*/ 63360 h 63000"/>
            </a:gdLst>
            <a:ahLst/>
            <a:rect l="textAreaLeft" t="textAreaTop" r="textAreaRight" b="textAreaBottom"/>
            <a:pathLst>
              <a:path w="87109" h="63500">
                <a:moveTo>
                  <a:pt x="0" y="0"/>
                </a:moveTo>
                <a:lnTo>
                  <a:pt x="87109" y="0"/>
                </a:lnTo>
                <a:cubicBezTo>
                  <a:pt x="86411" y="14706"/>
                  <a:pt x="85699" y="25996"/>
                  <a:pt x="85001" y="33858"/>
                </a:cubicBezTo>
                <a:cubicBezTo>
                  <a:pt x="84226" y="44196"/>
                  <a:pt x="78181" y="49365"/>
                  <a:pt x="66852" y="49365"/>
                </a:cubicBezTo>
                <a:cubicBezTo>
                  <a:pt x="60172" y="49365"/>
                  <a:pt x="54698" y="49161"/>
                  <a:pt x="50406" y="48742"/>
                </a:cubicBezTo>
                <a:cubicBezTo>
                  <a:pt x="49987" y="45364"/>
                  <a:pt x="49415" y="42291"/>
                  <a:pt x="48717" y="39560"/>
                </a:cubicBezTo>
                <a:cubicBezTo>
                  <a:pt x="54838" y="40525"/>
                  <a:pt x="60528" y="41021"/>
                  <a:pt x="65811" y="41021"/>
                </a:cubicBezTo>
                <a:cubicBezTo>
                  <a:pt x="72631" y="41021"/>
                  <a:pt x="76251" y="37731"/>
                  <a:pt x="76669" y="31127"/>
                </a:cubicBezTo>
                <a:cubicBezTo>
                  <a:pt x="77292" y="25844"/>
                  <a:pt x="77825" y="18034"/>
                  <a:pt x="78244" y="7708"/>
                </a:cubicBezTo>
                <a:lnTo>
                  <a:pt x="35953" y="7708"/>
                </a:lnTo>
                <a:lnTo>
                  <a:pt x="35953" y="63500"/>
                </a:lnTo>
                <a:lnTo>
                  <a:pt x="27216" y="63500"/>
                </a:lnTo>
                <a:lnTo>
                  <a:pt x="27216" y="7708"/>
                </a:lnTo>
                <a:lnTo>
                  <a:pt x="0" y="7708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9449640" y="5926680"/>
            <a:ext cx="103320" cy="33120"/>
          </a:xfrm>
          <a:custGeom>
            <a:avLst/>
            <a:gdLst>
              <a:gd name="textAreaLeft" fmla="*/ 0 w 103320"/>
              <a:gd name="textAreaRight" fmla="*/ 103680 w 1033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03568" h="33439">
                <a:moveTo>
                  <a:pt x="0" y="13932"/>
                </a:moveTo>
                <a:lnTo>
                  <a:pt x="29223" y="13932"/>
                </a:lnTo>
                <a:lnTo>
                  <a:pt x="29223" y="0"/>
                </a:lnTo>
                <a:lnTo>
                  <a:pt x="37655" y="0"/>
                </a:lnTo>
                <a:lnTo>
                  <a:pt x="37655" y="13932"/>
                </a:lnTo>
                <a:lnTo>
                  <a:pt x="65913" y="13932"/>
                </a:lnTo>
                <a:lnTo>
                  <a:pt x="65913" y="0"/>
                </a:lnTo>
                <a:lnTo>
                  <a:pt x="74359" y="0"/>
                </a:lnTo>
                <a:lnTo>
                  <a:pt x="74359" y="13932"/>
                </a:lnTo>
                <a:lnTo>
                  <a:pt x="103568" y="13932"/>
                </a:lnTo>
                <a:lnTo>
                  <a:pt x="103568" y="21628"/>
                </a:lnTo>
                <a:lnTo>
                  <a:pt x="74359" y="21628"/>
                </a:lnTo>
                <a:lnTo>
                  <a:pt x="74359" y="33439"/>
                </a:lnTo>
                <a:lnTo>
                  <a:pt x="65913" y="33439"/>
                </a:lnTo>
                <a:lnTo>
                  <a:pt x="65913" y="21628"/>
                </a:lnTo>
                <a:lnTo>
                  <a:pt x="37655" y="21628"/>
                </a:lnTo>
                <a:lnTo>
                  <a:pt x="37655" y="33337"/>
                </a:lnTo>
                <a:lnTo>
                  <a:pt x="29223" y="33337"/>
                </a:lnTo>
                <a:lnTo>
                  <a:pt x="29223" y="21628"/>
                </a:lnTo>
                <a:lnTo>
                  <a:pt x="0" y="21628"/>
                </a:lnTo>
                <a:lnTo>
                  <a:pt x="0" y="1393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9774000" y="6136920"/>
            <a:ext cx="103320" cy="1036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3680"/>
              <a:gd name="textAreaBottom" fmla="*/ 104040 h 103680"/>
            </a:gdLst>
            <a:ahLst/>
            <a:rect l="textAreaLeft" t="textAreaTop" r="textAreaRight" b="textAreaBottom"/>
            <a:pathLst>
              <a:path w="103784" h="104089">
                <a:moveTo>
                  <a:pt x="0" y="96494"/>
                </a:moveTo>
                <a:cubicBezTo>
                  <a:pt x="25209" y="87541"/>
                  <a:pt x="40246" y="74638"/>
                  <a:pt x="45097" y="57798"/>
                </a:cubicBezTo>
                <a:lnTo>
                  <a:pt x="2108" y="57798"/>
                </a:lnTo>
                <a:lnTo>
                  <a:pt x="2108" y="49784"/>
                </a:lnTo>
                <a:lnTo>
                  <a:pt x="46634" y="49784"/>
                </a:lnTo>
                <a:cubicBezTo>
                  <a:pt x="46761" y="48273"/>
                  <a:pt x="46837" y="41554"/>
                  <a:pt x="46837" y="29641"/>
                </a:cubicBezTo>
                <a:lnTo>
                  <a:pt x="8331" y="29641"/>
                </a:lnTo>
                <a:lnTo>
                  <a:pt x="8331" y="21615"/>
                </a:lnTo>
                <a:lnTo>
                  <a:pt x="33654" y="21615"/>
                </a:lnTo>
                <a:cubicBezTo>
                  <a:pt x="27609" y="14960"/>
                  <a:pt x="22440" y="9626"/>
                  <a:pt x="18160" y="5588"/>
                </a:cubicBezTo>
                <a:lnTo>
                  <a:pt x="24256" y="101"/>
                </a:lnTo>
                <a:cubicBezTo>
                  <a:pt x="30314" y="5512"/>
                  <a:pt x="35826" y="10693"/>
                  <a:pt x="40830" y="15608"/>
                </a:cubicBezTo>
                <a:lnTo>
                  <a:pt x="34087" y="21615"/>
                </a:lnTo>
                <a:lnTo>
                  <a:pt x="59232" y="21615"/>
                </a:lnTo>
                <a:cubicBezTo>
                  <a:pt x="64681" y="13919"/>
                  <a:pt x="69481" y="6705"/>
                  <a:pt x="73621" y="0"/>
                </a:cubicBezTo>
                <a:lnTo>
                  <a:pt x="82371" y="4838"/>
                </a:lnTo>
                <a:cubicBezTo>
                  <a:pt x="77520" y="11036"/>
                  <a:pt x="73062" y="16624"/>
                  <a:pt x="68986" y="21615"/>
                </a:cubicBezTo>
                <a:lnTo>
                  <a:pt x="95669" y="21615"/>
                </a:lnTo>
                <a:lnTo>
                  <a:pt x="95669" y="29641"/>
                </a:lnTo>
                <a:lnTo>
                  <a:pt x="55803" y="29641"/>
                </a:lnTo>
                <a:cubicBezTo>
                  <a:pt x="55803" y="39966"/>
                  <a:pt x="55753" y="46685"/>
                  <a:pt x="55638" y="49784"/>
                </a:cubicBezTo>
                <a:lnTo>
                  <a:pt x="101892" y="49784"/>
                </a:lnTo>
                <a:lnTo>
                  <a:pt x="101892" y="57798"/>
                </a:lnTo>
                <a:lnTo>
                  <a:pt x="57124" y="57798"/>
                </a:lnTo>
                <a:cubicBezTo>
                  <a:pt x="65379" y="75488"/>
                  <a:pt x="80936" y="87617"/>
                  <a:pt x="103784" y="94183"/>
                </a:cubicBezTo>
                <a:cubicBezTo>
                  <a:pt x="100901" y="97142"/>
                  <a:pt x="98297" y="99987"/>
                  <a:pt x="95986" y="102717"/>
                </a:cubicBezTo>
                <a:cubicBezTo>
                  <a:pt x="74332" y="94284"/>
                  <a:pt x="59601" y="81584"/>
                  <a:pt x="51841" y="64643"/>
                </a:cubicBezTo>
                <a:cubicBezTo>
                  <a:pt x="46113" y="81089"/>
                  <a:pt x="30886" y="94259"/>
                  <a:pt x="6121" y="104089"/>
                </a:cubicBezTo>
                <a:cubicBezTo>
                  <a:pt x="4292" y="101701"/>
                  <a:pt x="2260" y="99174"/>
                  <a:pt x="0" y="96494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9666000" y="6376320"/>
            <a:ext cx="103320" cy="1036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3680"/>
              <a:gd name="textAreaBottom" fmla="*/ 104040 h 103680"/>
            </a:gdLst>
            <a:ahLst/>
            <a:rect l="textAreaLeft" t="textAreaTop" r="textAreaRight" b="textAreaBottom"/>
            <a:pathLst>
              <a:path w="103784" h="104088">
                <a:moveTo>
                  <a:pt x="0" y="96494"/>
                </a:moveTo>
                <a:cubicBezTo>
                  <a:pt x="25209" y="87541"/>
                  <a:pt x="40246" y="74637"/>
                  <a:pt x="45098" y="57797"/>
                </a:cubicBezTo>
                <a:lnTo>
                  <a:pt x="2108" y="57797"/>
                </a:lnTo>
                <a:lnTo>
                  <a:pt x="2108" y="49783"/>
                </a:lnTo>
                <a:lnTo>
                  <a:pt x="46634" y="49783"/>
                </a:lnTo>
                <a:cubicBezTo>
                  <a:pt x="46761" y="48272"/>
                  <a:pt x="46837" y="41554"/>
                  <a:pt x="46837" y="29641"/>
                </a:cubicBezTo>
                <a:lnTo>
                  <a:pt x="8331" y="29641"/>
                </a:lnTo>
                <a:lnTo>
                  <a:pt x="8331" y="21615"/>
                </a:lnTo>
                <a:lnTo>
                  <a:pt x="33655" y="21615"/>
                </a:lnTo>
                <a:cubicBezTo>
                  <a:pt x="27609" y="14960"/>
                  <a:pt x="22440" y="9626"/>
                  <a:pt x="18160" y="5588"/>
                </a:cubicBezTo>
                <a:lnTo>
                  <a:pt x="24256" y="101"/>
                </a:lnTo>
                <a:cubicBezTo>
                  <a:pt x="30315" y="5511"/>
                  <a:pt x="35826" y="10693"/>
                  <a:pt x="40830" y="15608"/>
                </a:cubicBezTo>
                <a:lnTo>
                  <a:pt x="34087" y="21615"/>
                </a:lnTo>
                <a:lnTo>
                  <a:pt x="59232" y="21615"/>
                </a:lnTo>
                <a:cubicBezTo>
                  <a:pt x="64681" y="13919"/>
                  <a:pt x="69481" y="6705"/>
                  <a:pt x="73621" y="0"/>
                </a:cubicBezTo>
                <a:lnTo>
                  <a:pt x="82372" y="4838"/>
                </a:lnTo>
                <a:cubicBezTo>
                  <a:pt x="77520" y="11036"/>
                  <a:pt x="73062" y="16624"/>
                  <a:pt x="68986" y="21615"/>
                </a:cubicBezTo>
                <a:lnTo>
                  <a:pt x="95669" y="21615"/>
                </a:lnTo>
                <a:lnTo>
                  <a:pt x="95669" y="29641"/>
                </a:lnTo>
                <a:lnTo>
                  <a:pt x="55803" y="29641"/>
                </a:lnTo>
                <a:cubicBezTo>
                  <a:pt x="55803" y="39966"/>
                  <a:pt x="55753" y="46685"/>
                  <a:pt x="55638" y="49783"/>
                </a:cubicBezTo>
                <a:lnTo>
                  <a:pt x="101892" y="49783"/>
                </a:lnTo>
                <a:lnTo>
                  <a:pt x="101892" y="57797"/>
                </a:lnTo>
                <a:lnTo>
                  <a:pt x="57124" y="57797"/>
                </a:lnTo>
                <a:cubicBezTo>
                  <a:pt x="65379" y="75488"/>
                  <a:pt x="80936" y="87617"/>
                  <a:pt x="103784" y="94183"/>
                </a:cubicBezTo>
                <a:cubicBezTo>
                  <a:pt x="100901" y="97142"/>
                  <a:pt x="98297" y="99986"/>
                  <a:pt x="95986" y="102717"/>
                </a:cubicBezTo>
                <a:cubicBezTo>
                  <a:pt x="74333" y="94284"/>
                  <a:pt x="59601" y="81584"/>
                  <a:pt x="51841" y="64642"/>
                </a:cubicBezTo>
                <a:cubicBezTo>
                  <a:pt x="46113" y="81089"/>
                  <a:pt x="30886" y="94259"/>
                  <a:pt x="6121" y="104088"/>
                </a:cubicBezTo>
                <a:cubicBezTo>
                  <a:pt x="4292" y="101701"/>
                  <a:pt x="2260" y="99174"/>
                  <a:pt x="0" y="96494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7800120" y="5591880"/>
            <a:ext cx="30960" cy="33840"/>
          </a:xfrm>
          <a:custGeom>
            <a:avLst/>
            <a:gdLst>
              <a:gd name="textAreaLeft" fmla="*/ 0 w 30960"/>
              <a:gd name="textAreaRight" fmla="*/ 31320 w 30960"/>
              <a:gd name="textAreaTop" fmla="*/ 0 h 33840"/>
              <a:gd name="textAreaBottom" fmla="*/ 34200 h 33840"/>
            </a:gdLst>
            <a:ahLst/>
            <a:rect l="textAreaLeft" t="textAreaTop" r="textAreaRight" b="textAreaBottom"/>
            <a:pathLst>
              <a:path w="31356" h="34378">
                <a:moveTo>
                  <a:pt x="0" y="0"/>
                </a:moveTo>
                <a:cubicBezTo>
                  <a:pt x="8432" y="9181"/>
                  <a:pt x="16840" y="18326"/>
                  <a:pt x="25248" y="27508"/>
                </a:cubicBezTo>
                <a:lnTo>
                  <a:pt x="2261" y="27508"/>
                </a:lnTo>
                <a:lnTo>
                  <a:pt x="2261" y="34378"/>
                </a:lnTo>
                <a:lnTo>
                  <a:pt x="25248" y="34378"/>
                </a:lnTo>
                <a:cubicBezTo>
                  <a:pt x="25578" y="34353"/>
                  <a:pt x="28968" y="34086"/>
                  <a:pt x="30886" y="31000"/>
                </a:cubicBezTo>
                <a:cubicBezTo>
                  <a:pt x="32842" y="27851"/>
                  <a:pt x="31483" y="24599"/>
                  <a:pt x="31356" y="24333"/>
                </a:cubicBezTo>
                <a:lnTo>
                  <a:pt x="918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7836480" y="5577840"/>
            <a:ext cx="6840" cy="48240"/>
          </a:xfrm>
          <a:custGeom>
            <a:avLst/>
            <a:gdLst>
              <a:gd name="textAreaLeft" fmla="*/ 0 w 6840"/>
              <a:gd name="textAreaRight" fmla="*/ 7200 w 6840"/>
              <a:gd name="textAreaTop" fmla="*/ 0 h 48240"/>
              <a:gd name="textAreaBottom" fmla="*/ 48600 h 48240"/>
            </a:gdLst>
            <a:ahLst/>
            <a:rect l="textAreaLeft" t="textAreaTop" r="textAreaRight" b="textAreaBottom"/>
            <a:pathLst>
              <a:path w="7048" h="48437">
                <a:moveTo>
                  <a:pt x="3524" y="0"/>
                </a:moveTo>
                <a:lnTo>
                  <a:pt x="3524" y="4843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7844040" y="5591880"/>
            <a:ext cx="23400" cy="33840"/>
          </a:xfrm>
          <a:custGeom>
            <a:avLst/>
            <a:gdLst>
              <a:gd name="textAreaLeft" fmla="*/ 0 w 23400"/>
              <a:gd name="textAreaRight" fmla="*/ 23760 w 23400"/>
              <a:gd name="textAreaTop" fmla="*/ 0 h 33840"/>
              <a:gd name="textAreaBottom" fmla="*/ 34200 h 33840"/>
            </a:gdLst>
            <a:ahLst/>
            <a:rect l="textAreaLeft" t="textAreaTop" r="textAreaRight" b="textAreaBottom"/>
            <a:pathLst>
              <a:path w="23621" h="34378">
                <a:moveTo>
                  <a:pt x="14439" y="0"/>
                </a:moveTo>
                <a:lnTo>
                  <a:pt x="0" y="16078"/>
                </a:lnTo>
                <a:lnTo>
                  <a:pt x="14439" y="34378"/>
                </a:lnTo>
                <a:lnTo>
                  <a:pt x="23621" y="34378"/>
                </a:lnTo>
                <a:lnTo>
                  <a:pt x="8635" y="16078"/>
                </a:lnTo>
                <a:lnTo>
                  <a:pt x="23621" y="0"/>
                </a:lnTo>
                <a:lnTo>
                  <a:pt x="14439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7868880" y="5591880"/>
            <a:ext cx="33840" cy="51840"/>
          </a:xfrm>
          <a:custGeom>
            <a:avLst/>
            <a:gdLst>
              <a:gd name="textAreaLeft" fmla="*/ 0 w 33840"/>
              <a:gd name="textAreaRight" fmla="*/ 34200 w 3384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4276" h="52095">
                <a:moveTo>
                  <a:pt x="0" y="0"/>
                </a:moveTo>
                <a:lnTo>
                  <a:pt x="9181" y="0"/>
                </a:lnTo>
                <a:cubicBezTo>
                  <a:pt x="12801" y="4635"/>
                  <a:pt x="16395" y="9258"/>
                  <a:pt x="20015" y="13868"/>
                </a:cubicBezTo>
                <a:cubicBezTo>
                  <a:pt x="22402" y="9258"/>
                  <a:pt x="24751" y="4635"/>
                  <a:pt x="27139" y="0"/>
                </a:cubicBezTo>
                <a:lnTo>
                  <a:pt x="34276" y="0"/>
                </a:lnTo>
                <a:cubicBezTo>
                  <a:pt x="25221" y="17360"/>
                  <a:pt x="16166" y="34696"/>
                  <a:pt x="7124" y="52070"/>
                </a:cubicBezTo>
                <a:cubicBezTo>
                  <a:pt x="4736" y="52070"/>
                  <a:pt x="2374" y="52095"/>
                  <a:pt x="0" y="52095"/>
                </a:cubicBezTo>
                <a:lnTo>
                  <a:pt x="16243" y="2084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7909560" y="5591880"/>
            <a:ext cx="45360" cy="33840"/>
          </a:xfrm>
          <a:custGeom>
            <a:avLst/>
            <a:gdLst>
              <a:gd name="textAreaLeft" fmla="*/ 0 w 45360"/>
              <a:gd name="textAreaRight" fmla="*/ 45720 w 45360"/>
              <a:gd name="textAreaTop" fmla="*/ 0 h 33840"/>
              <a:gd name="textAreaBottom" fmla="*/ 34200 h 33840"/>
            </a:gdLst>
            <a:ahLst/>
            <a:rect l="textAreaLeft" t="textAreaTop" r="textAreaRight" b="textAreaBottom"/>
            <a:pathLst>
              <a:path w="45618" h="34328">
                <a:moveTo>
                  <a:pt x="0" y="11404"/>
                </a:moveTo>
                <a:lnTo>
                  <a:pt x="0" y="34328"/>
                </a:lnTo>
                <a:lnTo>
                  <a:pt x="5359" y="34328"/>
                </a:lnTo>
                <a:lnTo>
                  <a:pt x="5359" y="11404"/>
                </a:lnTo>
                <a:cubicBezTo>
                  <a:pt x="6146" y="7937"/>
                  <a:pt x="9271" y="5473"/>
                  <a:pt x="12827" y="5524"/>
                </a:cubicBezTo>
                <a:cubicBezTo>
                  <a:pt x="16294" y="5550"/>
                  <a:pt x="19342" y="8001"/>
                  <a:pt x="20142" y="11404"/>
                </a:cubicBezTo>
                <a:lnTo>
                  <a:pt x="20142" y="34328"/>
                </a:lnTo>
                <a:lnTo>
                  <a:pt x="25476" y="34328"/>
                </a:lnTo>
                <a:lnTo>
                  <a:pt x="25476" y="11404"/>
                </a:lnTo>
                <a:cubicBezTo>
                  <a:pt x="26289" y="7937"/>
                  <a:pt x="29388" y="5499"/>
                  <a:pt x="32943" y="5524"/>
                </a:cubicBezTo>
                <a:cubicBezTo>
                  <a:pt x="36410" y="5550"/>
                  <a:pt x="39458" y="8001"/>
                  <a:pt x="40259" y="11404"/>
                </a:cubicBezTo>
                <a:lnTo>
                  <a:pt x="40259" y="34328"/>
                </a:lnTo>
                <a:lnTo>
                  <a:pt x="45618" y="34328"/>
                </a:lnTo>
                <a:lnTo>
                  <a:pt x="45618" y="11404"/>
                </a:lnTo>
                <a:cubicBezTo>
                  <a:pt x="44196" y="4660"/>
                  <a:pt x="38722" y="0"/>
                  <a:pt x="32943" y="0"/>
                </a:cubicBezTo>
                <a:cubicBezTo>
                  <a:pt x="27038" y="25"/>
                  <a:pt x="23342" y="4902"/>
                  <a:pt x="22898" y="5499"/>
                </a:cubicBezTo>
                <a:cubicBezTo>
                  <a:pt x="22453" y="4876"/>
                  <a:pt x="18732" y="25"/>
                  <a:pt x="12801" y="0"/>
                </a:cubicBezTo>
                <a:cubicBezTo>
                  <a:pt x="6998" y="0"/>
                  <a:pt x="1460" y="4635"/>
                  <a:pt x="0" y="11404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7998840" y="5591880"/>
            <a:ext cx="25200" cy="33840"/>
          </a:xfrm>
          <a:custGeom>
            <a:avLst/>
            <a:gdLst>
              <a:gd name="textAreaLeft" fmla="*/ 0 w 25200"/>
              <a:gd name="textAreaRight" fmla="*/ 25560 w 25200"/>
              <a:gd name="textAreaTop" fmla="*/ 0 h 33840"/>
              <a:gd name="textAreaBottom" fmla="*/ 34200 h 33840"/>
            </a:gdLst>
            <a:ahLst/>
            <a:rect l="textAreaLeft" t="textAreaTop" r="textAreaRight" b="textAreaBottom"/>
            <a:pathLst>
              <a:path w="25450" h="34353">
                <a:moveTo>
                  <a:pt x="25450" y="11379"/>
                </a:moveTo>
                <a:cubicBezTo>
                  <a:pt x="24726" y="4952"/>
                  <a:pt x="19253" y="12"/>
                  <a:pt x="12801" y="0"/>
                </a:cubicBezTo>
                <a:cubicBezTo>
                  <a:pt x="6324" y="-50"/>
                  <a:pt x="825" y="4800"/>
                  <a:pt x="0" y="11201"/>
                </a:cubicBezTo>
                <a:lnTo>
                  <a:pt x="0" y="34353"/>
                </a:lnTo>
                <a:lnTo>
                  <a:pt x="5333" y="34353"/>
                </a:lnTo>
                <a:lnTo>
                  <a:pt x="5333" y="11379"/>
                </a:lnTo>
                <a:cubicBezTo>
                  <a:pt x="6146" y="7911"/>
                  <a:pt x="9258" y="5448"/>
                  <a:pt x="12801" y="5473"/>
                </a:cubicBezTo>
                <a:cubicBezTo>
                  <a:pt x="16268" y="5498"/>
                  <a:pt x="19354" y="7949"/>
                  <a:pt x="20116" y="11379"/>
                </a:cubicBezTo>
                <a:lnTo>
                  <a:pt x="20116" y="34353"/>
                </a:lnTo>
                <a:lnTo>
                  <a:pt x="25450" y="34353"/>
                </a:lnTo>
                <a:lnTo>
                  <a:pt x="25450" y="1137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7900920" y="5560560"/>
            <a:ext cx="53640" cy="53640"/>
          </a:xfrm>
          <a:custGeom>
            <a:avLst/>
            <a:gdLst>
              <a:gd name="textAreaLeft" fmla="*/ 0 w 53640"/>
              <a:gd name="textAreaRight" fmla="*/ 54000 w 536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4152" h="54127">
                <a:moveTo>
                  <a:pt x="54153" y="27063"/>
                </a:moveTo>
                <a:cubicBezTo>
                  <a:pt x="54153" y="42024"/>
                  <a:pt x="42024" y="54127"/>
                  <a:pt x="27089" y="54127"/>
                </a:cubicBezTo>
                <a:cubicBezTo>
                  <a:pt x="12128" y="54127"/>
                  <a:pt x="0" y="42024"/>
                  <a:pt x="0" y="27063"/>
                </a:cubicBezTo>
                <a:cubicBezTo>
                  <a:pt x="0" y="12103"/>
                  <a:pt x="12128" y="0"/>
                  <a:pt x="27089" y="0"/>
                </a:cubicBezTo>
                <a:cubicBezTo>
                  <a:pt x="42024" y="0"/>
                  <a:pt x="54153" y="12103"/>
                  <a:pt x="54153" y="27063"/>
                </a:cubicBezTo>
              </a:path>
            </a:pathLst>
          </a:custGeom>
          <a:solidFill>
            <a:srgbClr val="6a6d7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2346120" y="720216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11" h="25400">
                <a:moveTo>
                  <a:pt x="6350" y="6350"/>
                </a:moveTo>
                <a:lnTo>
                  <a:pt x="211061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2729160" y="720216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36" h="25400">
                <a:moveTo>
                  <a:pt x="6350" y="6350"/>
                </a:moveTo>
                <a:lnTo>
                  <a:pt x="211086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344160" y="584280"/>
            <a:ext cx="4677840" cy="18360"/>
          </a:xfrm>
          <a:custGeom>
            <a:avLst/>
            <a:gdLst>
              <a:gd name="textAreaLeft" fmla="*/ 0 w 4677840"/>
              <a:gd name="textAreaRight" fmla="*/ 4678200 w 4677840"/>
              <a:gd name="textAreaTop" fmla="*/ 0 h 18360"/>
              <a:gd name="textAreaBottom" fmla="*/ 18720 h 18360"/>
            </a:gdLst>
            <a:ahLst/>
            <a:rect l="textAreaLeft" t="textAreaTop" r="textAreaRight" b="textAreaBottom"/>
            <a:pathLst>
              <a:path w="4678121" h="18796">
                <a:moveTo>
                  <a:pt x="6350" y="6350"/>
                </a:moveTo>
                <a:lnTo>
                  <a:pt x="4671771" y="6350"/>
                </a:lnTo>
              </a:path>
            </a:pathLst>
          </a:custGeom>
          <a:noFill/>
          <a:ln w="12700">
            <a:solidFill>
              <a:srgbClr val="76798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353520" y="1081800"/>
            <a:ext cx="92880" cy="32760"/>
          </a:xfrm>
          <a:custGeom>
            <a:avLst/>
            <a:gdLst>
              <a:gd name="textAreaLeft" fmla="*/ 0 w 92880"/>
              <a:gd name="textAreaRight" fmla="*/ 93240 w 92880"/>
              <a:gd name="textAreaTop" fmla="*/ 0 h 32760"/>
              <a:gd name="textAreaBottom" fmla="*/ 33120 h 32760"/>
            </a:gdLst>
            <a:ahLst/>
            <a:rect l="textAreaLeft" t="textAreaTop" r="textAreaRight" b="textAreaBottom"/>
            <a:pathLst>
              <a:path w="93345" h="33223">
                <a:moveTo>
                  <a:pt x="0" y="13195"/>
                </a:moveTo>
                <a:lnTo>
                  <a:pt x="44983" y="13195"/>
                </a:lnTo>
                <a:cubicBezTo>
                  <a:pt x="42913" y="10172"/>
                  <a:pt x="40716" y="7213"/>
                  <a:pt x="38392" y="4330"/>
                </a:cubicBezTo>
                <a:lnTo>
                  <a:pt x="46405" y="0"/>
                </a:lnTo>
                <a:cubicBezTo>
                  <a:pt x="49148" y="3175"/>
                  <a:pt x="52133" y="6718"/>
                  <a:pt x="55372" y="10667"/>
                </a:cubicBezTo>
                <a:lnTo>
                  <a:pt x="50622" y="13195"/>
                </a:lnTo>
                <a:lnTo>
                  <a:pt x="93344" y="13195"/>
                </a:lnTo>
                <a:lnTo>
                  <a:pt x="93344" y="33223"/>
                </a:lnTo>
                <a:lnTo>
                  <a:pt x="85001" y="33223"/>
                </a:lnTo>
                <a:lnTo>
                  <a:pt x="85001" y="21094"/>
                </a:lnTo>
                <a:lnTo>
                  <a:pt x="8331" y="21094"/>
                </a:lnTo>
                <a:lnTo>
                  <a:pt x="8331" y="33108"/>
                </a:lnTo>
                <a:lnTo>
                  <a:pt x="0" y="33108"/>
                </a:lnTo>
                <a:lnTo>
                  <a:pt x="0" y="13195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347400" y="1119600"/>
            <a:ext cx="104760" cy="66960"/>
          </a:xfrm>
          <a:custGeom>
            <a:avLst/>
            <a:gdLst>
              <a:gd name="textAreaLeft" fmla="*/ 0 w 104760"/>
              <a:gd name="textAreaRight" fmla="*/ 105120 w 1047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5029" h="67297">
                <a:moveTo>
                  <a:pt x="0" y="59055"/>
                </a:moveTo>
                <a:cubicBezTo>
                  <a:pt x="11671" y="49009"/>
                  <a:pt x="18414" y="34251"/>
                  <a:pt x="20231" y="14770"/>
                </a:cubicBezTo>
                <a:lnTo>
                  <a:pt x="29108" y="16141"/>
                </a:lnTo>
                <a:cubicBezTo>
                  <a:pt x="28257" y="22644"/>
                  <a:pt x="26974" y="28714"/>
                  <a:pt x="25247" y="34328"/>
                </a:cubicBezTo>
                <a:cubicBezTo>
                  <a:pt x="30708" y="45935"/>
                  <a:pt x="39154" y="52590"/>
                  <a:pt x="50609" y="54317"/>
                </a:cubicBezTo>
                <a:lnTo>
                  <a:pt x="50609" y="7912"/>
                </a:lnTo>
                <a:lnTo>
                  <a:pt x="2413" y="7912"/>
                </a:lnTo>
                <a:lnTo>
                  <a:pt x="2413" y="0"/>
                </a:lnTo>
                <a:lnTo>
                  <a:pt x="102615" y="0"/>
                </a:lnTo>
                <a:lnTo>
                  <a:pt x="102615" y="7912"/>
                </a:lnTo>
                <a:lnTo>
                  <a:pt x="59372" y="7912"/>
                </a:lnTo>
                <a:lnTo>
                  <a:pt x="59372" y="25006"/>
                </a:lnTo>
                <a:lnTo>
                  <a:pt x="96075" y="25006"/>
                </a:lnTo>
                <a:lnTo>
                  <a:pt x="96075" y="32804"/>
                </a:lnTo>
                <a:lnTo>
                  <a:pt x="59372" y="32804"/>
                </a:lnTo>
                <a:lnTo>
                  <a:pt x="59372" y="54889"/>
                </a:lnTo>
                <a:cubicBezTo>
                  <a:pt x="73355" y="55245"/>
                  <a:pt x="88582" y="55130"/>
                  <a:pt x="105028" y="54533"/>
                </a:cubicBezTo>
                <a:cubicBezTo>
                  <a:pt x="103835" y="57277"/>
                  <a:pt x="102819" y="60185"/>
                  <a:pt x="101981" y="63271"/>
                </a:cubicBezTo>
                <a:cubicBezTo>
                  <a:pt x="84759" y="63500"/>
                  <a:pt x="69710" y="63385"/>
                  <a:pt x="56832" y="62966"/>
                </a:cubicBezTo>
                <a:cubicBezTo>
                  <a:pt x="40982" y="62966"/>
                  <a:pt x="29324" y="56527"/>
                  <a:pt x="21869" y="43662"/>
                </a:cubicBezTo>
                <a:cubicBezTo>
                  <a:pt x="17868" y="52984"/>
                  <a:pt x="12433" y="60858"/>
                  <a:pt x="5575" y="67297"/>
                </a:cubicBezTo>
                <a:cubicBezTo>
                  <a:pt x="3962" y="64541"/>
                  <a:pt x="2108" y="61810"/>
                  <a:pt x="0" y="5905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2169360" y="1095120"/>
            <a:ext cx="33840" cy="31680"/>
          </a:xfrm>
          <a:custGeom>
            <a:avLst/>
            <a:gdLst>
              <a:gd name="textAreaLeft" fmla="*/ 0 w 33840"/>
              <a:gd name="textAreaRight" fmla="*/ 34200 w 338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378" h="31965">
                <a:moveTo>
                  <a:pt x="0" y="6019"/>
                </a:moveTo>
                <a:lnTo>
                  <a:pt x="5689" y="0"/>
                </a:lnTo>
                <a:cubicBezTo>
                  <a:pt x="16382" y="8724"/>
                  <a:pt x="25946" y="16979"/>
                  <a:pt x="34378" y="24803"/>
                </a:cubicBezTo>
                <a:lnTo>
                  <a:pt x="27838" y="31965"/>
                </a:lnTo>
                <a:cubicBezTo>
                  <a:pt x="17716" y="21691"/>
                  <a:pt x="8432" y="13042"/>
                  <a:pt x="0" y="6019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2148120" y="1083240"/>
            <a:ext cx="8280" cy="44640"/>
          </a:xfrm>
          <a:custGeom>
            <a:avLst/>
            <a:gdLst>
              <a:gd name="textAreaLeft" fmla="*/ 0 w 8280"/>
              <a:gd name="textAreaRight" fmla="*/ 8640 w 82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8750" h="45135">
                <a:moveTo>
                  <a:pt x="4375" y="0"/>
                </a:moveTo>
                <a:lnTo>
                  <a:pt x="4375" y="45135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2102040" y="1094760"/>
            <a:ext cx="34200" cy="32760"/>
          </a:xfrm>
          <a:custGeom>
            <a:avLst/>
            <a:gdLst>
              <a:gd name="textAreaLeft" fmla="*/ 0 w 34200"/>
              <a:gd name="textAreaRight" fmla="*/ 34560 w 34200"/>
              <a:gd name="textAreaTop" fmla="*/ 0 h 32760"/>
              <a:gd name="textAreaBottom" fmla="*/ 33120 h 32760"/>
            </a:gdLst>
            <a:ahLst/>
            <a:rect l="textAreaLeft" t="textAreaTop" r="textAreaRight" b="textAreaBottom"/>
            <a:pathLst>
              <a:path w="34696" h="33108">
                <a:moveTo>
                  <a:pt x="27851" y="0"/>
                </a:moveTo>
                <a:lnTo>
                  <a:pt x="34696" y="5689"/>
                </a:lnTo>
                <a:cubicBezTo>
                  <a:pt x="24993" y="15887"/>
                  <a:pt x="15392" y="25019"/>
                  <a:pt x="5905" y="33108"/>
                </a:cubicBezTo>
                <a:cubicBezTo>
                  <a:pt x="3936" y="30429"/>
                  <a:pt x="1968" y="28130"/>
                  <a:pt x="0" y="26149"/>
                </a:cubicBezTo>
                <a:cubicBezTo>
                  <a:pt x="9626" y="18554"/>
                  <a:pt x="18923" y="9842"/>
                  <a:pt x="27851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2101320" y="1133640"/>
            <a:ext cx="102960" cy="47160"/>
          </a:xfrm>
          <a:custGeom>
            <a:avLst/>
            <a:gdLst>
              <a:gd name="textAreaLeft" fmla="*/ 0 w 102960"/>
              <a:gd name="textAreaRight" fmla="*/ 103320 w 102960"/>
              <a:gd name="textAreaTop" fmla="*/ 0 h 47160"/>
              <a:gd name="textAreaBottom" fmla="*/ 47520 h 47160"/>
            </a:gdLst>
            <a:ahLst/>
            <a:rect l="textAreaLeft" t="textAreaTop" r="textAreaRight" b="textAreaBottom"/>
            <a:pathLst>
              <a:path w="103454" h="47675">
                <a:moveTo>
                  <a:pt x="0" y="39662"/>
                </a:moveTo>
                <a:lnTo>
                  <a:pt x="47028" y="39662"/>
                </a:lnTo>
                <a:lnTo>
                  <a:pt x="47028" y="20459"/>
                </a:lnTo>
                <a:lnTo>
                  <a:pt x="8737" y="20459"/>
                </a:lnTo>
                <a:lnTo>
                  <a:pt x="8737" y="12458"/>
                </a:lnTo>
                <a:lnTo>
                  <a:pt x="47028" y="12458"/>
                </a:lnTo>
                <a:lnTo>
                  <a:pt x="47028" y="0"/>
                </a:lnTo>
                <a:lnTo>
                  <a:pt x="55892" y="0"/>
                </a:lnTo>
                <a:lnTo>
                  <a:pt x="55892" y="12458"/>
                </a:lnTo>
                <a:lnTo>
                  <a:pt x="94399" y="12458"/>
                </a:lnTo>
                <a:lnTo>
                  <a:pt x="94399" y="20459"/>
                </a:lnTo>
                <a:lnTo>
                  <a:pt x="55892" y="20459"/>
                </a:lnTo>
                <a:lnTo>
                  <a:pt x="55892" y="39662"/>
                </a:lnTo>
                <a:lnTo>
                  <a:pt x="103454" y="39662"/>
                </a:lnTo>
                <a:lnTo>
                  <a:pt x="103454" y="47675"/>
                </a:lnTo>
                <a:lnTo>
                  <a:pt x="0" y="47675"/>
                </a:lnTo>
                <a:lnTo>
                  <a:pt x="0" y="3966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3086640" y="1126440"/>
            <a:ext cx="104400" cy="9000"/>
          </a:xfrm>
          <a:custGeom>
            <a:avLst/>
            <a:gdLst>
              <a:gd name="textAreaLeft" fmla="*/ 0 w 104400"/>
              <a:gd name="textAreaRight" fmla="*/ 104760 w 1044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04838" h="9271">
                <a:moveTo>
                  <a:pt x="0" y="4635"/>
                </a:moveTo>
                <a:lnTo>
                  <a:pt x="104838" y="4635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350640" y="929520"/>
            <a:ext cx="89640" cy="89640"/>
          </a:xfrm>
          <a:custGeom>
            <a:avLst/>
            <a:gdLst>
              <a:gd name="textAreaLeft" fmla="*/ 0 w 89640"/>
              <a:gd name="textAreaRight" fmla="*/ 90000 w 89640"/>
              <a:gd name="textAreaTop" fmla="*/ 0 h 89640"/>
              <a:gd name="textAreaBottom" fmla="*/ 90000 h 89640"/>
            </a:gdLst>
            <a:ahLst/>
            <a:rect l="textAreaLeft" t="textAreaTop" r="textAreaRight" b="textAreaBottom"/>
            <a:pathLst>
              <a:path w="89992" h="89992">
                <a:moveTo>
                  <a:pt x="44996" y="89992"/>
                </a:moveTo>
                <a:lnTo>
                  <a:pt x="0" y="44996"/>
                </a:lnTo>
                <a:lnTo>
                  <a:pt x="44996" y="0"/>
                </a:lnTo>
                <a:lnTo>
                  <a:pt x="89992" y="44996"/>
                </a:lnTo>
                <a:lnTo>
                  <a:pt x="44996" y="89992"/>
                </a:lnTo>
              </a:path>
            </a:pathLst>
          </a:custGeom>
          <a:solidFill>
            <a:srgbClr val="0d0f0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576720" y="916200"/>
            <a:ext cx="105120" cy="105480"/>
          </a:xfrm>
          <a:custGeom>
            <a:avLst/>
            <a:gdLst>
              <a:gd name="textAreaLeft" fmla="*/ 0 w 105120"/>
              <a:gd name="textAreaRight" fmla="*/ 105480 w 105120"/>
              <a:gd name="textAreaTop" fmla="*/ 0 h 105480"/>
              <a:gd name="textAreaBottom" fmla="*/ 105840 h 105480"/>
            </a:gdLst>
            <a:ahLst/>
            <a:rect l="textAreaLeft" t="textAreaTop" r="textAreaRight" b="textAreaBottom"/>
            <a:pathLst>
              <a:path w="105473" h="106006">
                <a:moveTo>
                  <a:pt x="63487" y="69507"/>
                </a:moveTo>
                <a:lnTo>
                  <a:pt x="70764" y="69507"/>
                </a:lnTo>
                <a:cubicBezTo>
                  <a:pt x="66763" y="66281"/>
                  <a:pt x="63144" y="62547"/>
                  <a:pt x="59905" y="58331"/>
                </a:cubicBezTo>
                <a:lnTo>
                  <a:pt x="47142" y="58331"/>
                </a:lnTo>
                <a:cubicBezTo>
                  <a:pt x="44183" y="62344"/>
                  <a:pt x="40563" y="66065"/>
                  <a:pt x="36271" y="69507"/>
                </a:cubicBezTo>
                <a:lnTo>
                  <a:pt x="42824" y="69507"/>
                </a:lnTo>
                <a:cubicBezTo>
                  <a:pt x="43040" y="80695"/>
                  <a:pt x="41529" y="88493"/>
                  <a:pt x="38290" y="92925"/>
                </a:cubicBezTo>
                <a:cubicBezTo>
                  <a:pt x="35331" y="97840"/>
                  <a:pt x="28892" y="102196"/>
                  <a:pt x="18986" y="106006"/>
                </a:cubicBezTo>
                <a:cubicBezTo>
                  <a:pt x="15113" y="100507"/>
                  <a:pt x="11988" y="96443"/>
                  <a:pt x="9601" y="93764"/>
                </a:cubicBezTo>
                <a:cubicBezTo>
                  <a:pt x="18110" y="91516"/>
                  <a:pt x="23418" y="88950"/>
                  <a:pt x="25527" y="86080"/>
                </a:cubicBezTo>
                <a:cubicBezTo>
                  <a:pt x="27139" y="84239"/>
                  <a:pt x="28168" y="80543"/>
                  <a:pt x="28587" y="74993"/>
                </a:cubicBezTo>
                <a:cubicBezTo>
                  <a:pt x="22669" y="78663"/>
                  <a:pt x="15925" y="81927"/>
                  <a:pt x="8331" y="84810"/>
                </a:cubicBezTo>
                <a:cubicBezTo>
                  <a:pt x="5524" y="79946"/>
                  <a:pt x="2743" y="75704"/>
                  <a:pt x="0" y="72034"/>
                </a:cubicBezTo>
                <a:cubicBezTo>
                  <a:pt x="12014" y="68948"/>
                  <a:pt x="21577" y="64376"/>
                  <a:pt x="28689" y="58331"/>
                </a:cubicBezTo>
                <a:lnTo>
                  <a:pt x="2324" y="58331"/>
                </a:lnTo>
                <a:lnTo>
                  <a:pt x="2324" y="46736"/>
                </a:lnTo>
                <a:lnTo>
                  <a:pt x="38290" y="46736"/>
                </a:lnTo>
                <a:cubicBezTo>
                  <a:pt x="39344" y="44767"/>
                  <a:pt x="40259" y="42697"/>
                  <a:pt x="41020" y="40512"/>
                </a:cubicBezTo>
                <a:lnTo>
                  <a:pt x="11595" y="40512"/>
                </a:lnTo>
                <a:lnTo>
                  <a:pt x="11595" y="29743"/>
                </a:lnTo>
                <a:lnTo>
                  <a:pt x="43662" y="29743"/>
                </a:lnTo>
                <a:cubicBezTo>
                  <a:pt x="44018" y="27711"/>
                  <a:pt x="44323" y="25679"/>
                  <a:pt x="44615" y="23647"/>
                </a:cubicBezTo>
                <a:lnTo>
                  <a:pt x="7378" y="23647"/>
                </a:lnTo>
                <a:lnTo>
                  <a:pt x="7378" y="12039"/>
                </a:lnTo>
                <a:lnTo>
                  <a:pt x="27952" y="12039"/>
                </a:lnTo>
                <a:cubicBezTo>
                  <a:pt x="26543" y="9994"/>
                  <a:pt x="24968" y="7785"/>
                  <a:pt x="23202" y="5384"/>
                </a:cubicBezTo>
                <a:lnTo>
                  <a:pt x="37541" y="114"/>
                </a:lnTo>
                <a:cubicBezTo>
                  <a:pt x="40360" y="4330"/>
                  <a:pt x="42926" y="8318"/>
                  <a:pt x="45237" y="12039"/>
                </a:cubicBezTo>
                <a:lnTo>
                  <a:pt x="61163" y="12039"/>
                </a:lnTo>
                <a:cubicBezTo>
                  <a:pt x="64325" y="7175"/>
                  <a:pt x="66878" y="3175"/>
                  <a:pt x="68770" y="0"/>
                </a:cubicBezTo>
                <a:lnTo>
                  <a:pt x="83007" y="4965"/>
                </a:lnTo>
                <a:cubicBezTo>
                  <a:pt x="81534" y="7150"/>
                  <a:pt x="79870" y="9499"/>
                  <a:pt x="78041" y="12039"/>
                </a:cubicBezTo>
                <a:lnTo>
                  <a:pt x="98298" y="12039"/>
                </a:lnTo>
                <a:lnTo>
                  <a:pt x="98298" y="23647"/>
                </a:lnTo>
                <a:lnTo>
                  <a:pt x="59385" y="23647"/>
                </a:lnTo>
                <a:cubicBezTo>
                  <a:pt x="59016" y="25755"/>
                  <a:pt x="58635" y="27787"/>
                  <a:pt x="58216" y="29743"/>
                </a:cubicBezTo>
                <a:lnTo>
                  <a:pt x="93878" y="29743"/>
                </a:lnTo>
                <a:lnTo>
                  <a:pt x="93878" y="40512"/>
                </a:lnTo>
                <a:lnTo>
                  <a:pt x="55803" y="40512"/>
                </a:lnTo>
                <a:cubicBezTo>
                  <a:pt x="55232" y="42697"/>
                  <a:pt x="54559" y="44767"/>
                  <a:pt x="53784" y="46736"/>
                </a:cubicBezTo>
                <a:lnTo>
                  <a:pt x="103149" y="46736"/>
                </a:lnTo>
                <a:lnTo>
                  <a:pt x="103149" y="58331"/>
                </a:lnTo>
                <a:lnTo>
                  <a:pt x="76250" y="58331"/>
                </a:lnTo>
                <a:cubicBezTo>
                  <a:pt x="83642" y="65087"/>
                  <a:pt x="93383" y="69164"/>
                  <a:pt x="105473" y="70573"/>
                </a:cubicBezTo>
                <a:cubicBezTo>
                  <a:pt x="103149" y="75209"/>
                  <a:pt x="101041" y="79705"/>
                  <a:pt x="99148" y="84061"/>
                </a:cubicBezTo>
                <a:cubicBezTo>
                  <a:pt x="91198" y="81889"/>
                  <a:pt x="84061" y="78727"/>
                  <a:pt x="77724" y="74561"/>
                </a:cubicBezTo>
                <a:lnTo>
                  <a:pt x="77724" y="105054"/>
                </a:lnTo>
                <a:lnTo>
                  <a:pt x="63487" y="105054"/>
                </a:lnTo>
                <a:lnTo>
                  <a:pt x="63487" y="69507"/>
                </a:lnTo>
              </a:path>
            </a:pathLst>
          </a:custGeom>
          <a:solidFill>
            <a:srgbClr val="0d0f0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350640" y="1278360"/>
            <a:ext cx="89640" cy="89640"/>
          </a:xfrm>
          <a:custGeom>
            <a:avLst/>
            <a:gdLst>
              <a:gd name="textAreaLeft" fmla="*/ 0 w 89640"/>
              <a:gd name="textAreaRight" fmla="*/ 90000 w 89640"/>
              <a:gd name="textAreaTop" fmla="*/ 0 h 89640"/>
              <a:gd name="textAreaBottom" fmla="*/ 90000 h 89640"/>
            </a:gdLst>
            <a:ahLst/>
            <a:rect l="textAreaLeft" t="textAreaTop" r="textAreaRight" b="textAreaBottom"/>
            <a:pathLst>
              <a:path w="89992" h="89992">
                <a:moveTo>
                  <a:pt x="44996" y="89992"/>
                </a:moveTo>
                <a:lnTo>
                  <a:pt x="0" y="44996"/>
                </a:lnTo>
                <a:lnTo>
                  <a:pt x="44996" y="0"/>
                </a:lnTo>
                <a:lnTo>
                  <a:pt x="89992" y="44996"/>
                </a:lnTo>
                <a:lnTo>
                  <a:pt x="44996" y="89992"/>
                </a:lnTo>
              </a:path>
            </a:pathLst>
          </a:custGeom>
          <a:solidFill>
            <a:srgbClr val="0d0f0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1333080" y="1266120"/>
            <a:ext cx="102240" cy="104040"/>
          </a:xfrm>
          <a:custGeom>
            <a:avLst/>
            <a:gdLst>
              <a:gd name="textAreaLeft" fmla="*/ 0 w 102240"/>
              <a:gd name="textAreaRight" fmla="*/ 102600 w 102240"/>
              <a:gd name="textAreaTop" fmla="*/ 0 h 104040"/>
              <a:gd name="textAreaBottom" fmla="*/ 104400 h 104040"/>
            </a:gdLst>
            <a:ahLst/>
            <a:rect l="textAreaLeft" t="textAreaTop" r="textAreaRight" b="textAreaBottom"/>
            <a:pathLst>
              <a:path w="102616" h="104533">
                <a:moveTo>
                  <a:pt x="48615" y="102298"/>
                </a:moveTo>
                <a:cubicBezTo>
                  <a:pt x="47345" y="95973"/>
                  <a:pt x="46088" y="90601"/>
                  <a:pt x="44818" y="86169"/>
                </a:cubicBezTo>
                <a:cubicBezTo>
                  <a:pt x="53581" y="86525"/>
                  <a:pt x="59601" y="86690"/>
                  <a:pt x="62903" y="86690"/>
                </a:cubicBezTo>
                <a:cubicBezTo>
                  <a:pt x="65265" y="86690"/>
                  <a:pt x="67055" y="86499"/>
                  <a:pt x="68313" y="86093"/>
                </a:cubicBezTo>
                <a:cubicBezTo>
                  <a:pt x="69557" y="85674"/>
                  <a:pt x="70573" y="85039"/>
                  <a:pt x="71399" y="84137"/>
                </a:cubicBezTo>
                <a:cubicBezTo>
                  <a:pt x="72199" y="83248"/>
                  <a:pt x="72745" y="82232"/>
                  <a:pt x="73037" y="81114"/>
                </a:cubicBezTo>
                <a:cubicBezTo>
                  <a:pt x="73304" y="79971"/>
                  <a:pt x="73621" y="76111"/>
                  <a:pt x="73952" y="69507"/>
                </a:cubicBezTo>
                <a:cubicBezTo>
                  <a:pt x="74282" y="62890"/>
                  <a:pt x="74447" y="58369"/>
                  <a:pt x="74447" y="55905"/>
                </a:cubicBezTo>
                <a:lnTo>
                  <a:pt x="41122" y="55905"/>
                </a:lnTo>
                <a:cubicBezTo>
                  <a:pt x="38976" y="76047"/>
                  <a:pt x="29070" y="92252"/>
                  <a:pt x="11379" y="104533"/>
                </a:cubicBezTo>
                <a:cubicBezTo>
                  <a:pt x="9626" y="101993"/>
                  <a:pt x="5829" y="97345"/>
                  <a:pt x="0" y="90601"/>
                </a:cubicBezTo>
                <a:cubicBezTo>
                  <a:pt x="7759" y="85534"/>
                  <a:pt x="13652" y="79819"/>
                  <a:pt x="17678" y="73456"/>
                </a:cubicBezTo>
                <a:cubicBezTo>
                  <a:pt x="21716" y="67106"/>
                  <a:pt x="24066" y="60845"/>
                  <a:pt x="24777" y="54724"/>
                </a:cubicBezTo>
                <a:cubicBezTo>
                  <a:pt x="25488" y="48577"/>
                  <a:pt x="25920" y="39839"/>
                  <a:pt x="26098" y="28486"/>
                </a:cubicBezTo>
                <a:lnTo>
                  <a:pt x="2311" y="28486"/>
                </a:lnTo>
                <a:lnTo>
                  <a:pt x="2311" y="14566"/>
                </a:lnTo>
                <a:lnTo>
                  <a:pt x="46139" y="14566"/>
                </a:lnTo>
                <a:lnTo>
                  <a:pt x="41973" y="3898"/>
                </a:lnTo>
                <a:lnTo>
                  <a:pt x="58737" y="0"/>
                </a:lnTo>
                <a:cubicBezTo>
                  <a:pt x="61048" y="5803"/>
                  <a:pt x="62814" y="10655"/>
                  <a:pt x="64008" y="14566"/>
                </a:cubicBezTo>
                <a:lnTo>
                  <a:pt x="102616" y="14566"/>
                </a:lnTo>
                <a:lnTo>
                  <a:pt x="102616" y="28486"/>
                </a:lnTo>
                <a:lnTo>
                  <a:pt x="42176" y="28486"/>
                </a:lnTo>
                <a:cubicBezTo>
                  <a:pt x="42100" y="32842"/>
                  <a:pt x="41998" y="37338"/>
                  <a:pt x="41808" y="41973"/>
                </a:cubicBezTo>
                <a:lnTo>
                  <a:pt x="91122" y="41973"/>
                </a:lnTo>
                <a:cubicBezTo>
                  <a:pt x="90792" y="51231"/>
                  <a:pt x="90373" y="60756"/>
                  <a:pt x="89852" y="70586"/>
                </a:cubicBezTo>
                <a:cubicBezTo>
                  <a:pt x="89319" y="80416"/>
                  <a:pt x="88823" y="86525"/>
                  <a:pt x="88353" y="88900"/>
                </a:cubicBezTo>
                <a:cubicBezTo>
                  <a:pt x="87871" y="91313"/>
                  <a:pt x="86880" y="93548"/>
                  <a:pt x="85344" y="95643"/>
                </a:cubicBezTo>
                <a:cubicBezTo>
                  <a:pt x="83807" y="97739"/>
                  <a:pt x="81978" y="99225"/>
                  <a:pt x="79832" y="100114"/>
                </a:cubicBezTo>
                <a:cubicBezTo>
                  <a:pt x="77685" y="101003"/>
                  <a:pt x="74345" y="101600"/>
                  <a:pt x="69837" y="101879"/>
                </a:cubicBezTo>
                <a:cubicBezTo>
                  <a:pt x="65316" y="102171"/>
                  <a:pt x="58254" y="102298"/>
                  <a:pt x="48615" y="102298"/>
                </a:cubicBezTo>
              </a:path>
            </a:pathLst>
          </a:custGeom>
          <a:solidFill>
            <a:srgbClr val="0d0f0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372960" y="435600"/>
            <a:ext cx="47160" cy="51840"/>
          </a:xfrm>
          <a:custGeom>
            <a:avLst/>
            <a:gdLst>
              <a:gd name="textAreaLeft" fmla="*/ 0 w 47160"/>
              <a:gd name="textAreaRight" fmla="*/ 47520 w 4716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47675" h="52285">
                <a:moveTo>
                  <a:pt x="0" y="0"/>
                </a:moveTo>
                <a:cubicBezTo>
                  <a:pt x="12801" y="13931"/>
                  <a:pt x="25603" y="27876"/>
                  <a:pt x="38379" y="41795"/>
                </a:cubicBezTo>
                <a:lnTo>
                  <a:pt x="3403" y="41795"/>
                </a:lnTo>
                <a:lnTo>
                  <a:pt x="3403" y="52285"/>
                </a:lnTo>
                <a:lnTo>
                  <a:pt x="38379" y="52285"/>
                </a:lnTo>
                <a:cubicBezTo>
                  <a:pt x="38900" y="52235"/>
                  <a:pt x="44056" y="51815"/>
                  <a:pt x="46951" y="47155"/>
                </a:cubicBezTo>
                <a:cubicBezTo>
                  <a:pt x="49961" y="42367"/>
                  <a:pt x="47853" y="37401"/>
                  <a:pt x="47675" y="36982"/>
                </a:cubicBezTo>
                <a:cubicBezTo>
                  <a:pt x="36436" y="24650"/>
                  <a:pt x="25184" y="12344"/>
                  <a:pt x="13944" y="0"/>
                </a:cubicBez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428760" y="414000"/>
            <a:ext cx="10440" cy="73440"/>
          </a:xfrm>
          <a:custGeom>
            <a:avLst/>
            <a:gdLst>
              <a:gd name="textAreaLeft" fmla="*/ 0 w 10440"/>
              <a:gd name="textAreaRight" fmla="*/ 10800 w 10440"/>
              <a:gd name="textAreaTop" fmla="*/ 0 h 73440"/>
              <a:gd name="textAreaBottom" fmla="*/ 73800 h 73440"/>
            </a:gdLst>
            <a:ahLst/>
            <a:rect l="textAreaLeft" t="textAreaTop" r="textAreaRight" b="textAreaBottom"/>
            <a:pathLst>
              <a:path w="10718" h="73647">
                <a:moveTo>
                  <a:pt x="5359" y="0"/>
                </a:moveTo>
                <a:lnTo>
                  <a:pt x="5359" y="73647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440280" y="435600"/>
            <a:ext cx="35640" cy="51840"/>
          </a:xfrm>
          <a:custGeom>
            <a:avLst/>
            <a:gdLst>
              <a:gd name="textAreaLeft" fmla="*/ 0 w 35640"/>
              <a:gd name="textAreaRight" fmla="*/ 36000 w 3564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5915" h="52285">
                <a:moveTo>
                  <a:pt x="21970" y="0"/>
                </a:moveTo>
                <a:cubicBezTo>
                  <a:pt x="14630" y="8153"/>
                  <a:pt x="7315" y="16268"/>
                  <a:pt x="0" y="24434"/>
                </a:cubicBezTo>
                <a:cubicBezTo>
                  <a:pt x="7315" y="33705"/>
                  <a:pt x="14630" y="42989"/>
                  <a:pt x="21970" y="52285"/>
                </a:cubicBezTo>
                <a:lnTo>
                  <a:pt x="35915" y="52285"/>
                </a:lnTo>
                <a:cubicBezTo>
                  <a:pt x="28320" y="42989"/>
                  <a:pt x="20688" y="33705"/>
                  <a:pt x="13119" y="24434"/>
                </a:cubicBezTo>
                <a:cubicBezTo>
                  <a:pt x="20688" y="16268"/>
                  <a:pt x="28320" y="8153"/>
                  <a:pt x="35915" y="0"/>
                </a:cubicBezTo>
                <a:lnTo>
                  <a:pt x="2197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477720" y="435600"/>
            <a:ext cx="51840" cy="78840"/>
          </a:xfrm>
          <a:custGeom>
            <a:avLst/>
            <a:gdLst>
              <a:gd name="textAreaLeft" fmla="*/ 0 w 51840"/>
              <a:gd name="textAreaRight" fmla="*/ 52200 w 518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52146" h="79222">
                <a:moveTo>
                  <a:pt x="0" y="0"/>
                </a:moveTo>
                <a:lnTo>
                  <a:pt x="13944" y="0"/>
                </a:lnTo>
                <a:cubicBezTo>
                  <a:pt x="19443" y="7035"/>
                  <a:pt x="24955" y="14058"/>
                  <a:pt x="30429" y="21056"/>
                </a:cubicBezTo>
                <a:cubicBezTo>
                  <a:pt x="34061" y="14058"/>
                  <a:pt x="37655" y="7035"/>
                  <a:pt x="41275" y="0"/>
                </a:cubicBezTo>
                <a:lnTo>
                  <a:pt x="52146" y="0"/>
                </a:lnTo>
                <a:lnTo>
                  <a:pt x="10820" y="79197"/>
                </a:lnTo>
                <a:cubicBezTo>
                  <a:pt x="7213" y="79197"/>
                  <a:pt x="3594" y="79197"/>
                  <a:pt x="0" y="79222"/>
                </a:cubicBezTo>
                <a:lnTo>
                  <a:pt x="24726" y="31673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539640" y="435600"/>
            <a:ext cx="69120" cy="51840"/>
          </a:xfrm>
          <a:custGeom>
            <a:avLst/>
            <a:gdLst>
              <a:gd name="textAreaLeft" fmla="*/ 0 w 69120"/>
              <a:gd name="textAreaRight" fmla="*/ 69480 w 691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69354" h="52184">
                <a:moveTo>
                  <a:pt x="0" y="17335"/>
                </a:moveTo>
                <a:lnTo>
                  <a:pt x="0" y="52184"/>
                </a:lnTo>
                <a:lnTo>
                  <a:pt x="8115" y="52184"/>
                </a:lnTo>
                <a:lnTo>
                  <a:pt x="8115" y="17310"/>
                </a:lnTo>
                <a:cubicBezTo>
                  <a:pt x="9347" y="12052"/>
                  <a:pt x="14109" y="8331"/>
                  <a:pt x="19469" y="8381"/>
                </a:cubicBezTo>
                <a:cubicBezTo>
                  <a:pt x="24777" y="8458"/>
                  <a:pt x="29400" y="12153"/>
                  <a:pt x="30606" y="17335"/>
                </a:cubicBezTo>
                <a:lnTo>
                  <a:pt x="30606" y="52184"/>
                </a:lnTo>
                <a:lnTo>
                  <a:pt x="38747" y="52184"/>
                </a:lnTo>
                <a:lnTo>
                  <a:pt x="38747" y="17335"/>
                </a:lnTo>
                <a:cubicBezTo>
                  <a:pt x="39954" y="12077"/>
                  <a:pt x="44704" y="8331"/>
                  <a:pt x="50076" y="8381"/>
                </a:cubicBezTo>
                <a:cubicBezTo>
                  <a:pt x="55346" y="8432"/>
                  <a:pt x="60032" y="12153"/>
                  <a:pt x="61239" y="17335"/>
                </a:cubicBezTo>
                <a:lnTo>
                  <a:pt x="61239" y="52184"/>
                </a:lnTo>
                <a:lnTo>
                  <a:pt x="69354" y="52184"/>
                </a:lnTo>
                <a:lnTo>
                  <a:pt x="69354" y="17335"/>
                </a:lnTo>
                <a:cubicBezTo>
                  <a:pt x="67221" y="7061"/>
                  <a:pt x="58864" y="-25"/>
                  <a:pt x="50076" y="0"/>
                </a:cubicBezTo>
                <a:cubicBezTo>
                  <a:pt x="41097" y="38"/>
                  <a:pt x="35496" y="7454"/>
                  <a:pt x="34798" y="8356"/>
                </a:cubicBezTo>
                <a:cubicBezTo>
                  <a:pt x="34112" y="7429"/>
                  <a:pt x="28448" y="63"/>
                  <a:pt x="19443" y="0"/>
                </a:cubicBezTo>
                <a:cubicBezTo>
                  <a:pt x="10617" y="-25"/>
                  <a:pt x="2184" y="7035"/>
                  <a:pt x="0" y="1733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675360" y="435600"/>
            <a:ext cx="38520" cy="51840"/>
          </a:xfrm>
          <a:custGeom>
            <a:avLst/>
            <a:gdLst>
              <a:gd name="textAreaLeft" fmla="*/ 0 w 38520"/>
              <a:gd name="textAreaRight" fmla="*/ 38880 w 385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8722" h="52222">
                <a:moveTo>
                  <a:pt x="38722" y="17297"/>
                </a:moveTo>
                <a:cubicBezTo>
                  <a:pt x="37630" y="7518"/>
                  <a:pt x="29298" y="50"/>
                  <a:pt x="19430" y="0"/>
                </a:cubicBezTo>
                <a:cubicBezTo>
                  <a:pt x="9626" y="-88"/>
                  <a:pt x="1219" y="7302"/>
                  <a:pt x="0" y="17043"/>
                </a:cubicBezTo>
                <a:lnTo>
                  <a:pt x="0" y="52222"/>
                </a:lnTo>
                <a:lnTo>
                  <a:pt x="8115" y="52222"/>
                </a:lnTo>
                <a:lnTo>
                  <a:pt x="8115" y="17297"/>
                </a:lnTo>
                <a:cubicBezTo>
                  <a:pt x="9334" y="12014"/>
                  <a:pt x="14071" y="8267"/>
                  <a:pt x="19430" y="8318"/>
                </a:cubicBezTo>
                <a:cubicBezTo>
                  <a:pt x="24739" y="8343"/>
                  <a:pt x="29425" y="12090"/>
                  <a:pt x="30606" y="17297"/>
                </a:cubicBezTo>
                <a:lnTo>
                  <a:pt x="30606" y="52222"/>
                </a:lnTo>
                <a:lnTo>
                  <a:pt x="38696" y="52222"/>
                </a:lnTo>
                <a:cubicBezTo>
                  <a:pt x="38722" y="40589"/>
                  <a:pt x="38722" y="28930"/>
                  <a:pt x="38722" y="17297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4702680" y="501480"/>
            <a:ext cx="12960" cy="12960"/>
          </a:xfrm>
          <a:custGeom>
            <a:avLst/>
            <a:gdLst>
              <a:gd name="textAreaLeft" fmla="*/ 0 w 12960"/>
              <a:gd name="textAreaRight" fmla="*/ 13320 w 1296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487" h="13487">
                <a:moveTo>
                  <a:pt x="13487" y="6743"/>
                </a:moveTo>
                <a:cubicBezTo>
                  <a:pt x="13487" y="10464"/>
                  <a:pt x="10477" y="13487"/>
                  <a:pt x="6743" y="13487"/>
                </a:cubicBezTo>
                <a:cubicBezTo>
                  <a:pt x="3009" y="13487"/>
                  <a:pt x="0" y="10464"/>
                  <a:pt x="0" y="6743"/>
                </a:cubicBezTo>
                <a:cubicBezTo>
                  <a:pt x="0" y="3022"/>
                  <a:pt x="3009" y="0"/>
                  <a:pt x="6743" y="0"/>
                </a:cubicBezTo>
                <a:cubicBezTo>
                  <a:pt x="10477" y="0"/>
                  <a:pt x="13487" y="3022"/>
                  <a:pt x="13487" y="674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5700960" y="436680"/>
            <a:ext cx="47160" cy="51840"/>
          </a:xfrm>
          <a:custGeom>
            <a:avLst/>
            <a:gdLst>
              <a:gd name="textAreaLeft" fmla="*/ 0 w 47160"/>
              <a:gd name="textAreaRight" fmla="*/ 47520 w 4716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47675" h="52285">
                <a:moveTo>
                  <a:pt x="0" y="0"/>
                </a:moveTo>
                <a:cubicBezTo>
                  <a:pt x="12801" y="13931"/>
                  <a:pt x="25603" y="27876"/>
                  <a:pt x="38392" y="41795"/>
                </a:cubicBezTo>
                <a:lnTo>
                  <a:pt x="3403" y="41795"/>
                </a:lnTo>
                <a:lnTo>
                  <a:pt x="3403" y="52285"/>
                </a:lnTo>
                <a:lnTo>
                  <a:pt x="38392" y="52285"/>
                </a:lnTo>
                <a:cubicBezTo>
                  <a:pt x="38912" y="52235"/>
                  <a:pt x="44056" y="51816"/>
                  <a:pt x="46951" y="47155"/>
                </a:cubicBezTo>
                <a:cubicBezTo>
                  <a:pt x="49961" y="42367"/>
                  <a:pt x="47853" y="37401"/>
                  <a:pt x="47675" y="36982"/>
                </a:cubicBezTo>
                <a:cubicBezTo>
                  <a:pt x="36436" y="24650"/>
                  <a:pt x="25196" y="12344"/>
                  <a:pt x="13944" y="0"/>
                </a:cubicBez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5756400" y="415440"/>
            <a:ext cx="10440" cy="73440"/>
          </a:xfrm>
          <a:custGeom>
            <a:avLst/>
            <a:gdLst>
              <a:gd name="textAreaLeft" fmla="*/ 0 w 10440"/>
              <a:gd name="textAreaRight" fmla="*/ 10800 w 10440"/>
              <a:gd name="textAreaTop" fmla="*/ 0 h 73440"/>
              <a:gd name="textAreaBottom" fmla="*/ 73800 h 73440"/>
            </a:gdLst>
            <a:ahLst/>
            <a:rect l="textAreaLeft" t="textAreaTop" r="textAreaRight" b="textAreaBottom"/>
            <a:pathLst>
              <a:path w="10719" h="73647">
                <a:moveTo>
                  <a:pt x="5359" y="0"/>
                </a:moveTo>
                <a:lnTo>
                  <a:pt x="5359" y="73647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5768280" y="436680"/>
            <a:ext cx="35640" cy="51840"/>
          </a:xfrm>
          <a:custGeom>
            <a:avLst/>
            <a:gdLst>
              <a:gd name="textAreaLeft" fmla="*/ 0 w 35640"/>
              <a:gd name="textAreaRight" fmla="*/ 36000 w 3564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5916" h="52285">
                <a:moveTo>
                  <a:pt x="21971" y="0"/>
                </a:moveTo>
                <a:cubicBezTo>
                  <a:pt x="14630" y="8153"/>
                  <a:pt x="7315" y="16268"/>
                  <a:pt x="0" y="24434"/>
                </a:cubicBezTo>
                <a:cubicBezTo>
                  <a:pt x="7315" y="33705"/>
                  <a:pt x="14630" y="42989"/>
                  <a:pt x="21971" y="52285"/>
                </a:cubicBezTo>
                <a:lnTo>
                  <a:pt x="35915" y="52285"/>
                </a:lnTo>
                <a:cubicBezTo>
                  <a:pt x="28321" y="42989"/>
                  <a:pt x="20701" y="33705"/>
                  <a:pt x="13119" y="24434"/>
                </a:cubicBezTo>
                <a:cubicBezTo>
                  <a:pt x="20701" y="16268"/>
                  <a:pt x="28321" y="8153"/>
                  <a:pt x="35915" y="0"/>
                </a:cubicBezTo>
                <a:lnTo>
                  <a:pt x="21971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5805720" y="436680"/>
            <a:ext cx="51840" cy="78840"/>
          </a:xfrm>
          <a:custGeom>
            <a:avLst/>
            <a:gdLst>
              <a:gd name="textAreaLeft" fmla="*/ 0 w 51840"/>
              <a:gd name="textAreaRight" fmla="*/ 52200 w 518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52158" h="79222">
                <a:moveTo>
                  <a:pt x="0" y="0"/>
                </a:moveTo>
                <a:lnTo>
                  <a:pt x="13944" y="0"/>
                </a:lnTo>
                <a:cubicBezTo>
                  <a:pt x="19443" y="7035"/>
                  <a:pt x="24955" y="14058"/>
                  <a:pt x="30429" y="21056"/>
                </a:cubicBezTo>
                <a:cubicBezTo>
                  <a:pt x="34061" y="14058"/>
                  <a:pt x="37655" y="7035"/>
                  <a:pt x="41275" y="0"/>
                </a:cubicBezTo>
                <a:lnTo>
                  <a:pt x="52158" y="0"/>
                </a:lnTo>
                <a:lnTo>
                  <a:pt x="10820" y="79197"/>
                </a:lnTo>
                <a:cubicBezTo>
                  <a:pt x="7213" y="79197"/>
                  <a:pt x="3593" y="79197"/>
                  <a:pt x="0" y="79222"/>
                </a:cubicBezTo>
                <a:lnTo>
                  <a:pt x="24726" y="31673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5867640" y="436680"/>
            <a:ext cx="69120" cy="51840"/>
          </a:xfrm>
          <a:custGeom>
            <a:avLst/>
            <a:gdLst>
              <a:gd name="textAreaLeft" fmla="*/ 0 w 69120"/>
              <a:gd name="textAreaRight" fmla="*/ 69480 w 691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69354" h="52184">
                <a:moveTo>
                  <a:pt x="0" y="17335"/>
                </a:moveTo>
                <a:lnTo>
                  <a:pt x="0" y="52184"/>
                </a:lnTo>
                <a:lnTo>
                  <a:pt x="8115" y="52184"/>
                </a:lnTo>
                <a:lnTo>
                  <a:pt x="8115" y="17310"/>
                </a:lnTo>
                <a:cubicBezTo>
                  <a:pt x="9347" y="12052"/>
                  <a:pt x="14109" y="8331"/>
                  <a:pt x="19468" y="8381"/>
                </a:cubicBezTo>
                <a:cubicBezTo>
                  <a:pt x="24777" y="8458"/>
                  <a:pt x="29412" y="12153"/>
                  <a:pt x="30607" y="17335"/>
                </a:cubicBezTo>
                <a:lnTo>
                  <a:pt x="30607" y="52184"/>
                </a:lnTo>
                <a:lnTo>
                  <a:pt x="38747" y="52184"/>
                </a:lnTo>
                <a:lnTo>
                  <a:pt x="38747" y="17335"/>
                </a:lnTo>
                <a:cubicBezTo>
                  <a:pt x="39954" y="12077"/>
                  <a:pt x="44703" y="8331"/>
                  <a:pt x="50076" y="8381"/>
                </a:cubicBezTo>
                <a:cubicBezTo>
                  <a:pt x="55359" y="8432"/>
                  <a:pt x="60032" y="12153"/>
                  <a:pt x="61239" y="17335"/>
                </a:cubicBezTo>
                <a:lnTo>
                  <a:pt x="61239" y="52184"/>
                </a:lnTo>
                <a:lnTo>
                  <a:pt x="69354" y="52184"/>
                </a:lnTo>
                <a:lnTo>
                  <a:pt x="69354" y="17335"/>
                </a:lnTo>
                <a:cubicBezTo>
                  <a:pt x="67221" y="7061"/>
                  <a:pt x="58864" y="-25"/>
                  <a:pt x="50076" y="0"/>
                </a:cubicBezTo>
                <a:cubicBezTo>
                  <a:pt x="41097" y="38"/>
                  <a:pt x="35496" y="7454"/>
                  <a:pt x="34797" y="8356"/>
                </a:cubicBezTo>
                <a:cubicBezTo>
                  <a:pt x="34112" y="7429"/>
                  <a:pt x="28447" y="63"/>
                  <a:pt x="19443" y="0"/>
                </a:cubicBezTo>
                <a:cubicBezTo>
                  <a:pt x="10617" y="-25"/>
                  <a:pt x="2184" y="7035"/>
                  <a:pt x="0" y="1733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6003360" y="436680"/>
            <a:ext cx="38520" cy="51840"/>
          </a:xfrm>
          <a:custGeom>
            <a:avLst/>
            <a:gdLst>
              <a:gd name="textAreaLeft" fmla="*/ 0 w 38520"/>
              <a:gd name="textAreaRight" fmla="*/ 38880 w 385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8722" h="52222">
                <a:moveTo>
                  <a:pt x="38722" y="17297"/>
                </a:moveTo>
                <a:cubicBezTo>
                  <a:pt x="37630" y="7518"/>
                  <a:pt x="29298" y="50"/>
                  <a:pt x="19443" y="0"/>
                </a:cubicBezTo>
                <a:cubicBezTo>
                  <a:pt x="9626" y="-88"/>
                  <a:pt x="1219" y="7302"/>
                  <a:pt x="0" y="17043"/>
                </a:cubicBezTo>
                <a:lnTo>
                  <a:pt x="0" y="52222"/>
                </a:lnTo>
                <a:lnTo>
                  <a:pt x="8115" y="52222"/>
                </a:lnTo>
                <a:lnTo>
                  <a:pt x="8115" y="17297"/>
                </a:lnTo>
                <a:cubicBezTo>
                  <a:pt x="9334" y="12014"/>
                  <a:pt x="14071" y="8267"/>
                  <a:pt x="19443" y="8318"/>
                </a:cubicBezTo>
                <a:cubicBezTo>
                  <a:pt x="24752" y="8343"/>
                  <a:pt x="29426" y="12090"/>
                  <a:pt x="30607" y="17297"/>
                </a:cubicBezTo>
                <a:lnTo>
                  <a:pt x="30607" y="52222"/>
                </a:lnTo>
                <a:lnTo>
                  <a:pt x="38696" y="52222"/>
                </a:lnTo>
                <a:cubicBezTo>
                  <a:pt x="38722" y="40589"/>
                  <a:pt x="38722" y="28930"/>
                  <a:pt x="38722" y="17297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10030680" y="502920"/>
            <a:ext cx="12960" cy="12960"/>
          </a:xfrm>
          <a:custGeom>
            <a:avLst/>
            <a:gdLst>
              <a:gd name="textAreaLeft" fmla="*/ 0 w 12960"/>
              <a:gd name="textAreaRight" fmla="*/ 13320 w 1296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487" h="13487">
                <a:moveTo>
                  <a:pt x="13487" y="6743"/>
                </a:moveTo>
                <a:cubicBezTo>
                  <a:pt x="13487" y="10464"/>
                  <a:pt x="10490" y="13487"/>
                  <a:pt x="6743" y="13487"/>
                </a:cubicBezTo>
                <a:cubicBezTo>
                  <a:pt x="3023" y="13487"/>
                  <a:pt x="0" y="10464"/>
                  <a:pt x="0" y="6743"/>
                </a:cubicBezTo>
                <a:cubicBezTo>
                  <a:pt x="0" y="3022"/>
                  <a:pt x="3023" y="0"/>
                  <a:pt x="6743" y="0"/>
                </a:cubicBezTo>
                <a:cubicBezTo>
                  <a:pt x="10490" y="0"/>
                  <a:pt x="13487" y="3022"/>
                  <a:pt x="13487" y="674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46120" y="266760"/>
            <a:ext cx="317160" cy="317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432320" y="457200"/>
            <a:ext cx="266400" cy="10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253800" cy="101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4"/>
          <a:stretch/>
        </p:blipFill>
        <p:spPr>
          <a:xfrm>
            <a:off x="343080" y="698400"/>
            <a:ext cx="571320" cy="164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5"/>
          <a:stretch/>
        </p:blipFill>
        <p:spPr>
          <a:xfrm>
            <a:off x="457200" y="90180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6"/>
          <a:stretch/>
        </p:blipFill>
        <p:spPr>
          <a:xfrm>
            <a:off x="444600" y="1066680"/>
            <a:ext cx="1663200" cy="126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7"/>
          <a:stretch/>
        </p:blipFill>
        <p:spPr>
          <a:xfrm>
            <a:off x="2197080" y="1143000"/>
            <a:ext cx="63000" cy="50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8"/>
          <a:stretch/>
        </p:blipFill>
        <p:spPr>
          <a:xfrm>
            <a:off x="2311560" y="1066680"/>
            <a:ext cx="786960" cy="126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9"/>
          <a:stretch/>
        </p:blipFill>
        <p:spPr>
          <a:xfrm>
            <a:off x="3187800" y="1066680"/>
            <a:ext cx="495000" cy="126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10"/>
          <a:stretch/>
        </p:blipFill>
        <p:spPr>
          <a:xfrm>
            <a:off x="457200" y="1257480"/>
            <a:ext cx="888480" cy="126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11"/>
          <a:stretch/>
        </p:blipFill>
        <p:spPr>
          <a:xfrm>
            <a:off x="1422360" y="1257480"/>
            <a:ext cx="139320" cy="126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12"/>
          <a:stretch/>
        </p:blipFill>
        <p:spPr>
          <a:xfrm>
            <a:off x="368280" y="1422360"/>
            <a:ext cx="4597200" cy="4508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13"/>
          <a:stretch/>
        </p:blipFill>
        <p:spPr>
          <a:xfrm>
            <a:off x="368280" y="5956200"/>
            <a:ext cx="4597200" cy="990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14"/>
          <a:stretch/>
        </p:blipFill>
        <p:spPr>
          <a:xfrm>
            <a:off x="2590920" y="7149960"/>
            <a:ext cx="126720" cy="101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15"/>
          <a:stretch/>
        </p:blipFill>
        <p:spPr>
          <a:xfrm>
            <a:off x="5867280" y="266760"/>
            <a:ext cx="329760" cy="317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16"/>
          <a:stretch/>
        </p:blipFill>
        <p:spPr>
          <a:xfrm>
            <a:off x="9766440" y="457200"/>
            <a:ext cx="253800" cy="10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17"/>
          <a:stretch/>
        </p:blipFill>
        <p:spPr>
          <a:xfrm>
            <a:off x="10058400" y="457200"/>
            <a:ext cx="253800" cy="101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18"/>
          <a:stretch/>
        </p:blipFill>
        <p:spPr>
          <a:xfrm>
            <a:off x="5664240" y="698400"/>
            <a:ext cx="736200" cy="164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19"/>
          <a:stretch/>
        </p:blipFill>
        <p:spPr>
          <a:xfrm>
            <a:off x="5778360" y="990720"/>
            <a:ext cx="228240" cy="126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0"/>
          <a:stretch/>
        </p:blipFill>
        <p:spPr>
          <a:xfrm>
            <a:off x="6095880" y="990720"/>
            <a:ext cx="659880" cy="126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1"/>
          <a:stretch/>
        </p:blipFill>
        <p:spPr>
          <a:xfrm>
            <a:off x="5715000" y="1231920"/>
            <a:ext cx="4431960" cy="3873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2"/>
          <a:stretch/>
        </p:blipFill>
        <p:spPr>
          <a:xfrm>
            <a:off x="5765760" y="5156280"/>
            <a:ext cx="888480" cy="126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3"/>
          <a:stretch/>
        </p:blipFill>
        <p:spPr>
          <a:xfrm>
            <a:off x="7950240" y="5575320"/>
            <a:ext cx="50400" cy="6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4"/>
          <a:stretch/>
        </p:blipFill>
        <p:spPr>
          <a:xfrm>
            <a:off x="9435960" y="527040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5"/>
          <a:stretch/>
        </p:blipFill>
        <p:spPr>
          <a:xfrm>
            <a:off x="6045120" y="5791320"/>
            <a:ext cx="3276360" cy="1053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6"/>
          <a:stretch/>
        </p:blipFill>
        <p:spPr>
          <a:xfrm>
            <a:off x="9334440" y="5918040"/>
            <a:ext cx="114120" cy="126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7"/>
          <a:stretch/>
        </p:blipFill>
        <p:spPr>
          <a:xfrm>
            <a:off x="9537840" y="591804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8"/>
          <a:stretch/>
        </p:blipFill>
        <p:spPr>
          <a:xfrm>
            <a:off x="9334440" y="6121440"/>
            <a:ext cx="444240" cy="126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9"/>
          <a:stretch/>
        </p:blipFill>
        <p:spPr>
          <a:xfrm>
            <a:off x="9867960" y="612144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30"/>
          <a:stretch/>
        </p:blipFill>
        <p:spPr>
          <a:xfrm>
            <a:off x="9321840" y="6362640"/>
            <a:ext cx="355320" cy="126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1"/>
          <a:stretch/>
        </p:blipFill>
        <p:spPr>
          <a:xfrm>
            <a:off x="7950240" y="7149960"/>
            <a:ext cx="75960" cy="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3"/>
          <p:cNvSpPr/>
          <p:nvPr/>
        </p:nvSpPr>
        <p:spPr>
          <a:xfrm>
            <a:off x="7708320" y="720756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11" h="25400">
                <a:moveTo>
                  <a:pt x="6350" y="6350"/>
                </a:moveTo>
                <a:lnTo>
                  <a:pt x="211061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8091360" y="720756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36" h="25400">
                <a:moveTo>
                  <a:pt x="6350" y="6350"/>
                </a:moveTo>
                <a:lnTo>
                  <a:pt x="211086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367920" y="693360"/>
            <a:ext cx="820080" cy="165960"/>
          </a:xfrm>
          <a:custGeom>
            <a:avLst/>
            <a:gdLst>
              <a:gd name="textAreaLeft" fmla="*/ 0 w 820080"/>
              <a:gd name="textAreaRight" fmla="*/ 820440 w 820080"/>
              <a:gd name="textAreaTop" fmla="*/ 0 h 165960"/>
              <a:gd name="textAreaBottom" fmla="*/ 166320 h 165960"/>
            </a:gdLst>
            <a:ahLst/>
            <a:rect l="textAreaLeft" t="textAreaTop" r="textAreaRight" b="textAreaBottom"/>
            <a:pathLst>
              <a:path w="820305" h="166471">
                <a:moveTo>
                  <a:pt x="820305" y="83223"/>
                </a:moveTo>
                <a:cubicBezTo>
                  <a:pt x="820305" y="129184"/>
                  <a:pt x="780541" y="166471"/>
                  <a:pt x="731532" y="166471"/>
                </a:cubicBezTo>
                <a:lnTo>
                  <a:pt x="88773" y="166471"/>
                </a:lnTo>
                <a:cubicBezTo>
                  <a:pt x="39738" y="166471"/>
                  <a:pt x="0" y="129184"/>
                  <a:pt x="0" y="83223"/>
                </a:cubicBezTo>
                <a:cubicBezTo>
                  <a:pt x="0" y="37261"/>
                  <a:pt x="39738" y="0"/>
                  <a:pt x="88773" y="0"/>
                </a:cubicBezTo>
                <a:lnTo>
                  <a:pt x="731532" y="0"/>
                </a:lnTo>
                <a:cubicBezTo>
                  <a:pt x="780541" y="0"/>
                  <a:pt x="820305" y="37261"/>
                  <a:pt x="820305" y="8322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4000680" y="3137760"/>
            <a:ext cx="101520" cy="86760"/>
          </a:xfrm>
          <a:custGeom>
            <a:avLst/>
            <a:gdLst>
              <a:gd name="textAreaLeft" fmla="*/ 0 w 101520"/>
              <a:gd name="textAreaRight" fmla="*/ 101880 w 101520"/>
              <a:gd name="textAreaTop" fmla="*/ 0 h 86760"/>
              <a:gd name="textAreaBottom" fmla="*/ 87120 h 86760"/>
            </a:gdLst>
            <a:ahLst/>
            <a:rect l="textAreaLeft" t="textAreaTop" r="textAreaRight" b="textAreaBottom"/>
            <a:pathLst>
              <a:path w="101777" h="86995">
                <a:moveTo>
                  <a:pt x="0" y="78778"/>
                </a:moveTo>
                <a:lnTo>
                  <a:pt x="46202" y="78778"/>
                </a:lnTo>
                <a:lnTo>
                  <a:pt x="46202" y="8432"/>
                </a:lnTo>
                <a:lnTo>
                  <a:pt x="6019" y="8432"/>
                </a:lnTo>
                <a:lnTo>
                  <a:pt x="6019" y="0"/>
                </a:lnTo>
                <a:lnTo>
                  <a:pt x="95872" y="0"/>
                </a:lnTo>
                <a:lnTo>
                  <a:pt x="95872" y="8432"/>
                </a:lnTo>
                <a:lnTo>
                  <a:pt x="55473" y="8432"/>
                </a:lnTo>
                <a:lnTo>
                  <a:pt x="55473" y="78778"/>
                </a:lnTo>
                <a:lnTo>
                  <a:pt x="101777" y="78778"/>
                </a:lnTo>
                <a:lnTo>
                  <a:pt x="101777" y="86995"/>
                </a:lnTo>
                <a:lnTo>
                  <a:pt x="0" y="86995"/>
                </a:lnTo>
                <a:lnTo>
                  <a:pt x="0" y="7877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381760" y="720756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36" h="25400">
                <a:moveTo>
                  <a:pt x="6350" y="6350"/>
                </a:moveTo>
                <a:lnTo>
                  <a:pt x="211086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2764800" y="7207560"/>
            <a:ext cx="217080" cy="25200"/>
          </a:xfrm>
          <a:custGeom>
            <a:avLst/>
            <a:gdLst>
              <a:gd name="textAreaLeft" fmla="*/ 0 w 217080"/>
              <a:gd name="textAreaRight" fmla="*/ 217440 w 2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17411" h="25400">
                <a:moveTo>
                  <a:pt x="6350" y="6350"/>
                </a:moveTo>
                <a:lnTo>
                  <a:pt x="211061" y="6350"/>
                </a:lnTo>
              </a:path>
            </a:pathLst>
          </a:custGeom>
          <a:noFill/>
          <a:ln w="127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2693880" y="7170480"/>
            <a:ext cx="50400" cy="78480"/>
          </a:xfrm>
          <a:custGeom>
            <a:avLst/>
            <a:gdLst>
              <a:gd name="textAreaLeft" fmla="*/ 0 w 50400"/>
              <a:gd name="textAreaRight" fmla="*/ 50760 w 50400"/>
              <a:gd name="textAreaTop" fmla="*/ 0 h 78480"/>
              <a:gd name="textAreaBottom" fmla="*/ 78840 h 78480"/>
            </a:gdLst>
            <a:ahLst/>
            <a:rect l="textAreaLeft" t="textAreaTop" r="textAreaRight" b="textAreaBottom"/>
            <a:pathLst>
              <a:path w="50622" h="78993">
                <a:moveTo>
                  <a:pt x="0" y="57213"/>
                </a:moveTo>
                <a:lnTo>
                  <a:pt x="9486" y="55943"/>
                </a:lnTo>
                <a:cubicBezTo>
                  <a:pt x="10579" y="61328"/>
                  <a:pt x="12433" y="65201"/>
                  <a:pt x="15062" y="67576"/>
                </a:cubicBezTo>
                <a:cubicBezTo>
                  <a:pt x="17678" y="69963"/>
                  <a:pt x="20866" y="71145"/>
                  <a:pt x="24612" y="71145"/>
                </a:cubicBezTo>
                <a:cubicBezTo>
                  <a:pt x="29082" y="71145"/>
                  <a:pt x="32854" y="69595"/>
                  <a:pt x="35928" y="66496"/>
                </a:cubicBezTo>
                <a:cubicBezTo>
                  <a:pt x="39001" y="63410"/>
                  <a:pt x="40538" y="59575"/>
                  <a:pt x="40538" y="55003"/>
                </a:cubicBezTo>
                <a:cubicBezTo>
                  <a:pt x="40538" y="50634"/>
                  <a:pt x="39128" y="47040"/>
                  <a:pt x="36271" y="44221"/>
                </a:cubicBezTo>
                <a:cubicBezTo>
                  <a:pt x="33426" y="41388"/>
                  <a:pt x="29806" y="39979"/>
                  <a:pt x="25412" y="39979"/>
                </a:cubicBezTo>
                <a:cubicBezTo>
                  <a:pt x="23622" y="39979"/>
                  <a:pt x="21386" y="40322"/>
                  <a:pt x="18719" y="41033"/>
                </a:cubicBezTo>
                <a:lnTo>
                  <a:pt x="19773" y="32701"/>
                </a:lnTo>
                <a:cubicBezTo>
                  <a:pt x="20396" y="32765"/>
                  <a:pt x="20904" y="32804"/>
                  <a:pt x="21297" y="32804"/>
                </a:cubicBezTo>
                <a:cubicBezTo>
                  <a:pt x="25336" y="32804"/>
                  <a:pt x="28981" y="31750"/>
                  <a:pt x="32219" y="29629"/>
                </a:cubicBezTo>
                <a:cubicBezTo>
                  <a:pt x="35445" y="27520"/>
                  <a:pt x="37071" y="24269"/>
                  <a:pt x="37071" y="19887"/>
                </a:cubicBezTo>
                <a:cubicBezTo>
                  <a:pt x="37071" y="16408"/>
                  <a:pt x="35890" y="13525"/>
                  <a:pt x="33540" y="11239"/>
                </a:cubicBezTo>
                <a:cubicBezTo>
                  <a:pt x="31178" y="8940"/>
                  <a:pt x="28143" y="7797"/>
                  <a:pt x="24409" y="7797"/>
                </a:cubicBezTo>
                <a:cubicBezTo>
                  <a:pt x="20726" y="7797"/>
                  <a:pt x="17652" y="8966"/>
                  <a:pt x="15176" y="11290"/>
                </a:cubicBezTo>
                <a:cubicBezTo>
                  <a:pt x="12725" y="13601"/>
                  <a:pt x="11137" y="17094"/>
                  <a:pt x="10439" y="21729"/>
                </a:cubicBezTo>
                <a:lnTo>
                  <a:pt x="939" y="20040"/>
                </a:lnTo>
                <a:cubicBezTo>
                  <a:pt x="2108" y="13677"/>
                  <a:pt x="4737" y="8749"/>
                  <a:pt x="8851" y="5244"/>
                </a:cubicBezTo>
                <a:cubicBezTo>
                  <a:pt x="12966" y="1752"/>
                  <a:pt x="18084" y="0"/>
                  <a:pt x="24193" y="0"/>
                </a:cubicBezTo>
                <a:cubicBezTo>
                  <a:pt x="28409" y="0"/>
                  <a:pt x="32308" y="901"/>
                  <a:pt x="35852" y="2717"/>
                </a:cubicBezTo>
                <a:cubicBezTo>
                  <a:pt x="39408" y="4533"/>
                  <a:pt x="42113" y="6997"/>
                  <a:pt x="44005" y="10134"/>
                </a:cubicBezTo>
                <a:cubicBezTo>
                  <a:pt x="45885" y="13258"/>
                  <a:pt x="46824" y="16585"/>
                  <a:pt x="46824" y="20091"/>
                </a:cubicBezTo>
                <a:cubicBezTo>
                  <a:pt x="46824" y="23431"/>
                  <a:pt x="45923" y="26479"/>
                  <a:pt x="44145" y="29209"/>
                </a:cubicBezTo>
                <a:cubicBezTo>
                  <a:pt x="42341" y="31965"/>
                  <a:pt x="39687" y="34149"/>
                  <a:pt x="36182" y="35762"/>
                </a:cubicBezTo>
                <a:cubicBezTo>
                  <a:pt x="40741" y="36817"/>
                  <a:pt x="44284" y="39001"/>
                  <a:pt x="46824" y="42329"/>
                </a:cubicBezTo>
                <a:cubicBezTo>
                  <a:pt x="49352" y="45643"/>
                  <a:pt x="50622" y="49796"/>
                  <a:pt x="50622" y="54800"/>
                </a:cubicBezTo>
                <a:cubicBezTo>
                  <a:pt x="50622" y="61544"/>
                  <a:pt x="48158" y="67258"/>
                  <a:pt x="43230" y="71957"/>
                </a:cubicBezTo>
                <a:cubicBezTo>
                  <a:pt x="38315" y="76657"/>
                  <a:pt x="32093" y="78993"/>
                  <a:pt x="24574" y="78993"/>
                </a:cubicBezTo>
                <a:cubicBezTo>
                  <a:pt x="17779" y="78993"/>
                  <a:pt x="12153" y="76986"/>
                  <a:pt x="7670" y="72935"/>
                </a:cubicBezTo>
                <a:cubicBezTo>
                  <a:pt x="3187" y="68897"/>
                  <a:pt x="635" y="63651"/>
                  <a:pt x="0" y="5721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344160" y="589680"/>
            <a:ext cx="4677840" cy="18360"/>
          </a:xfrm>
          <a:custGeom>
            <a:avLst/>
            <a:gdLst>
              <a:gd name="textAreaLeft" fmla="*/ 0 w 4677840"/>
              <a:gd name="textAreaRight" fmla="*/ 4678200 w 4677840"/>
              <a:gd name="textAreaTop" fmla="*/ 0 h 18360"/>
              <a:gd name="textAreaBottom" fmla="*/ 18720 h 18360"/>
            </a:gdLst>
            <a:ahLst/>
            <a:rect l="textAreaLeft" t="textAreaTop" r="textAreaRight" b="textAreaBottom"/>
            <a:pathLst>
              <a:path w="4678095" h="18796">
                <a:moveTo>
                  <a:pt x="6350" y="6350"/>
                </a:moveTo>
                <a:lnTo>
                  <a:pt x="4671745" y="6350"/>
                </a:lnTo>
              </a:path>
            </a:pathLst>
          </a:custGeom>
          <a:noFill/>
          <a:ln w="12700">
            <a:solidFill>
              <a:srgbClr val="76798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3"/>
          <p:cNvSpPr/>
          <p:nvPr/>
        </p:nvSpPr>
        <p:spPr>
          <a:xfrm>
            <a:off x="8265240" y="11984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05">
                <a:moveTo>
                  <a:pt x="16293" y="0"/>
                </a:moveTo>
                <a:lnTo>
                  <a:pt x="7378" y="28105"/>
                </a:lnTo>
                <a:lnTo>
                  <a:pt x="0" y="28105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Freeform 3"/>
          <p:cNvSpPr/>
          <p:nvPr/>
        </p:nvSpPr>
        <p:spPr>
          <a:xfrm>
            <a:off x="8767080" y="1121760"/>
            <a:ext cx="95760" cy="102960"/>
          </a:xfrm>
          <a:custGeom>
            <a:avLst/>
            <a:gdLst>
              <a:gd name="textAreaLeft" fmla="*/ 0 w 95760"/>
              <a:gd name="textAreaRight" fmla="*/ 96120 w 957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96177" h="103263">
                <a:moveTo>
                  <a:pt x="4521" y="23622"/>
                </a:moveTo>
                <a:lnTo>
                  <a:pt x="38696" y="23622"/>
                </a:lnTo>
                <a:cubicBezTo>
                  <a:pt x="38912" y="15887"/>
                  <a:pt x="39052" y="8013"/>
                  <a:pt x="39128" y="0"/>
                </a:cubicBezTo>
                <a:lnTo>
                  <a:pt x="48285" y="0"/>
                </a:lnTo>
                <a:cubicBezTo>
                  <a:pt x="48158" y="7454"/>
                  <a:pt x="47980" y="15328"/>
                  <a:pt x="47764" y="23622"/>
                </a:cubicBezTo>
                <a:lnTo>
                  <a:pt x="96177" y="23622"/>
                </a:lnTo>
                <a:cubicBezTo>
                  <a:pt x="95325" y="51117"/>
                  <a:pt x="94526" y="70548"/>
                  <a:pt x="93750" y="81953"/>
                </a:cubicBezTo>
                <a:cubicBezTo>
                  <a:pt x="92836" y="94030"/>
                  <a:pt x="86359" y="100152"/>
                  <a:pt x="74345" y="100291"/>
                </a:cubicBezTo>
                <a:cubicBezTo>
                  <a:pt x="68579" y="100291"/>
                  <a:pt x="61620" y="100152"/>
                  <a:pt x="53466" y="99872"/>
                </a:cubicBezTo>
                <a:cubicBezTo>
                  <a:pt x="53175" y="97129"/>
                  <a:pt x="52654" y="93776"/>
                  <a:pt x="51879" y="89865"/>
                </a:cubicBezTo>
                <a:lnTo>
                  <a:pt x="52196" y="89865"/>
                </a:lnTo>
                <a:cubicBezTo>
                  <a:pt x="61341" y="90703"/>
                  <a:pt x="68440" y="91084"/>
                  <a:pt x="73507" y="91020"/>
                </a:cubicBezTo>
                <a:cubicBezTo>
                  <a:pt x="80327" y="90881"/>
                  <a:pt x="84086" y="87109"/>
                  <a:pt x="84784" y="79730"/>
                </a:cubicBezTo>
                <a:cubicBezTo>
                  <a:pt x="85635" y="67144"/>
                  <a:pt x="86270" y="51320"/>
                  <a:pt x="86690" y="32270"/>
                </a:cubicBezTo>
                <a:lnTo>
                  <a:pt x="47561" y="32270"/>
                </a:lnTo>
                <a:cubicBezTo>
                  <a:pt x="46926" y="50584"/>
                  <a:pt x="43992" y="64363"/>
                  <a:pt x="38798" y="73621"/>
                </a:cubicBezTo>
                <a:cubicBezTo>
                  <a:pt x="33248" y="83883"/>
                  <a:pt x="22415" y="93751"/>
                  <a:pt x="6324" y="103263"/>
                </a:cubicBezTo>
                <a:cubicBezTo>
                  <a:pt x="4343" y="100711"/>
                  <a:pt x="2234" y="98044"/>
                  <a:pt x="0" y="95237"/>
                </a:cubicBezTo>
                <a:cubicBezTo>
                  <a:pt x="15252" y="86664"/>
                  <a:pt x="25272" y="78003"/>
                  <a:pt x="30047" y="69291"/>
                </a:cubicBezTo>
                <a:cubicBezTo>
                  <a:pt x="35000" y="61379"/>
                  <a:pt x="37782" y="49034"/>
                  <a:pt x="38379" y="32270"/>
                </a:cubicBezTo>
                <a:lnTo>
                  <a:pt x="4521" y="32270"/>
                </a:lnTo>
                <a:lnTo>
                  <a:pt x="4521" y="2362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3" name="Freeform 3"/>
          <p:cNvSpPr/>
          <p:nvPr/>
        </p:nvSpPr>
        <p:spPr>
          <a:xfrm>
            <a:off x="9025560" y="11984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05">
                <a:moveTo>
                  <a:pt x="16293" y="0"/>
                </a:moveTo>
                <a:lnTo>
                  <a:pt x="7378" y="28105"/>
                </a:lnTo>
                <a:lnTo>
                  <a:pt x="0" y="28105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4" name="Freeform 3"/>
          <p:cNvSpPr/>
          <p:nvPr/>
        </p:nvSpPr>
        <p:spPr>
          <a:xfrm>
            <a:off x="6200640" y="13424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3" h="28117">
                <a:moveTo>
                  <a:pt x="16293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Freeform 3"/>
          <p:cNvSpPr/>
          <p:nvPr/>
        </p:nvSpPr>
        <p:spPr>
          <a:xfrm>
            <a:off x="6484320" y="1265760"/>
            <a:ext cx="105840" cy="103680"/>
          </a:xfrm>
          <a:custGeom>
            <a:avLst/>
            <a:gdLst>
              <a:gd name="textAreaLeft" fmla="*/ 0 w 105840"/>
              <a:gd name="textAreaRight" fmla="*/ 106200 w 105840"/>
              <a:gd name="textAreaTop" fmla="*/ 0 h 103680"/>
              <a:gd name="textAreaBottom" fmla="*/ 104040 h 103680"/>
            </a:gdLst>
            <a:ahLst/>
            <a:rect l="textAreaLeft" t="textAreaTop" r="textAreaRight" b="textAreaBottom"/>
            <a:pathLst>
              <a:path w="106198" h="103898">
                <a:moveTo>
                  <a:pt x="2946" y="48196"/>
                </a:moveTo>
                <a:lnTo>
                  <a:pt x="49034" y="48196"/>
                </a:lnTo>
                <a:lnTo>
                  <a:pt x="49034" y="25730"/>
                </a:lnTo>
                <a:lnTo>
                  <a:pt x="23786" y="25730"/>
                </a:lnTo>
                <a:cubicBezTo>
                  <a:pt x="20332" y="32689"/>
                  <a:pt x="16624" y="38735"/>
                  <a:pt x="12649" y="43865"/>
                </a:cubicBezTo>
                <a:cubicBezTo>
                  <a:pt x="10058" y="41833"/>
                  <a:pt x="7759" y="40220"/>
                  <a:pt x="5803" y="39027"/>
                </a:cubicBezTo>
                <a:cubicBezTo>
                  <a:pt x="13677" y="28841"/>
                  <a:pt x="19786" y="16637"/>
                  <a:pt x="24142" y="2425"/>
                </a:cubicBezTo>
                <a:lnTo>
                  <a:pt x="32372" y="4749"/>
                </a:lnTo>
                <a:cubicBezTo>
                  <a:pt x="30784" y="9410"/>
                  <a:pt x="29133" y="13817"/>
                  <a:pt x="27368" y="17919"/>
                </a:cubicBezTo>
                <a:lnTo>
                  <a:pt x="49034" y="17919"/>
                </a:lnTo>
                <a:lnTo>
                  <a:pt x="49034" y="0"/>
                </a:lnTo>
                <a:lnTo>
                  <a:pt x="57696" y="0"/>
                </a:lnTo>
                <a:lnTo>
                  <a:pt x="57696" y="17919"/>
                </a:lnTo>
                <a:lnTo>
                  <a:pt x="96825" y="17919"/>
                </a:lnTo>
                <a:lnTo>
                  <a:pt x="96825" y="25730"/>
                </a:lnTo>
                <a:lnTo>
                  <a:pt x="57696" y="25730"/>
                </a:lnTo>
                <a:lnTo>
                  <a:pt x="57696" y="48196"/>
                </a:lnTo>
                <a:lnTo>
                  <a:pt x="104088" y="48196"/>
                </a:lnTo>
                <a:lnTo>
                  <a:pt x="104088" y="55994"/>
                </a:lnTo>
                <a:lnTo>
                  <a:pt x="70129" y="55994"/>
                </a:lnTo>
                <a:lnTo>
                  <a:pt x="70129" y="85852"/>
                </a:lnTo>
                <a:cubicBezTo>
                  <a:pt x="69710" y="91274"/>
                  <a:pt x="72135" y="93726"/>
                  <a:pt x="77406" y="93230"/>
                </a:cubicBezTo>
                <a:lnTo>
                  <a:pt x="88163" y="93230"/>
                </a:lnTo>
                <a:cubicBezTo>
                  <a:pt x="93015" y="93230"/>
                  <a:pt x="95694" y="91401"/>
                  <a:pt x="96190" y="87744"/>
                </a:cubicBezTo>
                <a:cubicBezTo>
                  <a:pt x="96672" y="84162"/>
                  <a:pt x="97053" y="79032"/>
                  <a:pt x="97345" y="72339"/>
                </a:cubicBezTo>
                <a:cubicBezTo>
                  <a:pt x="100025" y="73482"/>
                  <a:pt x="102972" y="74523"/>
                  <a:pt x="106197" y="75514"/>
                </a:cubicBezTo>
                <a:cubicBezTo>
                  <a:pt x="105854" y="80733"/>
                  <a:pt x="105219" y="86093"/>
                  <a:pt x="104292" y="91655"/>
                </a:cubicBezTo>
                <a:cubicBezTo>
                  <a:pt x="103606" y="95161"/>
                  <a:pt x="102057" y="97624"/>
                  <a:pt x="99656" y="99034"/>
                </a:cubicBezTo>
                <a:cubicBezTo>
                  <a:pt x="97549" y="100368"/>
                  <a:pt x="93751" y="101041"/>
                  <a:pt x="88277" y="101041"/>
                </a:cubicBezTo>
                <a:lnTo>
                  <a:pt x="75717" y="101041"/>
                </a:lnTo>
                <a:cubicBezTo>
                  <a:pt x="65875" y="101460"/>
                  <a:pt x="61162" y="96850"/>
                  <a:pt x="61582" y="87223"/>
                </a:cubicBezTo>
                <a:lnTo>
                  <a:pt x="61582" y="55994"/>
                </a:lnTo>
                <a:lnTo>
                  <a:pt x="40970" y="55994"/>
                </a:lnTo>
                <a:cubicBezTo>
                  <a:pt x="40399" y="68173"/>
                  <a:pt x="37960" y="77533"/>
                  <a:pt x="33642" y="84048"/>
                </a:cubicBezTo>
                <a:cubicBezTo>
                  <a:pt x="28435" y="92214"/>
                  <a:pt x="19024" y="98818"/>
                  <a:pt x="5372" y="103898"/>
                </a:cubicBezTo>
                <a:cubicBezTo>
                  <a:pt x="3962" y="101638"/>
                  <a:pt x="2171" y="99110"/>
                  <a:pt x="0" y="96291"/>
                </a:cubicBezTo>
                <a:cubicBezTo>
                  <a:pt x="12509" y="91998"/>
                  <a:pt x="21132" y="86487"/>
                  <a:pt x="25831" y="79730"/>
                </a:cubicBezTo>
                <a:cubicBezTo>
                  <a:pt x="29692" y="74523"/>
                  <a:pt x="31927" y="66611"/>
                  <a:pt x="32525" y="55994"/>
                </a:cubicBezTo>
                <a:lnTo>
                  <a:pt x="2946" y="55994"/>
                </a:lnTo>
                <a:lnTo>
                  <a:pt x="2946" y="48196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Freeform 3"/>
          <p:cNvSpPr/>
          <p:nvPr/>
        </p:nvSpPr>
        <p:spPr>
          <a:xfrm>
            <a:off x="6921000" y="1275120"/>
            <a:ext cx="101520" cy="86760"/>
          </a:xfrm>
          <a:custGeom>
            <a:avLst/>
            <a:gdLst>
              <a:gd name="textAreaLeft" fmla="*/ 0 w 101520"/>
              <a:gd name="textAreaRight" fmla="*/ 101880 w 101520"/>
              <a:gd name="textAreaTop" fmla="*/ 0 h 86760"/>
              <a:gd name="textAreaBottom" fmla="*/ 87120 h 86760"/>
            </a:gdLst>
            <a:ahLst/>
            <a:rect l="textAreaLeft" t="textAreaTop" r="textAreaRight" b="textAreaBottom"/>
            <a:pathLst>
              <a:path w="101777" h="86995">
                <a:moveTo>
                  <a:pt x="0" y="78778"/>
                </a:moveTo>
                <a:lnTo>
                  <a:pt x="46190" y="78778"/>
                </a:lnTo>
                <a:lnTo>
                  <a:pt x="46190" y="8432"/>
                </a:lnTo>
                <a:lnTo>
                  <a:pt x="6007" y="8432"/>
                </a:lnTo>
                <a:lnTo>
                  <a:pt x="6007" y="0"/>
                </a:lnTo>
                <a:lnTo>
                  <a:pt x="95872" y="0"/>
                </a:lnTo>
                <a:lnTo>
                  <a:pt x="95872" y="8432"/>
                </a:lnTo>
                <a:lnTo>
                  <a:pt x="55473" y="8432"/>
                </a:lnTo>
                <a:lnTo>
                  <a:pt x="55473" y="78778"/>
                </a:lnTo>
                <a:lnTo>
                  <a:pt x="101777" y="78778"/>
                </a:lnTo>
                <a:lnTo>
                  <a:pt x="101777" y="86994"/>
                </a:lnTo>
                <a:lnTo>
                  <a:pt x="0" y="86994"/>
                </a:lnTo>
                <a:lnTo>
                  <a:pt x="0" y="7877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Freeform 3"/>
          <p:cNvSpPr/>
          <p:nvPr/>
        </p:nvSpPr>
        <p:spPr>
          <a:xfrm>
            <a:off x="7038720" y="1304640"/>
            <a:ext cx="92160" cy="60480"/>
          </a:xfrm>
          <a:custGeom>
            <a:avLst/>
            <a:gdLst>
              <a:gd name="textAreaLeft" fmla="*/ 0 w 92160"/>
              <a:gd name="textAreaRight" fmla="*/ 92520 w 921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92379" h="60960">
                <a:moveTo>
                  <a:pt x="83108" y="28575"/>
                </a:moveTo>
                <a:cubicBezTo>
                  <a:pt x="85140" y="29362"/>
                  <a:pt x="88239" y="30314"/>
                  <a:pt x="92379" y="31432"/>
                </a:cubicBezTo>
                <a:cubicBezTo>
                  <a:pt x="91325" y="40284"/>
                  <a:pt x="90309" y="46266"/>
                  <a:pt x="89331" y="49364"/>
                </a:cubicBezTo>
                <a:cubicBezTo>
                  <a:pt x="87858" y="56807"/>
                  <a:pt x="79730" y="60667"/>
                  <a:pt x="64960" y="60959"/>
                </a:cubicBezTo>
                <a:lnTo>
                  <a:pt x="42506" y="60959"/>
                </a:lnTo>
                <a:lnTo>
                  <a:pt x="17615" y="60959"/>
                </a:lnTo>
                <a:cubicBezTo>
                  <a:pt x="8191" y="60667"/>
                  <a:pt x="2323" y="57950"/>
                  <a:pt x="0" y="52730"/>
                </a:cubicBezTo>
                <a:cubicBezTo>
                  <a:pt x="-1968" y="47104"/>
                  <a:pt x="495" y="41592"/>
                  <a:pt x="7378" y="36169"/>
                </a:cubicBezTo>
                <a:cubicBezTo>
                  <a:pt x="20180" y="27177"/>
                  <a:pt x="36703" y="17652"/>
                  <a:pt x="56946" y="7594"/>
                </a:cubicBezTo>
                <a:lnTo>
                  <a:pt x="1473" y="7594"/>
                </a:lnTo>
                <a:lnTo>
                  <a:pt x="1473" y="0"/>
                </a:lnTo>
                <a:lnTo>
                  <a:pt x="74777" y="0"/>
                </a:lnTo>
                <a:lnTo>
                  <a:pt x="74777" y="8013"/>
                </a:lnTo>
                <a:cubicBezTo>
                  <a:pt x="49745" y="20040"/>
                  <a:pt x="29743" y="31254"/>
                  <a:pt x="14757" y="41655"/>
                </a:cubicBezTo>
                <a:cubicBezTo>
                  <a:pt x="10401" y="44894"/>
                  <a:pt x="8649" y="47637"/>
                  <a:pt x="9487" y="49885"/>
                </a:cubicBezTo>
                <a:cubicBezTo>
                  <a:pt x="10477" y="51917"/>
                  <a:pt x="13919" y="53060"/>
                  <a:pt x="19837" y="53251"/>
                </a:cubicBezTo>
                <a:lnTo>
                  <a:pt x="40602" y="53301"/>
                </a:lnTo>
                <a:lnTo>
                  <a:pt x="62648" y="53060"/>
                </a:lnTo>
                <a:cubicBezTo>
                  <a:pt x="74180" y="52908"/>
                  <a:pt x="80327" y="50342"/>
                  <a:pt x="81102" y="45338"/>
                </a:cubicBezTo>
                <a:cubicBezTo>
                  <a:pt x="81800" y="43167"/>
                  <a:pt x="82474" y="37579"/>
                  <a:pt x="83108" y="2857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7029000" y="1265760"/>
            <a:ext cx="102960" cy="33120"/>
          </a:xfrm>
          <a:custGeom>
            <a:avLst/>
            <a:gdLst>
              <a:gd name="textAreaLeft" fmla="*/ 0 w 102960"/>
              <a:gd name="textAreaRight" fmla="*/ 103320 w 1029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03352" h="33312">
                <a:moveTo>
                  <a:pt x="0" y="14122"/>
                </a:moveTo>
                <a:lnTo>
                  <a:pt x="29108" y="14122"/>
                </a:lnTo>
                <a:lnTo>
                  <a:pt x="29108" y="0"/>
                </a:lnTo>
                <a:lnTo>
                  <a:pt x="37642" y="0"/>
                </a:lnTo>
                <a:lnTo>
                  <a:pt x="37642" y="14122"/>
                </a:lnTo>
                <a:lnTo>
                  <a:pt x="65696" y="14122"/>
                </a:lnTo>
                <a:lnTo>
                  <a:pt x="65696" y="0"/>
                </a:lnTo>
                <a:lnTo>
                  <a:pt x="74244" y="0"/>
                </a:lnTo>
                <a:lnTo>
                  <a:pt x="74244" y="14122"/>
                </a:lnTo>
                <a:lnTo>
                  <a:pt x="103352" y="14122"/>
                </a:lnTo>
                <a:lnTo>
                  <a:pt x="103352" y="21818"/>
                </a:lnTo>
                <a:lnTo>
                  <a:pt x="74244" y="21818"/>
                </a:lnTo>
                <a:lnTo>
                  <a:pt x="74244" y="33312"/>
                </a:lnTo>
                <a:lnTo>
                  <a:pt x="65696" y="33312"/>
                </a:lnTo>
                <a:lnTo>
                  <a:pt x="65696" y="21818"/>
                </a:lnTo>
                <a:lnTo>
                  <a:pt x="37642" y="21818"/>
                </a:lnTo>
                <a:lnTo>
                  <a:pt x="37642" y="33210"/>
                </a:lnTo>
                <a:lnTo>
                  <a:pt x="29108" y="33210"/>
                </a:lnTo>
                <a:lnTo>
                  <a:pt x="29108" y="21818"/>
                </a:lnTo>
                <a:lnTo>
                  <a:pt x="0" y="21818"/>
                </a:lnTo>
                <a:lnTo>
                  <a:pt x="0" y="1412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7178760" y="13424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7">
                <a:moveTo>
                  <a:pt x="16293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0" name="Freeform 3"/>
          <p:cNvSpPr/>
          <p:nvPr/>
        </p:nvSpPr>
        <p:spPr>
          <a:xfrm>
            <a:off x="8047800" y="13424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7">
                <a:moveTo>
                  <a:pt x="16294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90" y="0"/>
                </a:lnTo>
                <a:lnTo>
                  <a:pt x="16294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Freeform 3"/>
          <p:cNvSpPr/>
          <p:nvPr/>
        </p:nvSpPr>
        <p:spPr>
          <a:xfrm>
            <a:off x="8448840" y="1267560"/>
            <a:ext cx="87840" cy="100440"/>
          </a:xfrm>
          <a:custGeom>
            <a:avLst/>
            <a:gdLst>
              <a:gd name="textAreaLeft" fmla="*/ 0 w 87840"/>
              <a:gd name="textAreaRight" fmla="*/ 88200 w 87840"/>
              <a:gd name="textAreaTop" fmla="*/ 0 h 100440"/>
              <a:gd name="textAreaBottom" fmla="*/ 100800 h 100440"/>
            </a:gdLst>
            <a:ahLst/>
            <a:rect l="textAreaLeft" t="textAreaTop" r="textAreaRight" b="textAreaBottom"/>
            <a:pathLst>
              <a:path w="88176" h="100723">
                <a:moveTo>
                  <a:pt x="76149" y="51473"/>
                </a:moveTo>
                <a:lnTo>
                  <a:pt x="76149" y="47574"/>
                </a:lnTo>
                <a:lnTo>
                  <a:pt x="48412" y="47574"/>
                </a:lnTo>
                <a:lnTo>
                  <a:pt x="48412" y="88912"/>
                </a:lnTo>
                <a:lnTo>
                  <a:pt x="79311" y="88912"/>
                </a:lnTo>
                <a:lnTo>
                  <a:pt x="79311" y="58851"/>
                </a:lnTo>
                <a:lnTo>
                  <a:pt x="88176" y="58851"/>
                </a:lnTo>
                <a:lnTo>
                  <a:pt x="88176" y="100723"/>
                </a:lnTo>
                <a:lnTo>
                  <a:pt x="79311" y="100723"/>
                </a:lnTo>
                <a:lnTo>
                  <a:pt x="79311" y="96926"/>
                </a:lnTo>
                <a:lnTo>
                  <a:pt x="0" y="96926"/>
                </a:lnTo>
                <a:lnTo>
                  <a:pt x="0" y="58851"/>
                </a:lnTo>
                <a:lnTo>
                  <a:pt x="8966" y="58851"/>
                </a:lnTo>
                <a:lnTo>
                  <a:pt x="8966" y="88912"/>
                </a:lnTo>
                <a:lnTo>
                  <a:pt x="39243" y="88912"/>
                </a:lnTo>
                <a:lnTo>
                  <a:pt x="39243" y="47574"/>
                </a:lnTo>
                <a:lnTo>
                  <a:pt x="2857" y="47574"/>
                </a:lnTo>
                <a:lnTo>
                  <a:pt x="2857" y="9702"/>
                </a:lnTo>
                <a:lnTo>
                  <a:pt x="11824" y="9702"/>
                </a:lnTo>
                <a:lnTo>
                  <a:pt x="11824" y="39560"/>
                </a:lnTo>
                <a:lnTo>
                  <a:pt x="39243" y="39560"/>
                </a:lnTo>
                <a:lnTo>
                  <a:pt x="39243" y="0"/>
                </a:lnTo>
                <a:lnTo>
                  <a:pt x="48412" y="0"/>
                </a:lnTo>
                <a:lnTo>
                  <a:pt x="48412" y="39560"/>
                </a:lnTo>
                <a:lnTo>
                  <a:pt x="76149" y="39560"/>
                </a:lnTo>
                <a:lnTo>
                  <a:pt x="76149" y="9702"/>
                </a:lnTo>
                <a:lnTo>
                  <a:pt x="85115" y="9702"/>
                </a:lnTo>
                <a:lnTo>
                  <a:pt x="85115" y="51473"/>
                </a:lnTo>
                <a:lnTo>
                  <a:pt x="76149" y="51473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10112040" y="13424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17">
                <a:moveTo>
                  <a:pt x="16293" y="0"/>
                </a:moveTo>
                <a:lnTo>
                  <a:pt x="7378" y="28117"/>
                </a:lnTo>
                <a:lnTo>
                  <a:pt x="0" y="28117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5987520" y="148752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98">
                <a:moveTo>
                  <a:pt x="6807" y="0"/>
                </a:moveTo>
                <a:cubicBezTo>
                  <a:pt x="8661" y="0"/>
                  <a:pt x="10261" y="660"/>
                  <a:pt x="11595" y="1955"/>
                </a:cubicBezTo>
                <a:cubicBezTo>
                  <a:pt x="12928" y="3251"/>
                  <a:pt x="13601" y="4838"/>
                  <a:pt x="13601" y="6692"/>
                </a:cubicBezTo>
                <a:cubicBezTo>
                  <a:pt x="13601" y="8610"/>
                  <a:pt x="12928" y="10198"/>
                  <a:pt x="11595" y="11468"/>
                </a:cubicBezTo>
                <a:cubicBezTo>
                  <a:pt x="10261" y="12750"/>
                  <a:pt x="8661" y="13398"/>
                  <a:pt x="6807" y="13398"/>
                </a:cubicBezTo>
                <a:cubicBezTo>
                  <a:pt x="4940" y="13398"/>
                  <a:pt x="3340" y="12750"/>
                  <a:pt x="2006" y="11468"/>
                </a:cubicBezTo>
                <a:cubicBezTo>
                  <a:pt x="673" y="10198"/>
                  <a:pt x="0" y="8610"/>
                  <a:pt x="0" y="6692"/>
                </a:cubicBezTo>
                <a:cubicBezTo>
                  <a:pt x="0" y="4838"/>
                  <a:pt x="673" y="3251"/>
                  <a:pt x="2006" y="1955"/>
                </a:cubicBezTo>
                <a:cubicBezTo>
                  <a:pt x="3340" y="660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5987520" y="1440000"/>
            <a:ext cx="13320" cy="12960"/>
          </a:xfrm>
          <a:custGeom>
            <a:avLst/>
            <a:gdLst>
              <a:gd name="textAreaLeft" fmla="*/ 0 w 13320"/>
              <a:gd name="textAreaRight" fmla="*/ 13680 w 133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601" h="13335">
                <a:moveTo>
                  <a:pt x="6807" y="0"/>
                </a:moveTo>
                <a:cubicBezTo>
                  <a:pt x="8661" y="0"/>
                  <a:pt x="10261" y="647"/>
                  <a:pt x="11595" y="1930"/>
                </a:cubicBezTo>
                <a:cubicBezTo>
                  <a:pt x="12928" y="3251"/>
                  <a:pt x="13601" y="4813"/>
                  <a:pt x="13601" y="6629"/>
                </a:cubicBezTo>
                <a:cubicBezTo>
                  <a:pt x="13601" y="8458"/>
                  <a:pt x="12953" y="10045"/>
                  <a:pt x="11658" y="11353"/>
                </a:cubicBezTo>
                <a:cubicBezTo>
                  <a:pt x="10350" y="12674"/>
                  <a:pt x="8725" y="13335"/>
                  <a:pt x="6807" y="13335"/>
                </a:cubicBezTo>
                <a:cubicBezTo>
                  <a:pt x="4876" y="13335"/>
                  <a:pt x="3251" y="12674"/>
                  <a:pt x="1942" y="11353"/>
                </a:cubicBezTo>
                <a:cubicBezTo>
                  <a:pt x="647" y="10045"/>
                  <a:pt x="0" y="8458"/>
                  <a:pt x="0" y="6629"/>
                </a:cubicBezTo>
                <a:cubicBezTo>
                  <a:pt x="0" y="4813"/>
                  <a:pt x="673" y="3251"/>
                  <a:pt x="2006" y="1930"/>
                </a:cubicBezTo>
                <a:cubicBezTo>
                  <a:pt x="3340" y="647"/>
                  <a:pt x="4940" y="0"/>
                  <a:pt x="6807" y="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6274440" y="1463040"/>
            <a:ext cx="30600" cy="7560"/>
          </a:xfrm>
          <a:custGeom>
            <a:avLst/>
            <a:gdLst>
              <a:gd name="textAreaLeft" fmla="*/ 0 w 30600"/>
              <a:gd name="textAreaRight" fmla="*/ 30960 w 30600"/>
              <a:gd name="textAreaTop" fmla="*/ 0 h 7560"/>
              <a:gd name="textAreaBottom" fmla="*/ 7920 h 7560"/>
            </a:gdLst>
            <a:ahLst/>
            <a:rect l="textAreaLeft" t="textAreaTop" r="textAreaRight" b="textAreaBottom"/>
            <a:pathLst>
              <a:path w="31064" h="7962">
                <a:moveTo>
                  <a:pt x="31064" y="7962"/>
                </a:moveTo>
                <a:lnTo>
                  <a:pt x="0" y="7962"/>
                </a:lnTo>
                <a:lnTo>
                  <a:pt x="0" y="0"/>
                </a:lnTo>
                <a:lnTo>
                  <a:pt x="31064" y="0"/>
                </a:lnTo>
                <a:lnTo>
                  <a:pt x="31064" y="796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6593400" y="1418040"/>
            <a:ext cx="27720" cy="99720"/>
          </a:xfrm>
          <a:custGeom>
            <a:avLst/>
            <a:gdLst>
              <a:gd name="textAreaLeft" fmla="*/ 0 w 27720"/>
              <a:gd name="textAreaRight" fmla="*/ 28080 w 277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27902" h="100190">
                <a:moveTo>
                  <a:pt x="18821" y="100190"/>
                </a:moveTo>
                <a:cubicBezTo>
                  <a:pt x="6274" y="86487"/>
                  <a:pt x="0" y="69900"/>
                  <a:pt x="0" y="50419"/>
                </a:cubicBezTo>
                <a:cubicBezTo>
                  <a:pt x="0" y="30683"/>
                  <a:pt x="6274" y="13893"/>
                  <a:pt x="18821" y="0"/>
                </a:cubicBezTo>
                <a:lnTo>
                  <a:pt x="27902" y="0"/>
                </a:lnTo>
                <a:cubicBezTo>
                  <a:pt x="15405" y="14236"/>
                  <a:pt x="9169" y="31013"/>
                  <a:pt x="9169" y="50304"/>
                </a:cubicBezTo>
                <a:cubicBezTo>
                  <a:pt x="9169" y="69329"/>
                  <a:pt x="15379" y="85953"/>
                  <a:pt x="27787" y="100190"/>
                </a:cubicBezTo>
                <a:lnTo>
                  <a:pt x="18821" y="10019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7999200" y="1418040"/>
            <a:ext cx="27360" cy="99720"/>
          </a:xfrm>
          <a:custGeom>
            <a:avLst/>
            <a:gdLst>
              <a:gd name="textAreaLeft" fmla="*/ 0 w 27360"/>
              <a:gd name="textAreaRight" fmla="*/ 27720 w 2736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27799" h="100190">
                <a:moveTo>
                  <a:pt x="9080" y="100190"/>
                </a:moveTo>
                <a:lnTo>
                  <a:pt x="0" y="100190"/>
                </a:lnTo>
                <a:cubicBezTo>
                  <a:pt x="12496" y="86004"/>
                  <a:pt x="18732" y="69189"/>
                  <a:pt x="18732" y="49784"/>
                </a:cubicBezTo>
                <a:cubicBezTo>
                  <a:pt x="18732" y="30734"/>
                  <a:pt x="12521" y="14147"/>
                  <a:pt x="113" y="0"/>
                </a:cubicBezTo>
                <a:lnTo>
                  <a:pt x="9080" y="0"/>
                </a:lnTo>
                <a:cubicBezTo>
                  <a:pt x="21551" y="13614"/>
                  <a:pt x="27799" y="30200"/>
                  <a:pt x="27799" y="49784"/>
                </a:cubicBezTo>
                <a:cubicBezTo>
                  <a:pt x="27799" y="69583"/>
                  <a:pt x="21551" y="86372"/>
                  <a:pt x="9080" y="10019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5942160" y="1561320"/>
            <a:ext cx="103320" cy="93960"/>
          </a:xfrm>
          <a:custGeom>
            <a:avLst/>
            <a:gdLst>
              <a:gd name="textAreaLeft" fmla="*/ 0 w 103320"/>
              <a:gd name="textAreaRight" fmla="*/ 103680 w 1033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03784" h="94284">
                <a:moveTo>
                  <a:pt x="0" y="35547"/>
                </a:moveTo>
                <a:lnTo>
                  <a:pt x="49034" y="35547"/>
                </a:lnTo>
                <a:lnTo>
                  <a:pt x="49034" y="8331"/>
                </a:lnTo>
                <a:lnTo>
                  <a:pt x="8432" y="8331"/>
                </a:lnTo>
                <a:lnTo>
                  <a:pt x="8432" y="0"/>
                </a:lnTo>
                <a:lnTo>
                  <a:pt x="95770" y="0"/>
                </a:lnTo>
                <a:lnTo>
                  <a:pt x="95770" y="8331"/>
                </a:lnTo>
                <a:lnTo>
                  <a:pt x="57911" y="8331"/>
                </a:lnTo>
                <a:lnTo>
                  <a:pt x="57911" y="35547"/>
                </a:lnTo>
                <a:lnTo>
                  <a:pt x="103784" y="35547"/>
                </a:lnTo>
                <a:lnTo>
                  <a:pt x="103784" y="43878"/>
                </a:lnTo>
                <a:lnTo>
                  <a:pt x="57911" y="43878"/>
                </a:lnTo>
                <a:lnTo>
                  <a:pt x="57911" y="80048"/>
                </a:lnTo>
                <a:cubicBezTo>
                  <a:pt x="57911" y="84835"/>
                  <a:pt x="57022" y="88277"/>
                  <a:pt x="55270" y="90385"/>
                </a:cubicBezTo>
                <a:cubicBezTo>
                  <a:pt x="53288" y="92849"/>
                  <a:pt x="49605" y="94157"/>
                  <a:pt x="44182" y="94284"/>
                </a:cubicBezTo>
                <a:cubicBezTo>
                  <a:pt x="41020" y="94284"/>
                  <a:pt x="35089" y="94259"/>
                  <a:pt x="26365" y="94183"/>
                </a:cubicBezTo>
                <a:cubicBezTo>
                  <a:pt x="26022" y="90957"/>
                  <a:pt x="25450" y="87757"/>
                  <a:pt x="24676" y="84582"/>
                </a:cubicBezTo>
                <a:cubicBezTo>
                  <a:pt x="32626" y="85153"/>
                  <a:pt x="38150" y="85432"/>
                  <a:pt x="41236" y="85432"/>
                </a:cubicBezTo>
                <a:cubicBezTo>
                  <a:pt x="44398" y="85432"/>
                  <a:pt x="46507" y="84835"/>
                  <a:pt x="47561" y="83642"/>
                </a:cubicBezTo>
                <a:cubicBezTo>
                  <a:pt x="48552" y="82651"/>
                  <a:pt x="49034" y="80441"/>
                  <a:pt x="49034" y="77000"/>
                </a:cubicBezTo>
                <a:lnTo>
                  <a:pt x="49034" y="43878"/>
                </a:lnTo>
                <a:lnTo>
                  <a:pt x="0" y="43878"/>
                </a:lnTo>
                <a:lnTo>
                  <a:pt x="0" y="3554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Freeform 3"/>
          <p:cNvSpPr/>
          <p:nvPr/>
        </p:nvSpPr>
        <p:spPr>
          <a:xfrm>
            <a:off x="6526800" y="1630440"/>
            <a:ext cx="15840" cy="27720"/>
          </a:xfrm>
          <a:custGeom>
            <a:avLst/>
            <a:gdLst>
              <a:gd name="textAreaLeft" fmla="*/ 0 w 15840"/>
              <a:gd name="textAreaRight" fmla="*/ 16200 w 1584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16294" h="28105">
                <a:moveTo>
                  <a:pt x="16293" y="0"/>
                </a:moveTo>
                <a:lnTo>
                  <a:pt x="7378" y="28105"/>
                </a:lnTo>
                <a:lnTo>
                  <a:pt x="0" y="28105"/>
                </a:lnTo>
                <a:lnTo>
                  <a:pt x="6489" y="0"/>
                </a:lnTo>
                <a:lnTo>
                  <a:pt x="16293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Freeform 3"/>
          <p:cNvSpPr/>
          <p:nvPr/>
        </p:nvSpPr>
        <p:spPr>
          <a:xfrm>
            <a:off x="7467840" y="1632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7">
                <a:moveTo>
                  <a:pt x="25895" y="17932"/>
                </a:moveTo>
                <a:lnTo>
                  <a:pt x="19557" y="24307"/>
                </a:lnTo>
                <a:cubicBezTo>
                  <a:pt x="13614" y="17830"/>
                  <a:pt x="7111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7" y="13042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1" name="Freeform 3"/>
          <p:cNvSpPr/>
          <p:nvPr/>
        </p:nvSpPr>
        <p:spPr>
          <a:xfrm>
            <a:off x="8011080" y="1632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7">
                <a:moveTo>
                  <a:pt x="25895" y="17932"/>
                </a:moveTo>
                <a:lnTo>
                  <a:pt x="19557" y="24307"/>
                </a:lnTo>
                <a:cubicBezTo>
                  <a:pt x="13613" y="17830"/>
                  <a:pt x="7111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7" y="13042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2" name="Freeform 3"/>
          <p:cNvSpPr/>
          <p:nvPr/>
        </p:nvSpPr>
        <p:spPr>
          <a:xfrm>
            <a:off x="8114400" y="1553400"/>
            <a:ext cx="104400" cy="97560"/>
          </a:xfrm>
          <a:custGeom>
            <a:avLst/>
            <a:gdLst>
              <a:gd name="textAreaLeft" fmla="*/ 0 w 104400"/>
              <a:gd name="textAreaRight" fmla="*/ 104760 w 104400"/>
              <a:gd name="textAreaTop" fmla="*/ 0 h 97560"/>
              <a:gd name="textAreaBottom" fmla="*/ 97920 h 97560"/>
            </a:gdLst>
            <a:ahLst/>
            <a:rect l="textAreaLeft" t="textAreaTop" r="textAreaRight" b="textAreaBottom"/>
            <a:pathLst>
              <a:path w="104724" h="97764">
                <a:moveTo>
                  <a:pt x="737" y="89852"/>
                </a:moveTo>
                <a:lnTo>
                  <a:pt x="49683" y="89852"/>
                </a:lnTo>
                <a:lnTo>
                  <a:pt x="49683" y="62953"/>
                </a:lnTo>
                <a:lnTo>
                  <a:pt x="12344" y="62953"/>
                </a:lnTo>
                <a:lnTo>
                  <a:pt x="12344" y="54838"/>
                </a:lnTo>
                <a:lnTo>
                  <a:pt x="49683" y="54838"/>
                </a:lnTo>
                <a:lnTo>
                  <a:pt x="49683" y="30480"/>
                </a:lnTo>
                <a:lnTo>
                  <a:pt x="21832" y="30480"/>
                </a:lnTo>
                <a:cubicBezTo>
                  <a:pt x="17157" y="38912"/>
                  <a:pt x="11772" y="46545"/>
                  <a:pt x="5702" y="53365"/>
                </a:cubicBezTo>
                <a:cubicBezTo>
                  <a:pt x="4216" y="51041"/>
                  <a:pt x="2324" y="48590"/>
                  <a:pt x="0" y="45986"/>
                </a:cubicBezTo>
                <a:cubicBezTo>
                  <a:pt x="9918" y="34874"/>
                  <a:pt x="17754" y="21310"/>
                  <a:pt x="23521" y="5270"/>
                </a:cubicBezTo>
                <a:lnTo>
                  <a:pt x="32169" y="7581"/>
                </a:lnTo>
                <a:cubicBezTo>
                  <a:pt x="30302" y="12725"/>
                  <a:pt x="28244" y="17640"/>
                  <a:pt x="25996" y="22352"/>
                </a:cubicBezTo>
                <a:lnTo>
                  <a:pt x="49683" y="22352"/>
                </a:lnTo>
                <a:lnTo>
                  <a:pt x="49683" y="0"/>
                </a:lnTo>
                <a:lnTo>
                  <a:pt x="58737" y="0"/>
                </a:lnTo>
                <a:lnTo>
                  <a:pt x="58737" y="22352"/>
                </a:lnTo>
                <a:lnTo>
                  <a:pt x="99035" y="22352"/>
                </a:lnTo>
                <a:lnTo>
                  <a:pt x="99035" y="30480"/>
                </a:lnTo>
                <a:lnTo>
                  <a:pt x="58737" y="30480"/>
                </a:lnTo>
                <a:lnTo>
                  <a:pt x="58737" y="54838"/>
                </a:lnTo>
                <a:lnTo>
                  <a:pt x="96088" y="54838"/>
                </a:lnTo>
                <a:lnTo>
                  <a:pt x="96088" y="62953"/>
                </a:lnTo>
                <a:lnTo>
                  <a:pt x="58737" y="62953"/>
                </a:lnTo>
                <a:lnTo>
                  <a:pt x="58737" y="89852"/>
                </a:lnTo>
                <a:lnTo>
                  <a:pt x="104724" y="89852"/>
                </a:lnTo>
                <a:lnTo>
                  <a:pt x="104724" y="97764"/>
                </a:lnTo>
                <a:lnTo>
                  <a:pt x="737" y="97764"/>
                </a:lnTo>
                <a:lnTo>
                  <a:pt x="737" y="8985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Freeform 3"/>
          <p:cNvSpPr/>
          <p:nvPr/>
        </p:nvSpPr>
        <p:spPr>
          <a:xfrm>
            <a:off x="8554320" y="1632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6" h="24307">
                <a:moveTo>
                  <a:pt x="25895" y="17932"/>
                </a:moveTo>
                <a:lnTo>
                  <a:pt x="19558" y="24307"/>
                </a:lnTo>
                <a:cubicBezTo>
                  <a:pt x="13614" y="17830"/>
                  <a:pt x="7112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8" y="13042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8876880" y="1563120"/>
            <a:ext cx="101520" cy="86760"/>
          </a:xfrm>
          <a:custGeom>
            <a:avLst/>
            <a:gdLst>
              <a:gd name="textAreaLeft" fmla="*/ 0 w 101520"/>
              <a:gd name="textAreaRight" fmla="*/ 101880 w 101520"/>
              <a:gd name="textAreaTop" fmla="*/ 0 h 86760"/>
              <a:gd name="textAreaBottom" fmla="*/ 87120 h 86760"/>
            </a:gdLst>
            <a:ahLst/>
            <a:rect l="textAreaLeft" t="textAreaTop" r="textAreaRight" b="textAreaBottom"/>
            <a:pathLst>
              <a:path w="101778" h="87007">
                <a:moveTo>
                  <a:pt x="0" y="78778"/>
                </a:moveTo>
                <a:lnTo>
                  <a:pt x="46190" y="78778"/>
                </a:lnTo>
                <a:lnTo>
                  <a:pt x="46190" y="8432"/>
                </a:lnTo>
                <a:lnTo>
                  <a:pt x="6007" y="8432"/>
                </a:lnTo>
                <a:lnTo>
                  <a:pt x="6007" y="0"/>
                </a:lnTo>
                <a:lnTo>
                  <a:pt x="95872" y="0"/>
                </a:lnTo>
                <a:lnTo>
                  <a:pt x="95872" y="8432"/>
                </a:lnTo>
                <a:lnTo>
                  <a:pt x="55474" y="8432"/>
                </a:lnTo>
                <a:lnTo>
                  <a:pt x="55474" y="78778"/>
                </a:lnTo>
                <a:lnTo>
                  <a:pt x="101778" y="78778"/>
                </a:lnTo>
                <a:lnTo>
                  <a:pt x="101778" y="87007"/>
                </a:lnTo>
                <a:lnTo>
                  <a:pt x="0" y="87007"/>
                </a:lnTo>
                <a:lnTo>
                  <a:pt x="0" y="78778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Freeform 3"/>
          <p:cNvSpPr/>
          <p:nvPr/>
        </p:nvSpPr>
        <p:spPr>
          <a:xfrm>
            <a:off x="9097560" y="1632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7">
                <a:moveTo>
                  <a:pt x="25895" y="17932"/>
                </a:moveTo>
                <a:lnTo>
                  <a:pt x="19557" y="24307"/>
                </a:lnTo>
                <a:cubicBezTo>
                  <a:pt x="13613" y="17830"/>
                  <a:pt x="7111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7" y="13042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Freeform 3"/>
          <p:cNvSpPr/>
          <p:nvPr/>
        </p:nvSpPr>
        <p:spPr>
          <a:xfrm>
            <a:off x="9640800" y="1632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6" h="24307">
                <a:moveTo>
                  <a:pt x="25895" y="17932"/>
                </a:moveTo>
                <a:lnTo>
                  <a:pt x="19558" y="24307"/>
                </a:lnTo>
                <a:cubicBezTo>
                  <a:pt x="13614" y="17830"/>
                  <a:pt x="7111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8" y="13042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" name="Freeform 3"/>
          <p:cNvSpPr/>
          <p:nvPr/>
        </p:nvSpPr>
        <p:spPr>
          <a:xfrm>
            <a:off x="5725080" y="1703880"/>
            <a:ext cx="103680" cy="96480"/>
          </a:xfrm>
          <a:custGeom>
            <a:avLst/>
            <a:gdLst>
              <a:gd name="textAreaLeft" fmla="*/ 0 w 103680"/>
              <a:gd name="textAreaRight" fmla="*/ 104040 w 103680"/>
              <a:gd name="textAreaTop" fmla="*/ 0 h 96480"/>
              <a:gd name="textAreaBottom" fmla="*/ 96840 h 96480"/>
            </a:gdLst>
            <a:ahLst/>
            <a:rect l="textAreaLeft" t="textAreaTop" r="textAreaRight" b="textAreaBottom"/>
            <a:pathLst>
              <a:path w="104203" h="96812">
                <a:moveTo>
                  <a:pt x="0" y="41541"/>
                </a:moveTo>
                <a:lnTo>
                  <a:pt x="49034" y="41541"/>
                </a:lnTo>
                <a:lnTo>
                  <a:pt x="49034" y="29946"/>
                </a:lnTo>
                <a:lnTo>
                  <a:pt x="79311" y="7912"/>
                </a:lnTo>
                <a:lnTo>
                  <a:pt x="11074" y="7912"/>
                </a:lnTo>
                <a:lnTo>
                  <a:pt x="11074" y="0"/>
                </a:lnTo>
                <a:lnTo>
                  <a:pt x="93344" y="0"/>
                </a:lnTo>
                <a:lnTo>
                  <a:pt x="93344" y="8216"/>
                </a:lnTo>
                <a:lnTo>
                  <a:pt x="58000" y="34048"/>
                </a:lnTo>
                <a:lnTo>
                  <a:pt x="58000" y="41541"/>
                </a:lnTo>
                <a:lnTo>
                  <a:pt x="104203" y="41541"/>
                </a:lnTo>
                <a:lnTo>
                  <a:pt x="104203" y="49453"/>
                </a:lnTo>
                <a:lnTo>
                  <a:pt x="58000" y="49453"/>
                </a:lnTo>
                <a:lnTo>
                  <a:pt x="58000" y="82664"/>
                </a:lnTo>
                <a:cubicBezTo>
                  <a:pt x="58000" y="92087"/>
                  <a:pt x="53085" y="96812"/>
                  <a:pt x="43243" y="96812"/>
                </a:cubicBezTo>
                <a:cubicBezTo>
                  <a:pt x="40004" y="96812"/>
                  <a:pt x="34454" y="96735"/>
                  <a:pt x="26580" y="96596"/>
                </a:cubicBezTo>
                <a:cubicBezTo>
                  <a:pt x="26288" y="93776"/>
                  <a:pt x="25869" y="90576"/>
                  <a:pt x="25310" y="87007"/>
                </a:cubicBezTo>
                <a:cubicBezTo>
                  <a:pt x="30441" y="87629"/>
                  <a:pt x="35852" y="87972"/>
                  <a:pt x="41554" y="88049"/>
                </a:cubicBezTo>
                <a:cubicBezTo>
                  <a:pt x="46545" y="88049"/>
                  <a:pt x="49034" y="85521"/>
                  <a:pt x="49034" y="80454"/>
                </a:cubicBezTo>
                <a:lnTo>
                  <a:pt x="49034" y="49453"/>
                </a:lnTo>
                <a:lnTo>
                  <a:pt x="0" y="49453"/>
                </a:lnTo>
                <a:lnTo>
                  <a:pt x="0" y="41541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5838120" y="1776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7">
                <a:moveTo>
                  <a:pt x="25895" y="17932"/>
                </a:moveTo>
                <a:lnTo>
                  <a:pt x="19558" y="24307"/>
                </a:lnTo>
                <a:cubicBezTo>
                  <a:pt x="13614" y="17843"/>
                  <a:pt x="7112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7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9" name="Freeform 3"/>
          <p:cNvSpPr/>
          <p:nvPr/>
        </p:nvSpPr>
        <p:spPr>
          <a:xfrm>
            <a:off x="6267600" y="1697040"/>
            <a:ext cx="104760" cy="104760"/>
          </a:xfrm>
          <a:custGeom>
            <a:avLst/>
            <a:gdLst>
              <a:gd name="textAreaLeft" fmla="*/ 0 w 104760"/>
              <a:gd name="textAreaRight" fmla="*/ 105120 w 104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4940" h="105257">
                <a:moveTo>
                  <a:pt x="91655" y="58635"/>
                </a:moveTo>
                <a:lnTo>
                  <a:pt x="97459" y="65913"/>
                </a:lnTo>
                <a:lnTo>
                  <a:pt x="73888" y="77723"/>
                </a:lnTo>
                <a:cubicBezTo>
                  <a:pt x="82143" y="84467"/>
                  <a:pt x="92493" y="88937"/>
                  <a:pt x="104940" y="91122"/>
                </a:cubicBezTo>
                <a:cubicBezTo>
                  <a:pt x="102552" y="94221"/>
                  <a:pt x="100583" y="97015"/>
                  <a:pt x="99034" y="99555"/>
                </a:cubicBezTo>
                <a:cubicBezTo>
                  <a:pt x="76365" y="94145"/>
                  <a:pt x="60109" y="80200"/>
                  <a:pt x="50253" y="57746"/>
                </a:cubicBezTo>
                <a:cubicBezTo>
                  <a:pt x="46672" y="62318"/>
                  <a:pt x="42583" y="66662"/>
                  <a:pt x="37960" y="70764"/>
                </a:cubicBezTo>
                <a:lnTo>
                  <a:pt x="37960" y="93332"/>
                </a:lnTo>
                <a:cubicBezTo>
                  <a:pt x="47256" y="90309"/>
                  <a:pt x="55867" y="87147"/>
                  <a:pt x="63817" y="83845"/>
                </a:cubicBezTo>
                <a:cubicBezTo>
                  <a:pt x="63741" y="86944"/>
                  <a:pt x="63779" y="90004"/>
                  <a:pt x="63906" y="93027"/>
                </a:cubicBezTo>
                <a:cubicBezTo>
                  <a:pt x="55473" y="95910"/>
                  <a:pt x="46761" y="99072"/>
                  <a:pt x="37756" y="102501"/>
                </a:cubicBezTo>
                <a:cubicBezTo>
                  <a:pt x="35852" y="103289"/>
                  <a:pt x="33997" y="104203"/>
                  <a:pt x="32168" y="105257"/>
                </a:cubicBezTo>
                <a:lnTo>
                  <a:pt x="27216" y="97548"/>
                </a:lnTo>
                <a:cubicBezTo>
                  <a:pt x="29184" y="96151"/>
                  <a:pt x="30162" y="94183"/>
                  <a:pt x="30162" y="91655"/>
                </a:cubicBezTo>
                <a:lnTo>
                  <a:pt x="30162" y="77152"/>
                </a:lnTo>
                <a:cubicBezTo>
                  <a:pt x="22885" y="82600"/>
                  <a:pt x="14630" y="87528"/>
                  <a:pt x="5384" y="91960"/>
                </a:cubicBezTo>
                <a:cubicBezTo>
                  <a:pt x="3835" y="89509"/>
                  <a:pt x="2032" y="87071"/>
                  <a:pt x="0" y="84696"/>
                </a:cubicBezTo>
                <a:cubicBezTo>
                  <a:pt x="18186" y="77228"/>
                  <a:pt x="32448" y="67259"/>
                  <a:pt x="42824" y="54724"/>
                </a:cubicBezTo>
                <a:lnTo>
                  <a:pt x="1168" y="54724"/>
                </a:lnTo>
                <a:lnTo>
                  <a:pt x="1168" y="47459"/>
                </a:lnTo>
                <a:lnTo>
                  <a:pt x="48412" y="47459"/>
                </a:lnTo>
                <a:lnTo>
                  <a:pt x="48412" y="36690"/>
                </a:lnTo>
                <a:lnTo>
                  <a:pt x="8648" y="36690"/>
                </a:lnTo>
                <a:lnTo>
                  <a:pt x="8648" y="29425"/>
                </a:lnTo>
                <a:lnTo>
                  <a:pt x="48412" y="29425"/>
                </a:lnTo>
                <a:lnTo>
                  <a:pt x="48412" y="19087"/>
                </a:lnTo>
                <a:lnTo>
                  <a:pt x="4432" y="19087"/>
                </a:lnTo>
                <a:lnTo>
                  <a:pt x="4432" y="11810"/>
                </a:lnTo>
                <a:lnTo>
                  <a:pt x="48412" y="11810"/>
                </a:lnTo>
                <a:lnTo>
                  <a:pt x="48412" y="0"/>
                </a:lnTo>
                <a:lnTo>
                  <a:pt x="56743" y="0"/>
                </a:lnTo>
                <a:lnTo>
                  <a:pt x="56743" y="11810"/>
                </a:lnTo>
                <a:lnTo>
                  <a:pt x="100926" y="11810"/>
                </a:lnTo>
                <a:lnTo>
                  <a:pt x="100926" y="19087"/>
                </a:lnTo>
                <a:lnTo>
                  <a:pt x="56743" y="19087"/>
                </a:lnTo>
                <a:lnTo>
                  <a:pt x="56743" y="29425"/>
                </a:lnTo>
                <a:lnTo>
                  <a:pt x="96405" y="29425"/>
                </a:lnTo>
                <a:lnTo>
                  <a:pt x="96405" y="36690"/>
                </a:lnTo>
                <a:lnTo>
                  <a:pt x="56743" y="36690"/>
                </a:lnTo>
                <a:lnTo>
                  <a:pt x="56743" y="47459"/>
                </a:lnTo>
                <a:lnTo>
                  <a:pt x="103885" y="47459"/>
                </a:lnTo>
                <a:lnTo>
                  <a:pt x="103885" y="54724"/>
                </a:lnTo>
                <a:lnTo>
                  <a:pt x="56997" y="54724"/>
                </a:lnTo>
                <a:cubicBezTo>
                  <a:pt x="59969" y="61582"/>
                  <a:pt x="63766" y="67525"/>
                  <a:pt x="68402" y="72567"/>
                </a:cubicBezTo>
                <a:cubicBezTo>
                  <a:pt x="75476" y="69037"/>
                  <a:pt x="83223" y="64401"/>
                  <a:pt x="91655" y="5863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0" name="Freeform 3"/>
          <p:cNvSpPr/>
          <p:nvPr/>
        </p:nvSpPr>
        <p:spPr>
          <a:xfrm>
            <a:off x="6598800" y="1776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7">
                <a:moveTo>
                  <a:pt x="25895" y="17932"/>
                </a:moveTo>
                <a:lnTo>
                  <a:pt x="19557" y="24307"/>
                </a:lnTo>
                <a:cubicBezTo>
                  <a:pt x="13613" y="17843"/>
                  <a:pt x="7111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7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1" name="Freeform 3"/>
          <p:cNvSpPr/>
          <p:nvPr/>
        </p:nvSpPr>
        <p:spPr>
          <a:xfrm>
            <a:off x="7359480" y="1776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7">
                <a:moveTo>
                  <a:pt x="25895" y="17932"/>
                </a:moveTo>
                <a:lnTo>
                  <a:pt x="19557" y="24307"/>
                </a:lnTo>
                <a:cubicBezTo>
                  <a:pt x="13613" y="17843"/>
                  <a:pt x="7111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7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7902360" y="1776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6" h="24307">
                <a:moveTo>
                  <a:pt x="25895" y="17932"/>
                </a:moveTo>
                <a:lnTo>
                  <a:pt x="19558" y="24307"/>
                </a:lnTo>
                <a:cubicBezTo>
                  <a:pt x="13614" y="17843"/>
                  <a:pt x="7112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8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3" name="Freeform 3"/>
          <p:cNvSpPr/>
          <p:nvPr/>
        </p:nvSpPr>
        <p:spPr>
          <a:xfrm>
            <a:off x="8444160" y="1698120"/>
            <a:ext cx="100440" cy="102960"/>
          </a:xfrm>
          <a:custGeom>
            <a:avLst/>
            <a:gdLst>
              <a:gd name="textAreaLeft" fmla="*/ 0 w 100440"/>
              <a:gd name="textAreaRight" fmla="*/ 100800 w 1004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00622" h="103467">
                <a:moveTo>
                  <a:pt x="16243" y="1892"/>
                </a:moveTo>
                <a:lnTo>
                  <a:pt x="25210" y="1892"/>
                </a:lnTo>
                <a:lnTo>
                  <a:pt x="25210" y="30467"/>
                </a:lnTo>
                <a:lnTo>
                  <a:pt x="63386" y="30467"/>
                </a:lnTo>
                <a:lnTo>
                  <a:pt x="63386" y="0"/>
                </a:lnTo>
                <a:lnTo>
                  <a:pt x="72352" y="0"/>
                </a:lnTo>
                <a:lnTo>
                  <a:pt x="72352" y="30467"/>
                </a:lnTo>
                <a:lnTo>
                  <a:pt x="100622" y="30467"/>
                </a:lnTo>
                <a:lnTo>
                  <a:pt x="100622" y="38379"/>
                </a:lnTo>
                <a:lnTo>
                  <a:pt x="25210" y="38379"/>
                </a:lnTo>
                <a:cubicBezTo>
                  <a:pt x="25210" y="42887"/>
                  <a:pt x="25095" y="49072"/>
                  <a:pt x="24892" y="56946"/>
                </a:cubicBezTo>
                <a:lnTo>
                  <a:pt x="76886" y="56946"/>
                </a:lnTo>
                <a:lnTo>
                  <a:pt x="76886" y="102933"/>
                </a:lnTo>
                <a:lnTo>
                  <a:pt x="67818" y="102933"/>
                </a:lnTo>
                <a:lnTo>
                  <a:pt x="67818" y="64973"/>
                </a:lnTo>
                <a:lnTo>
                  <a:pt x="24257" y="64973"/>
                </a:lnTo>
                <a:cubicBezTo>
                  <a:pt x="22859" y="80149"/>
                  <a:pt x="16980" y="92976"/>
                  <a:pt x="6642" y="103466"/>
                </a:cubicBezTo>
                <a:cubicBezTo>
                  <a:pt x="4750" y="100926"/>
                  <a:pt x="2527" y="98437"/>
                  <a:pt x="0" y="95973"/>
                </a:cubicBezTo>
                <a:cubicBezTo>
                  <a:pt x="6464" y="89154"/>
                  <a:pt x="10782" y="82296"/>
                  <a:pt x="12966" y="75400"/>
                </a:cubicBezTo>
                <a:cubicBezTo>
                  <a:pt x="15151" y="69215"/>
                  <a:pt x="16243" y="59308"/>
                  <a:pt x="16243" y="45656"/>
                </a:cubicBezTo>
                <a:lnTo>
                  <a:pt x="16243" y="189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4" name="Freeform 3"/>
          <p:cNvSpPr/>
          <p:nvPr/>
        </p:nvSpPr>
        <p:spPr>
          <a:xfrm>
            <a:off x="8554320" y="1776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6" h="24307">
                <a:moveTo>
                  <a:pt x="25895" y="17932"/>
                </a:moveTo>
                <a:lnTo>
                  <a:pt x="19558" y="24307"/>
                </a:lnTo>
                <a:cubicBezTo>
                  <a:pt x="13614" y="17843"/>
                  <a:pt x="7112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8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Freeform 3"/>
          <p:cNvSpPr/>
          <p:nvPr/>
        </p:nvSpPr>
        <p:spPr>
          <a:xfrm>
            <a:off x="9198000" y="1705680"/>
            <a:ext cx="48600" cy="95040"/>
          </a:xfrm>
          <a:custGeom>
            <a:avLst/>
            <a:gdLst>
              <a:gd name="textAreaLeft" fmla="*/ 0 w 48600"/>
              <a:gd name="textAreaRight" fmla="*/ 48960 w 486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48831" h="95237">
                <a:moveTo>
                  <a:pt x="24416" y="0"/>
                </a:moveTo>
                <a:lnTo>
                  <a:pt x="24416" y="95237"/>
                </a:lnTo>
              </a:path>
            </a:pathLst>
          </a:custGeom>
          <a:noFill/>
          <a:ln w="508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3"/>
          <p:cNvSpPr/>
          <p:nvPr/>
        </p:nvSpPr>
        <p:spPr>
          <a:xfrm>
            <a:off x="10013760" y="1776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6" h="24307">
                <a:moveTo>
                  <a:pt x="25895" y="17932"/>
                </a:moveTo>
                <a:lnTo>
                  <a:pt x="19558" y="24307"/>
                </a:lnTo>
                <a:cubicBezTo>
                  <a:pt x="13614" y="17843"/>
                  <a:pt x="7112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8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10339560" y="1776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6" h="24307">
                <a:moveTo>
                  <a:pt x="25895" y="17932"/>
                </a:moveTo>
                <a:lnTo>
                  <a:pt x="19558" y="24307"/>
                </a:lnTo>
                <a:cubicBezTo>
                  <a:pt x="13614" y="17843"/>
                  <a:pt x="7112" y="11671"/>
                  <a:pt x="0" y="5803"/>
                </a:cubicBezTo>
                <a:lnTo>
                  <a:pt x="5588" y="0"/>
                </a:lnTo>
                <a:cubicBezTo>
                  <a:pt x="14351" y="7073"/>
                  <a:pt x="21108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Freeform 3"/>
          <p:cNvSpPr/>
          <p:nvPr/>
        </p:nvSpPr>
        <p:spPr>
          <a:xfrm>
            <a:off x="5946840" y="1920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7">
                <a:moveTo>
                  <a:pt x="25895" y="17932"/>
                </a:moveTo>
                <a:lnTo>
                  <a:pt x="19558" y="24307"/>
                </a:lnTo>
                <a:cubicBezTo>
                  <a:pt x="13614" y="17830"/>
                  <a:pt x="7111" y="11658"/>
                  <a:pt x="0" y="5803"/>
                </a:cubicBezTo>
                <a:lnTo>
                  <a:pt x="5588" y="0"/>
                </a:lnTo>
                <a:cubicBezTo>
                  <a:pt x="14351" y="7073"/>
                  <a:pt x="21107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6273000" y="1920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7">
                <a:moveTo>
                  <a:pt x="25895" y="17932"/>
                </a:moveTo>
                <a:lnTo>
                  <a:pt x="19557" y="24307"/>
                </a:lnTo>
                <a:cubicBezTo>
                  <a:pt x="13614" y="17830"/>
                  <a:pt x="7111" y="11658"/>
                  <a:pt x="0" y="5803"/>
                </a:cubicBezTo>
                <a:lnTo>
                  <a:pt x="5588" y="0"/>
                </a:lnTo>
                <a:cubicBezTo>
                  <a:pt x="14350" y="7073"/>
                  <a:pt x="21107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Freeform 3"/>
          <p:cNvSpPr/>
          <p:nvPr/>
        </p:nvSpPr>
        <p:spPr>
          <a:xfrm>
            <a:off x="6598800" y="1920600"/>
            <a:ext cx="25560" cy="24120"/>
          </a:xfrm>
          <a:custGeom>
            <a:avLst/>
            <a:gdLst>
              <a:gd name="textAreaLeft" fmla="*/ 0 w 25560"/>
              <a:gd name="textAreaRight" fmla="*/ 25920 w 25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5895" h="24307">
                <a:moveTo>
                  <a:pt x="25895" y="17932"/>
                </a:moveTo>
                <a:lnTo>
                  <a:pt x="19557" y="24307"/>
                </a:lnTo>
                <a:cubicBezTo>
                  <a:pt x="13613" y="17830"/>
                  <a:pt x="7111" y="11658"/>
                  <a:pt x="0" y="5803"/>
                </a:cubicBezTo>
                <a:lnTo>
                  <a:pt x="5588" y="0"/>
                </a:lnTo>
                <a:cubicBezTo>
                  <a:pt x="14351" y="7073"/>
                  <a:pt x="21107" y="13030"/>
                  <a:pt x="25895" y="1793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Freeform 3"/>
          <p:cNvSpPr/>
          <p:nvPr/>
        </p:nvSpPr>
        <p:spPr>
          <a:xfrm>
            <a:off x="5727600" y="963720"/>
            <a:ext cx="89640" cy="89640"/>
          </a:xfrm>
          <a:custGeom>
            <a:avLst/>
            <a:gdLst>
              <a:gd name="textAreaLeft" fmla="*/ 0 w 89640"/>
              <a:gd name="textAreaRight" fmla="*/ 90000 w 89640"/>
              <a:gd name="textAreaTop" fmla="*/ 0 h 89640"/>
              <a:gd name="textAreaBottom" fmla="*/ 90000 h 89640"/>
            </a:gdLst>
            <a:ahLst/>
            <a:rect l="textAreaLeft" t="textAreaTop" r="textAreaRight" b="textAreaBottom"/>
            <a:pathLst>
              <a:path w="89992" h="89992">
                <a:moveTo>
                  <a:pt x="44996" y="89992"/>
                </a:moveTo>
                <a:lnTo>
                  <a:pt x="0" y="44996"/>
                </a:lnTo>
                <a:lnTo>
                  <a:pt x="44996" y="0"/>
                </a:lnTo>
                <a:lnTo>
                  <a:pt x="89992" y="44996"/>
                </a:lnTo>
                <a:lnTo>
                  <a:pt x="44996" y="89992"/>
                </a:lnTo>
              </a:path>
            </a:pathLst>
          </a:custGeom>
          <a:solidFill>
            <a:srgbClr val="0d0f0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2" name="Freeform 3"/>
          <p:cNvSpPr/>
          <p:nvPr/>
        </p:nvSpPr>
        <p:spPr>
          <a:xfrm>
            <a:off x="5672160" y="589680"/>
            <a:ext cx="4677840" cy="18360"/>
          </a:xfrm>
          <a:custGeom>
            <a:avLst/>
            <a:gdLst>
              <a:gd name="textAreaLeft" fmla="*/ 0 w 4677840"/>
              <a:gd name="textAreaRight" fmla="*/ 4678200 w 4677840"/>
              <a:gd name="textAreaTop" fmla="*/ 0 h 18360"/>
              <a:gd name="textAreaBottom" fmla="*/ 18720 h 18360"/>
            </a:gdLst>
            <a:ahLst/>
            <a:rect l="textAreaLeft" t="textAreaTop" r="textAreaRight" b="textAreaBottom"/>
            <a:pathLst>
              <a:path w="4678108" h="18796">
                <a:moveTo>
                  <a:pt x="6350" y="6350"/>
                </a:moveTo>
                <a:lnTo>
                  <a:pt x="4671758" y="6350"/>
                </a:lnTo>
              </a:path>
            </a:pathLst>
          </a:custGeom>
          <a:noFill/>
          <a:ln w="12700">
            <a:solidFill>
              <a:srgbClr val="76798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5700960" y="440640"/>
            <a:ext cx="47160" cy="51840"/>
          </a:xfrm>
          <a:custGeom>
            <a:avLst/>
            <a:gdLst>
              <a:gd name="textAreaLeft" fmla="*/ 0 w 47160"/>
              <a:gd name="textAreaRight" fmla="*/ 47520 w 4716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47676" h="52285">
                <a:moveTo>
                  <a:pt x="0" y="0"/>
                </a:moveTo>
                <a:cubicBezTo>
                  <a:pt x="12801" y="13919"/>
                  <a:pt x="25603" y="27876"/>
                  <a:pt x="38392" y="41795"/>
                </a:cubicBezTo>
                <a:lnTo>
                  <a:pt x="3403" y="41795"/>
                </a:lnTo>
                <a:lnTo>
                  <a:pt x="3403" y="52285"/>
                </a:lnTo>
                <a:lnTo>
                  <a:pt x="38392" y="52285"/>
                </a:lnTo>
                <a:cubicBezTo>
                  <a:pt x="38912" y="52235"/>
                  <a:pt x="44056" y="51816"/>
                  <a:pt x="46952" y="47155"/>
                </a:cubicBezTo>
                <a:cubicBezTo>
                  <a:pt x="49962" y="42367"/>
                  <a:pt x="47853" y="37401"/>
                  <a:pt x="47675" y="36982"/>
                </a:cubicBezTo>
                <a:cubicBezTo>
                  <a:pt x="36436" y="24650"/>
                  <a:pt x="25196" y="12331"/>
                  <a:pt x="13944" y="0"/>
                </a:cubicBez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4" name="Freeform 3"/>
          <p:cNvSpPr/>
          <p:nvPr/>
        </p:nvSpPr>
        <p:spPr>
          <a:xfrm>
            <a:off x="5756400" y="419400"/>
            <a:ext cx="10440" cy="73440"/>
          </a:xfrm>
          <a:custGeom>
            <a:avLst/>
            <a:gdLst>
              <a:gd name="textAreaLeft" fmla="*/ 0 w 10440"/>
              <a:gd name="textAreaRight" fmla="*/ 10800 w 10440"/>
              <a:gd name="textAreaTop" fmla="*/ 0 h 73440"/>
              <a:gd name="textAreaBottom" fmla="*/ 73800 h 73440"/>
            </a:gdLst>
            <a:ahLst/>
            <a:rect l="textAreaLeft" t="textAreaTop" r="textAreaRight" b="textAreaBottom"/>
            <a:pathLst>
              <a:path w="10718" h="73647">
                <a:moveTo>
                  <a:pt x="5359" y="0"/>
                </a:moveTo>
                <a:lnTo>
                  <a:pt x="5359" y="73647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3"/>
          <p:cNvSpPr/>
          <p:nvPr/>
        </p:nvSpPr>
        <p:spPr>
          <a:xfrm>
            <a:off x="5768280" y="440640"/>
            <a:ext cx="35640" cy="51840"/>
          </a:xfrm>
          <a:custGeom>
            <a:avLst/>
            <a:gdLst>
              <a:gd name="textAreaLeft" fmla="*/ 0 w 35640"/>
              <a:gd name="textAreaRight" fmla="*/ 36000 w 3564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5916" h="52285">
                <a:moveTo>
                  <a:pt x="21971" y="0"/>
                </a:moveTo>
                <a:cubicBezTo>
                  <a:pt x="14630" y="8140"/>
                  <a:pt x="7315" y="16268"/>
                  <a:pt x="0" y="24434"/>
                </a:cubicBezTo>
                <a:cubicBezTo>
                  <a:pt x="7315" y="33705"/>
                  <a:pt x="14630" y="42989"/>
                  <a:pt x="21971" y="52285"/>
                </a:cubicBezTo>
                <a:lnTo>
                  <a:pt x="35915" y="52285"/>
                </a:lnTo>
                <a:cubicBezTo>
                  <a:pt x="28321" y="42989"/>
                  <a:pt x="20701" y="33705"/>
                  <a:pt x="13119" y="24434"/>
                </a:cubicBezTo>
                <a:cubicBezTo>
                  <a:pt x="20701" y="16268"/>
                  <a:pt x="28321" y="8140"/>
                  <a:pt x="35915" y="0"/>
                </a:cubicBezTo>
                <a:lnTo>
                  <a:pt x="21971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6" name="Freeform 3"/>
          <p:cNvSpPr/>
          <p:nvPr/>
        </p:nvSpPr>
        <p:spPr>
          <a:xfrm>
            <a:off x="5805720" y="440640"/>
            <a:ext cx="51840" cy="78840"/>
          </a:xfrm>
          <a:custGeom>
            <a:avLst/>
            <a:gdLst>
              <a:gd name="textAreaLeft" fmla="*/ 0 w 51840"/>
              <a:gd name="textAreaRight" fmla="*/ 52200 w 518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52159" h="79222">
                <a:moveTo>
                  <a:pt x="0" y="0"/>
                </a:moveTo>
                <a:lnTo>
                  <a:pt x="13944" y="0"/>
                </a:lnTo>
                <a:cubicBezTo>
                  <a:pt x="19443" y="7023"/>
                  <a:pt x="24955" y="14058"/>
                  <a:pt x="30429" y="21056"/>
                </a:cubicBezTo>
                <a:cubicBezTo>
                  <a:pt x="34061" y="14058"/>
                  <a:pt x="37655" y="7023"/>
                  <a:pt x="41275" y="0"/>
                </a:cubicBezTo>
                <a:lnTo>
                  <a:pt x="52159" y="0"/>
                </a:lnTo>
                <a:lnTo>
                  <a:pt x="10820" y="79197"/>
                </a:lnTo>
                <a:cubicBezTo>
                  <a:pt x="7213" y="79197"/>
                  <a:pt x="3594" y="79197"/>
                  <a:pt x="0" y="79222"/>
                </a:cubicBezTo>
                <a:lnTo>
                  <a:pt x="24727" y="31673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7" name="Freeform 3"/>
          <p:cNvSpPr/>
          <p:nvPr/>
        </p:nvSpPr>
        <p:spPr>
          <a:xfrm>
            <a:off x="5867640" y="440640"/>
            <a:ext cx="69120" cy="51840"/>
          </a:xfrm>
          <a:custGeom>
            <a:avLst/>
            <a:gdLst>
              <a:gd name="textAreaLeft" fmla="*/ 0 w 69120"/>
              <a:gd name="textAreaRight" fmla="*/ 69480 w 691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69354" h="52184">
                <a:moveTo>
                  <a:pt x="0" y="17335"/>
                </a:moveTo>
                <a:lnTo>
                  <a:pt x="0" y="52184"/>
                </a:lnTo>
                <a:lnTo>
                  <a:pt x="8115" y="52184"/>
                </a:lnTo>
                <a:lnTo>
                  <a:pt x="8115" y="17310"/>
                </a:lnTo>
                <a:cubicBezTo>
                  <a:pt x="9347" y="12052"/>
                  <a:pt x="14109" y="8331"/>
                  <a:pt x="19468" y="8381"/>
                </a:cubicBezTo>
                <a:cubicBezTo>
                  <a:pt x="24777" y="8458"/>
                  <a:pt x="29413" y="12153"/>
                  <a:pt x="30607" y="17335"/>
                </a:cubicBezTo>
                <a:lnTo>
                  <a:pt x="30607" y="52184"/>
                </a:lnTo>
                <a:lnTo>
                  <a:pt x="38747" y="52184"/>
                </a:lnTo>
                <a:lnTo>
                  <a:pt x="38747" y="17335"/>
                </a:lnTo>
                <a:cubicBezTo>
                  <a:pt x="39954" y="12077"/>
                  <a:pt x="44703" y="8331"/>
                  <a:pt x="50076" y="8381"/>
                </a:cubicBezTo>
                <a:cubicBezTo>
                  <a:pt x="55359" y="8432"/>
                  <a:pt x="60032" y="12153"/>
                  <a:pt x="61239" y="17335"/>
                </a:cubicBezTo>
                <a:lnTo>
                  <a:pt x="61239" y="52184"/>
                </a:lnTo>
                <a:lnTo>
                  <a:pt x="69354" y="52184"/>
                </a:lnTo>
                <a:lnTo>
                  <a:pt x="69354" y="17335"/>
                </a:lnTo>
                <a:cubicBezTo>
                  <a:pt x="67221" y="7061"/>
                  <a:pt x="58864" y="-25"/>
                  <a:pt x="50076" y="0"/>
                </a:cubicBezTo>
                <a:cubicBezTo>
                  <a:pt x="41097" y="25"/>
                  <a:pt x="35496" y="7442"/>
                  <a:pt x="34797" y="8356"/>
                </a:cubicBezTo>
                <a:cubicBezTo>
                  <a:pt x="34112" y="7416"/>
                  <a:pt x="28447" y="50"/>
                  <a:pt x="19443" y="0"/>
                </a:cubicBezTo>
                <a:cubicBezTo>
                  <a:pt x="10617" y="-25"/>
                  <a:pt x="2184" y="7035"/>
                  <a:pt x="0" y="1733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8" name="Freeform 3"/>
          <p:cNvSpPr/>
          <p:nvPr/>
        </p:nvSpPr>
        <p:spPr>
          <a:xfrm>
            <a:off x="6003360" y="441000"/>
            <a:ext cx="38520" cy="51840"/>
          </a:xfrm>
          <a:custGeom>
            <a:avLst/>
            <a:gdLst>
              <a:gd name="textAreaLeft" fmla="*/ 0 w 38520"/>
              <a:gd name="textAreaRight" fmla="*/ 38880 w 385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8722" h="52235">
                <a:moveTo>
                  <a:pt x="38722" y="17310"/>
                </a:moveTo>
                <a:cubicBezTo>
                  <a:pt x="37630" y="7531"/>
                  <a:pt x="29298" y="50"/>
                  <a:pt x="19443" y="0"/>
                </a:cubicBezTo>
                <a:cubicBezTo>
                  <a:pt x="9626" y="-76"/>
                  <a:pt x="1219" y="7315"/>
                  <a:pt x="0" y="17056"/>
                </a:cubicBezTo>
                <a:lnTo>
                  <a:pt x="0" y="52235"/>
                </a:lnTo>
                <a:lnTo>
                  <a:pt x="8115" y="52235"/>
                </a:lnTo>
                <a:lnTo>
                  <a:pt x="8115" y="17310"/>
                </a:lnTo>
                <a:cubicBezTo>
                  <a:pt x="9334" y="12026"/>
                  <a:pt x="14071" y="8280"/>
                  <a:pt x="19443" y="8331"/>
                </a:cubicBezTo>
                <a:cubicBezTo>
                  <a:pt x="24752" y="8356"/>
                  <a:pt x="29426" y="12103"/>
                  <a:pt x="30607" y="17310"/>
                </a:cubicBezTo>
                <a:lnTo>
                  <a:pt x="30607" y="52235"/>
                </a:lnTo>
                <a:lnTo>
                  <a:pt x="38696" y="52235"/>
                </a:lnTo>
                <a:cubicBezTo>
                  <a:pt x="38722" y="40601"/>
                  <a:pt x="38722" y="28943"/>
                  <a:pt x="38722" y="1731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9" name="Freeform 3"/>
          <p:cNvSpPr/>
          <p:nvPr/>
        </p:nvSpPr>
        <p:spPr>
          <a:xfrm>
            <a:off x="373320" y="3002400"/>
            <a:ext cx="1034280" cy="165960"/>
          </a:xfrm>
          <a:custGeom>
            <a:avLst/>
            <a:gdLst>
              <a:gd name="textAreaLeft" fmla="*/ 0 w 1034280"/>
              <a:gd name="textAreaRight" fmla="*/ 1034640 w 1034280"/>
              <a:gd name="textAreaTop" fmla="*/ 0 h 165960"/>
              <a:gd name="textAreaBottom" fmla="*/ 166320 h 165960"/>
            </a:gdLst>
            <a:ahLst/>
            <a:rect l="textAreaLeft" t="textAreaTop" r="textAreaRight" b="textAreaBottom"/>
            <a:pathLst>
              <a:path w="1034719" h="166484">
                <a:moveTo>
                  <a:pt x="1034719" y="83223"/>
                </a:moveTo>
                <a:cubicBezTo>
                  <a:pt x="1034719" y="129184"/>
                  <a:pt x="994956" y="166484"/>
                  <a:pt x="945946" y="166484"/>
                </a:cubicBezTo>
                <a:lnTo>
                  <a:pt x="88785" y="166484"/>
                </a:lnTo>
                <a:cubicBezTo>
                  <a:pt x="39738" y="166484"/>
                  <a:pt x="0" y="129184"/>
                  <a:pt x="0" y="83223"/>
                </a:cubicBezTo>
                <a:cubicBezTo>
                  <a:pt x="0" y="37261"/>
                  <a:pt x="39738" y="0"/>
                  <a:pt x="88785" y="0"/>
                </a:cubicBezTo>
                <a:lnTo>
                  <a:pt x="945946" y="0"/>
                </a:lnTo>
                <a:cubicBezTo>
                  <a:pt x="994956" y="0"/>
                  <a:pt x="1034719" y="37261"/>
                  <a:pt x="1034719" y="8322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1301040" y="732600"/>
            <a:ext cx="27720" cy="99720"/>
          </a:xfrm>
          <a:custGeom>
            <a:avLst/>
            <a:gdLst>
              <a:gd name="textAreaLeft" fmla="*/ 0 w 27720"/>
              <a:gd name="textAreaRight" fmla="*/ 28080 w 277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27901" h="100202">
                <a:moveTo>
                  <a:pt x="18821" y="100202"/>
                </a:moveTo>
                <a:cubicBezTo>
                  <a:pt x="6273" y="86486"/>
                  <a:pt x="0" y="69888"/>
                  <a:pt x="0" y="50419"/>
                </a:cubicBezTo>
                <a:cubicBezTo>
                  <a:pt x="0" y="30695"/>
                  <a:pt x="6273" y="13881"/>
                  <a:pt x="18821" y="0"/>
                </a:cubicBezTo>
                <a:lnTo>
                  <a:pt x="27901" y="0"/>
                </a:lnTo>
                <a:cubicBezTo>
                  <a:pt x="15405" y="14236"/>
                  <a:pt x="9169" y="31013"/>
                  <a:pt x="9169" y="50317"/>
                </a:cubicBezTo>
                <a:cubicBezTo>
                  <a:pt x="9169" y="69329"/>
                  <a:pt x="15379" y="85966"/>
                  <a:pt x="27787" y="100202"/>
                </a:cubicBezTo>
                <a:lnTo>
                  <a:pt x="18821" y="10020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1" name="Freeform 3"/>
          <p:cNvSpPr/>
          <p:nvPr/>
        </p:nvSpPr>
        <p:spPr>
          <a:xfrm>
            <a:off x="1476720" y="736920"/>
            <a:ext cx="42120" cy="78120"/>
          </a:xfrm>
          <a:custGeom>
            <a:avLst/>
            <a:gdLst>
              <a:gd name="textAreaLeft" fmla="*/ 0 w 42120"/>
              <a:gd name="textAreaRight" fmla="*/ 42480 w 42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42506" h="78625">
                <a:moveTo>
                  <a:pt x="0" y="55359"/>
                </a:moveTo>
                <a:lnTo>
                  <a:pt x="9232" y="54089"/>
                </a:lnTo>
                <a:cubicBezTo>
                  <a:pt x="9474" y="59994"/>
                  <a:pt x="10579" y="64046"/>
                  <a:pt x="12547" y="66217"/>
                </a:cubicBezTo>
                <a:cubicBezTo>
                  <a:pt x="14528" y="68402"/>
                  <a:pt x="17233" y="69494"/>
                  <a:pt x="20726" y="69494"/>
                </a:cubicBezTo>
                <a:cubicBezTo>
                  <a:pt x="23291" y="69494"/>
                  <a:pt x="25501" y="68897"/>
                  <a:pt x="27368" y="67741"/>
                </a:cubicBezTo>
                <a:cubicBezTo>
                  <a:pt x="29235" y="66548"/>
                  <a:pt x="30505" y="64960"/>
                  <a:pt x="31216" y="62928"/>
                </a:cubicBezTo>
                <a:cubicBezTo>
                  <a:pt x="31927" y="60909"/>
                  <a:pt x="32270" y="57696"/>
                  <a:pt x="32270" y="53251"/>
                </a:cubicBezTo>
                <a:lnTo>
                  <a:pt x="32270" y="0"/>
                </a:lnTo>
                <a:lnTo>
                  <a:pt x="42506" y="0"/>
                </a:lnTo>
                <a:lnTo>
                  <a:pt x="42506" y="52679"/>
                </a:lnTo>
                <a:cubicBezTo>
                  <a:pt x="42506" y="59143"/>
                  <a:pt x="41719" y="64147"/>
                  <a:pt x="40157" y="67703"/>
                </a:cubicBezTo>
                <a:cubicBezTo>
                  <a:pt x="38595" y="71259"/>
                  <a:pt x="36118" y="73964"/>
                  <a:pt x="32715" y="75819"/>
                </a:cubicBezTo>
                <a:cubicBezTo>
                  <a:pt x="29336" y="77685"/>
                  <a:pt x="25349" y="78625"/>
                  <a:pt x="20777" y="78625"/>
                </a:cubicBezTo>
                <a:cubicBezTo>
                  <a:pt x="13995" y="78625"/>
                  <a:pt x="8788" y="76669"/>
                  <a:pt x="5194" y="72770"/>
                </a:cubicBezTo>
                <a:cubicBezTo>
                  <a:pt x="1587" y="68846"/>
                  <a:pt x="-139" y="63055"/>
                  <a:pt x="0" y="55359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2" name="Freeform 3"/>
          <p:cNvSpPr/>
          <p:nvPr/>
        </p:nvSpPr>
        <p:spPr>
          <a:xfrm>
            <a:off x="1535400" y="736920"/>
            <a:ext cx="73440" cy="77040"/>
          </a:xfrm>
          <a:custGeom>
            <a:avLst/>
            <a:gdLst>
              <a:gd name="textAreaLeft" fmla="*/ 0 w 73440"/>
              <a:gd name="textAreaRight" fmla="*/ 73800 w 73440"/>
              <a:gd name="textAreaTop" fmla="*/ 0 h 77040"/>
              <a:gd name="textAreaBottom" fmla="*/ 77400 h 77040"/>
            </a:gdLst>
            <a:ahLst/>
            <a:rect l="textAreaLeft" t="textAreaTop" r="textAreaRight" b="textAreaBottom"/>
            <a:pathLst>
              <a:path w="73786" h="77304">
                <a:moveTo>
                  <a:pt x="0" y="77304"/>
                </a:moveTo>
                <a:lnTo>
                  <a:pt x="0" y="0"/>
                </a:lnTo>
                <a:lnTo>
                  <a:pt x="15405" y="0"/>
                </a:lnTo>
                <a:lnTo>
                  <a:pt x="33693" y="54737"/>
                </a:lnTo>
                <a:cubicBezTo>
                  <a:pt x="35382" y="59829"/>
                  <a:pt x="36626" y="63652"/>
                  <a:pt x="37388" y="66179"/>
                </a:cubicBezTo>
                <a:cubicBezTo>
                  <a:pt x="38277" y="63360"/>
                  <a:pt x="39636" y="59232"/>
                  <a:pt x="41516" y="53771"/>
                </a:cubicBezTo>
                <a:lnTo>
                  <a:pt x="60020" y="0"/>
                </a:lnTo>
                <a:lnTo>
                  <a:pt x="73786" y="0"/>
                </a:lnTo>
                <a:lnTo>
                  <a:pt x="73786" y="77304"/>
                </a:lnTo>
                <a:lnTo>
                  <a:pt x="63919" y="77304"/>
                </a:lnTo>
                <a:lnTo>
                  <a:pt x="63919" y="12598"/>
                </a:lnTo>
                <a:lnTo>
                  <a:pt x="41452" y="77304"/>
                </a:lnTo>
                <a:lnTo>
                  <a:pt x="32219" y="77304"/>
                </a:lnTo>
                <a:lnTo>
                  <a:pt x="9855" y="11480"/>
                </a:lnTo>
                <a:lnTo>
                  <a:pt x="9855" y="77304"/>
                </a:lnTo>
                <a:lnTo>
                  <a:pt x="0" y="77304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3" name="Freeform 3"/>
          <p:cNvSpPr/>
          <p:nvPr/>
        </p:nvSpPr>
        <p:spPr>
          <a:xfrm>
            <a:off x="1621080" y="781560"/>
            <a:ext cx="28800" cy="9360"/>
          </a:xfrm>
          <a:custGeom>
            <a:avLst/>
            <a:gdLst>
              <a:gd name="textAreaLeft" fmla="*/ 0 w 28800"/>
              <a:gd name="textAreaRight" fmla="*/ 29160 w 2880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9171" h="9550">
                <a:moveTo>
                  <a:pt x="0" y="0"/>
                </a:moveTo>
                <a:lnTo>
                  <a:pt x="29171" y="0"/>
                </a:lnTo>
                <a:lnTo>
                  <a:pt x="29171" y="9550"/>
                </a:lnTo>
                <a:lnTo>
                  <a:pt x="0" y="9550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4" name="Freeform 3"/>
          <p:cNvSpPr/>
          <p:nvPr/>
        </p:nvSpPr>
        <p:spPr>
          <a:xfrm>
            <a:off x="1665360" y="736560"/>
            <a:ext cx="28080" cy="77400"/>
          </a:xfrm>
          <a:custGeom>
            <a:avLst/>
            <a:gdLst>
              <a:gd name="textAreaLeft" fmla="*/ 0 w 28080"/>
              <a:gd name="textAreaRight" fmla="*/ 28440 w 2808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28473" h="77622">
                <a:moveTo>
                  <a:pt x="28473" y="77622"/>
                </a:moveTo>
                <a:lnTo>
                  <a:pt x="18986" y="77622"/>
                </a:lnTo>
                <a:lnTo>
                  <a:pt x="18986" y="17132"/>
                </a:lnTo>
                <a:cubicBezTo>
                  <a:pt x="16700" y="19316"/>
                  <a:pt x="13703" y="21501"/>
                  <a:pt x="9994" y="23685"/>
                </a:cubicBezTo>
                <a:cubicBezTo>
                  <a:pt x="6286" y="25857"/>
                  <a:pt x="2946" y="27495"/>
                  <a:pt x="0" y="28575"/>
                </a:cubicBezTo>
                <a:lnTo>
                  <a:pt x="0" y="19405"/>
                </a:lnTo>
                <a:cubicBezTo>
                  <a:pt x="5308" y="16916"/>
                  <a:pt x="9943" y="13881"/>
                  <a:pt x="13919" y="10337"/>
                </a:cubicBezTo>
                <a:cubicBezTo>
                  <a:pt x="17894" y="6781"/>
                  <a:pt x="20713" y="3340"/>
                  <a:pt x="22364" y="0"/>
                </a:cubicBezTo>
                <a:lnTo>
                  <a:pt x="28473" y="0"/>
                </a:lnTo>
                <a:lnTo>
                  <a:pt x="28473" y="7762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1855080" y="781560"/>
            <a:ext cx="28800" cy="9360"/>
          </a:xfrm>
          <a:custGeom>
            <a:avLst/>
            <a:gdLst>
              <a:gd name="textAreaLeft" fmla="*/ 0 w 28800"/>
              <a:gd name="textAreaRight" fmla="*/ 29160 w 2880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9171" h="9550">
                <a:moveTo>
                  <a:pt x="0" y="0"/>
                </a:moveTo>
                <a:lnTo>
                  <a:pt x="29171" y="0"/>
                </a:lnTo>
                <a:lnTo>
                  <a:pt x="29171" y="9550"/>
                </a:lnTo>
                <a:lnTo>
                  <a:pt x="0" y="9550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6" name="Freeform 3"/>
          <p:cNvSpPr/>
          <p:nvPr/>
        </p:nvSpPr>
        <p:spPr>
          <a:xfrm>
            <a:off x="1952280" y="738000"/>
            <a:ext cx="50760" cy="77400"/>
          </a:xfrm>
          <a:custGeom>
            <a:avLst/>
            <a:gdLst>
              <a:gd name="textAreaLeft" fmla="*/ 0 w 50760"/>
              <a:gd name="textAreaRight" fmla="*/ 51120 w 5076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51257" h="77584">
                <a:moveTo>
                  <a:pt x="0" y="56006"/>
                </a:moveTo>
                <a:lnTo>
                  <a:pt x="9969" y="55168"/>
                </a:lnTo>
                <a:cubicBezTo>
                  <a:pt x="10718" y="60020"/>
                  <a:pt x="12433" y="63677"/>
                  <a:pt x="15112" y="66103"/>
                </a:cubicBezTo>
                <a:cubicBezTo>
                  <a:pt x="17792" y="68554"/>
                  <a:pt x="21043" y="69773"/>
                  <a:pt x="24841" y="69773"/>
                </a:cubicBezTo>
                <a:cubicBezTo>
                  <a:pt x="29413" y="69773"/>
                  <a:pt x="33273" y="68046"/>
                  <a:pt x="36448" y="64617"/>
                </a:cubicBezTo>
                <a:cubicBezTo>
                  <a:pt x="39611" y="61163"/>
                  <a:pt x="41186" y="56591"/>
                  <a:pt x="41186" y="50901"/>
                </a:cubicBezTo>
                <a:cubicBezTo>
                  <a:pt x="41186" y="45491"/>
                  <a:pt x="39674" y="41211"/>
                  <a:pt x="36626" y="38074"/>
                </a:cubicBezTo>
                <a:cubicBezTo>
                  <a:pt x="33591" y="34950"/>
                  <a:pt x="29603" y="33388"/>
                  <a:pt x="24676" y="33388"/>
                </a:cubicBezTo>
                <a:cubicBezTo>
                  <a:pt x="21627" y="33388"/>
                  <a:pt x="18859" y="34074"/>
                  <a:pt x="16408" y="35471"/>
                </a:cubicBezTo>
                <a:cubicBezTo>
                  <a:pt x="13944" y="36855"/>
                  <a:pt x="12001" y="38671"/>
                  <a:pt x="10604" y="40881"/>
                </a:cubicBezTo>
                <a:lnTo>
                  <a:pt x="1689" y="39712"/>
                </a:lnTo>
                <a:lnTo>
                  <a:pt x="9181" y="0"/>
                </a:lnTo>
                <a:lnTo>
                  <a:pt x="47625" y="0"/>
                </a:lnTo>
                <a:lnTo>
                  <a:pt x="47625" y="9080"/>
                </a:lnTo>
                <a:lnTo>
                  <a:pt x="16776" y="9080"/>
                </a:lnTo>
                <a:lnTo>
                  <a:pt x="12611" y="29857"/>
                </a:lnTo>
                <a:cubicBezTo>
                  <a:pt x="17246" y="26619"/>
                  <a:pt x="22110" y="25006"/>
                  <a:pt x="27215" y="25006"/>
                </a:cubicBezTo>
                <a:cubicBezTo>
                  <a:pt x="33972" y="25006"/>
                  <a:pt x="39661" y="27330"/>
                  <a:pt x="44297" y="32016"/>
                </a:cubicBezTo>
                <a:cubicBezTo>
                  <a:pt x="48945" y="36690"/>
                  <a:pt x="51257" y="42710"/>
                  <a:pt x="51257" y="50050"/>
                </a:cubicBezTo>
                <a:cubicBezTo>
                  <a:pt x="51257" y="57048"/>
                  <a:pt x="49225" y="63106"/>
                  <a:pt x="45148" y="68186"/>
                </a:cubicBezTo>
                <a:cubicBezTo>
                  <a:pt x="40182" y="74447"/>
                  <a:pt x="33426" y="77584"/>
                  <a:pt x="24841" y="77584"/>
                </a:cubicBezTo>
                <a:cubicBezTo>
                  <a:pt x="17805" y="77584"/>
                  <a:pt x="12064" y="75603"/>
                  <a:pt x="7632" y="71666"/>
                </a:cubicBezTo>
                <a:cubicBezTo>
                  <a:pt x="3175" y="67741"/>
                  <a:pt x="634" y="62509"/>
                  <a:pt x="0" y="56006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7" name="Freeform 3"/>
          <p:cNvSpPr/>
          <p:nvPr/>
        </p:nvSpPr>
        <p:spPr>
          <a:xfrm>
            <a:off x="2007720" y="735480"/>
            <a:ext cx="29520" cy="79560"/>
          </a:xfrm>
          <a:custGeom>
            <a:avLst/>
            <a:gdLst>
              <a:gd name="textAreaLeft" fmla="*/ 0 w 29520"/>
              <a:gd name="textAreaRight" fmla="*/ 29880 w 295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9997" h="79946">
                <a:moveTo>
                  <a:pt x="14998" y="0"/>
                </a:moveTo>
                <a:lnTo>
                  <a:pt x="14998" y="79946"/>
                </a:lnTo>
              </a:path>
            </a:pathLst>
          </a:custGeom>
          <a:noFill/>
          <a:ln w="25400">
            <a:solidFill>
              <a:srgbClr val="231f2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920" bIns="34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3"/>
          <p:cNvSpPr/>
          <p:nvPr/>
        </p:nvSpPr>
        <p:spPr>
          <a:xfrm>
            <a:off x="2626560" y="732600"/>
            <a:ext cx="27360" cy="99720"/>
          </a:xfrm>
          <a:custGeom>
            <a:avLst/>
            <a:gdLst>
              <a:gd name="textAreaLeft" fmla="*/ 0 w 27360"/>
              <a:gd name="textAreaRight" fmla="*/ 27720 w 2736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27800" h="100202">
                <a:moveTo>
                  <a:pt x="9080" y="100202"/>
                </a:moveTo>
                <a:lnTo>
                  <a:pt x="0" y="100202"/>
                </a:lnTo>
                <a:cubicBezTo>
                  <a:pt x="12496" y="85991"/>
                  <a:pt x="18732" y="69202"/>
                  <a:pt x="18732" y="49784"/>
                </a:cubicBezTo>
                <a:cubicBezTo>
                  <a:pt x="18732" y="30721"/>
                  <a:pt x="12522" y="14135"/>
                  <a:pt x="114" y="0"/>
                </a:cubicBezTo>
                <a:lnTo>
                  <a:pt x="9080" y="0"/>
                </a:lnTo>
                <a:cubicBezTo>
                  <a:pt x="21551" y="13614"/>
                  <a:pt x="27800" y="30200"/>
                  <a:pt x="27800" y="49784"/>
                </a:cubicBezTo>
                <a:cubicBezTo>
                  <a:pt x="27800" y="69583"/>
                  <a:pt x="21551" y="86385"/>
                  <a:pt x="9080" y="10020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Freeform 3"/>
          <p:cNvSpPr/>
          <p:nvPr/>
        </p:nvSpPr>
        <p:spPr>
          <a:xfrm>
            <a:off x="367920" y="4842720"/>
            <a:ext cx="820080" cy="165960"/>
          </a:xfrm>
          <a:custGeom>
            <a:avLst/>
            <a:gdLst>
              <a:gd name="textAreaLeft" fmla="*/ 0 w 820080"/>
              <a:gd name="textAreaRight" fmla="*/ 820440 w 820080"/>
              <a:gd name="textAreaTop" fmla="*/ 0 h 165960"/>
              <a:gd name="textAreaBottom" fmla="*/ 166320 h 165960"/>
            </a:gdLst>
            <a:ahLst/>
            <a:rect l="textAreaLeft" t="textAreaTop" r="textAreaRight" b="textAreaBottom"/>
            <a:pathLst>
              <a:path w="820305" h="166471">
                <a:moveTo>
                  <a:pt x="820305" y="83223"/>
                </a:moveTo>
                <a:cubicBezTo>
                  <a:pt x="820305" y="129184"/>
                  <a:pt x="780541" y="166471"/>
                  <a:pt x="731532" y="166471"/>
                </a:cubicBezTo>
                <a:lnTo>
                  <a:pt x="88773" y="166471"/>
                </a:lnTo>
                <a:cubicBezTo>
                  <a:pt x="39738" y="166471"/>
                  <a:pt x="0" y="129184"/>
                  <a:pt x="0" y="83223"/>
                </a:cubicBezTo>
                <a:cubicBezTo>
                  <a:pt x="0" y="37262"/>
                  <a:pt x="39738" y="0"/>
                  <a:pt x="88773" y="0"/>
                </a:cubicBezTo>
                <a:lnTo>
                  <a:pt x="731532" y="0"/>
                </a:lnTo>
                <a:cubicBezTo>
                  <a:pt x="780541" y="0"/>
                  <a:pt x="820305" y="37262"/>
                  <a:pt x="820305" y="8322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0" name="Freeform 3"/>
          <p:cNvSpPr/>
          <p:nvPr/>
        </p:nvSpPr>
        <p:spPr>
          <a:xfrm>
            <a:off x="1301040" y="4881960"/>
            <a:ext cx="27720" cy="99720"/>
          </a:xfrm>
          <a:custGeom>
            <a:avLst/>
            <a:gdLst>
              <a:gd name="textAreaLeft" fmla="*/ 0 w 27720"/>
              <a:gd name="textAreaRight" fmla="*/ 28080 w 277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27901" h="100190">
                <a:moveTo>
                  <a:pt x="18821" y="100190"/>
                </a:moveTo>
                <a:cubicBezTo>
                  <a:pt x="6273" y="86486"/>
                  <a:pt x="0" y="69900"/>
                  <a:pt x="0" y="50419"/>
                </a:cubicBezTo>
                <a:cubicBezTo>
                  <a:pt x="0" y="30683"/>
                  <a:pt x="6273" y="13893"/>
                  <a:pt x="18821" y="0"/>
                </a:cubicBezTo>
                <a:lnTo>
                  <a:pt x="27901" y="0"/>
                </a:lnTo>
                <a:cubicBezTo>
                  <a:pt x="15405" y="14236"/>
                  <a:pt x="9169" y="31013"/>
                  <a:pt x="9169" y="50304"/>
                </a:cubicBezTo>
                <a:cubicBezTo>
                  <a:pt x="9169" y="69329"/>
                  <a:pt x="15379" y="85953"/>
                  <a:pt x="27787" y="100190"/>
                </a:cubicBezTo>
                <a:lnTo>
                  <a:pt x="18821" y="10019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1" name="Freeform 3"/>
          <p:cNvSpPr/>
          <p:nvPr/>
        </p:nvSpPr>
        <p:spPr>
          <a:xfrm>
            <a:off x="1476720" y="4886280"/>
            <a:ext cx="42120" cy="78120"/>
          </a:xfrm>
          <a:custGeom>
            <a:avLst/>
            <a:gdLst>
              <a:gd name="textAreaLeft" fmla="*/ 0 w 42120"/>
              <a:gd name="textAreaRight" fmla="*/ 42480 w 42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42506" h="78625">
                <a:moveTo>
                  <a:pt x="0" y="55372"/>
                </a:moveTo>
                <a:lnTo>
                  <a:pt x="9232" y="54102"/>
                </a:lnTo>
                <a:cubicBezTo>
                  <a:pt x="9474" y="60020"/>
                  <a:pt x="10579" y="64071"/>
                  <a:pt x="12547" y="66230"/>
                </a:cubicBezTo>
                <a:cubicBezTo>
                  <a:pt x="14528" y="68414"/>
                  <a:pt x="17233" y="69494"/>
                  <a:pt x="20726" y="69494"/>
                </a:cubicBezTo>
                <a:cubicBezTo>
                  <a:pt x="23291" y="69494"/>
                  <a:pt x="25501" y="68922"/>
                  <a:pt x="27368" y="67741"/>
                </a:cubicBezTo>
                <a:cubicBezTo>
                  <a:pt x="29235" y="66573"/>
                  <a:pt x="30505" y="64960"/>
                  <a:pt x="31216" y="62953"/>
                </a:cubicBezTo>
                <a:cubicBezTo>
                  <a:pt x="31927" y="60921"/>
                  <a:pt x="32270" y="57696"/>
                  <a:pt x="32270" y="53263"/>
                </a:cubicBezTo>
                <a:lnTo>
                  <a:pt x="32270" y="0"/>
                </a:lnTo>
                <a:lnTo>
                  <a:pt x="42506" y="0"/>
                </a:lnTo>
                <a:lnTo>
                  <a:pt x="42506" y="52679"/>
                </a:lnTo>
                <a:cubicBezTo>
                  <a:pt x="42506" y="59156"/>
                  <a:pt x="41719" y="64160"/>
                  <a:pt x="40157" y="67716"/>
                </a:cubicBezTo>
                <a:cubicBezTo>
                  <a:pt x="38595" y="71259"/>
                  <a:pt x="36118" y="73964"/>
                  <a:pt x="32715" y="75831"/>
                </a:cubicBezTo>
                <a:cubicBezTo>
                  <a:pt x="29336" y="77698"/>
                  <a:pt x="25349" y="78625"/>
                  <a:pt x="20777" y="78625"/>
                </a:cubicBezTo>
                <a:cubicBezTo>
                  <a:pt x="13995" y="78625"/>
                  <a:pt x="8788" y="76682"/>
                  <a:pt x="5194" y="72771"/>
                </a:cubicBezTo>
                <a:cubicBezTo>
                  <a:pt x="1587" y="68872"/>
                  <a:pt x="-139" y="63068"/>
                  <a:pt x="0" y="55372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2" name="Freeform 3"/>
          <p:cNvSpPr/>
          <p:nvPr/>
        </p:nvSpPr>
        <p:spPr>
          <a:xfrm>
            <a:off x="1535400" y="4886280"/>
            <a:ext cx="73440" cy="77040"/>
          </a:xfrm>
          <a:custGeom>
            <a:avLst/>
            <a:gdLst>
              <a:gd name="textAreaLeft" fmla="*/ 0 w 73440"/>
              <a:gd name="textAreaRight" fmla="*/ 73800 w 73440"/>
              <a:gd name="textAreaTop" fmla="*/ 0 h 77040"/>
              <a:gd name="textAreaBottom" fmla="*/ 77400 h 77040"/>
            </a:gdLst>
            <a:ahLst/>
            <a:rect l="textAreaLeft" t="textAreaTop" r="textAreaRight" b="textAreaBottom"/>
            <a:pathLst>
              <a:path w="73786" h="77317">
                <a:moveTo>
                  <a:pt x="0" y="77317"/>
                </a:moveTo>
                <a:lnTo>
                  <a:pt x="0" y="0"/>
                </a:lnTo>
                <a:lnTo>
                  <a:pt x="15405" y="0"/>
                </a:lnTo>
                <a:lnTo>
                  <a:pt x="33693" y="54749"/>
                </a:lnTo>
                <a:cubicBezTo>
                  <a:pt x="35382" y="59842"/>
                  <a:pt x="36626" y="63652"/>
                  <a:pt x="37388" y="66192"/>
                </a:cubicBezTo>
                <a:cubicBezTo>
                  <a:pt x="38277" y="63372"/>
                  <a:pt x="39636" y="59245"/>
                  <a:pt x="41516" y="53797"/>
                </a:cubicBezTo>
                <a:lnTo>
                  <a:pt x="60020" y="0"/>
                </a:lnTo>
                <a:lnTo>
                  <a:pt x="73786" y="0"/>
                </a:lnTo>
                <a:lnTo>
                  <a:pt x="73786" y="77317"/>
                </a:lnTo>
                <a:lnTo>
                  <a:pt x="63919" y="77317"/>
                </a:lnTo>
                <a:lnTo>
                  <a:pt x="63919" y="12611"/>
                </a:lnTo>
                <a:lnTo>
                  <a:pt x="41452" y="77317"/>
                </a:lnTo>
                <a:lnTo>
                  <a:pt x="32219" y="77317"/>
                </a:lnTo>
                <a:lnTo>
                  <a:pt x="9855" y="11506"/>
                </a:lnTo>
                <a:lnTo>
                  <a:pt x="9855" y="77317"/>
                </a:lnTo>
                <a:lnTo>
                  <a:pt x="0" y="7731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3" name="Freeform 3"/>
          <p:cNvSpPr/>
          <p:nvPr/>
        </p:nvSpPr>
        <p:spPr>
          <a:xfrm>
            <a:off x="1621080" y="4930920"/>
            <a:ext cx="28800" cy="9000"/>
          </a:xfrm>
          <a:custGeom>
            <a:avLst/>
            <a:gdLst>
              <a:gd name="textAreaLeft" fmla="*/ 0 w 28800"/>
              <a:gd name="textAreaRight" fmla="*/ 29160 w 28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9171" h="9537">
                <a:moveTo>
                  <a:pt x="0" y="0"/>
                </a:moveTo>
                <a:lnTo>
                  <a:pt x="29171" y="0"/>
                </a:lnTo>
                <a:lnTo>
                  <a:pt x="29171" y="9537"/>
                </a:lnTo>
                <a:lnTo>
                  <a:pt x="0" y="9537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4" name="Freeform 3"/>
          <p:cNvSpPr/>
          <p:nvPr/>
        </p:nvSpPr>
        <p:spPr>
          <a:xfrm>
            <a:off x="1665360" y="4885920"/>
            <a:ext cx="28080" cy="77400"/>
          </a:xfrm>
          <a:custGeom>
            <a:avLst/>
            <a:gdLst>
              <a:gd name="textAreaLeft" fmla="*/ 0 w 28080"/>
              <a:gd name="textAreaRight" fmla="*/ 28440 w 2808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28473" h="77622">
                <a:moveTo>
                  <a:pt x="28473" y="77622"/>
                </a:moveTo>
                <a:lnTo>
                  <a:pt x="18986" y="77622"/>
                </a:lnTo>
                <a:lnTo>
                  <a:pt x="18986" y="17132"/>
                </a:lnTo>
                <a:cubicBezTo>
                  <a:pt x="16700" y="19316"/>
                  <a:pt x="13703" y="21488"/>
                  <a:pt x="9994" y="23672"/>
                </a:cubicBezTo>
                <a:cubicBezTo>
                  <a:pt x="6286" y="25856"/>
                  <a:pt x="2946" y="27495"/>
                  <a:pt x="0" y="28587"/>
                </a:cubicBezTo>
                <a:lnTo>
                  <a:pt x="0" y="19405"/>
                </a:lnTo>
                <a:cubicBezTo>
                  <a:pt x="5308" y="16903"/>
                  <a:pt x="9943" y="13880"/>
                  <a:pt x="13919" y="10324"/>
                </a:cubicBezTo>
                <a:cubicBezTo>
                  <a:pt x="17894" y="6781"/>
                  <a:pt x="20713" y="3327"/>
                  <a:pt x="22364" y="0"/>
                </a:cubicBezTo>
                <a:lnTo>
                  <a:pt x="28473" y="0"/>
                </a:lnTo>
                <a:lnTo>
                  <a:pt x="28473" y="77622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5" name="Freeform 3"/>
          <p:cNvSpPr/>
          <p:nvPr/>
        </p:nvSpPr>
        <p:spPr>
          <a:xfrm>
            <a:off x="1855080" y="4930920"/>
            <a:ext cx="28800" cy="9000"/>
          </a:xfrm>
          <a:custGeom>
            <a:avLst/>
            <a:gdLst>
              <a:gd name="textAreaLeft" fmla="*/ 0 w 28800"/>
              <a:gd name="textAreaRight" fmla="*/ 29160 w 2880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29171" h="9537">
                <a:moveTo>
                  <a:pt x="0" y="0"/>
                </a:moveTo>
                <a:lnTo>
                  <a:pt x="29171" y="0"/>
                </a:lnTo>
                <a:lnTo>
                  <a:pt x="29171" y="9537"/>
                </a:lnTo>
                <a:lnTo>
                  <a:pt x="0" y="9537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6" name="Freeform 3"/>
          <p:cNvSpPr/>
          <p:nvPr/>
        </p:nvSpPr>
        <p:spPr>
          <a:xfrm>
            <a:off x="2476440" y="4881960"/>
            <a:ext cx="27360" cy="99720"/>
          </a:xfrm>
          <a:custGeom>
            <a:avLst/>
            <a:gdLst>
              <a:gd name="textAreaLeft" fmla="*/ 0 w 27360"/>
              <a:gd name="textAreaRight" fmla="*/ 27720 w 2736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27800" h="100190">
                <a:moveTo>
                  <a:pt x="9080" y="100190"/>
                </a:moveTo>
                <a:lnTo>
                  <a:pt x="0" y="100190"/>
                </a:lnTo>
                <a:cubicBezTo>
                  <a:pt x="12496" y="86004"/>
                  <a:pt x="18732" y="69189"/>
                  <a:pt x="18732" y="49783"/>
                </a:cubicBezTo>
                <a:cubicBezTo>
                  <a:pt x="18732" y="30733"/>
                  <a:pt x="12522" y="14147"/>
                  <a:pt x="114" y="0"/>
                </a:cubicBezTo>
                <a:lnTo>
                  <a:pt x="9080" y="0"/>
                </a:lnTo>
                <a:cubicBezTo>
                  <a:pt x="21551" y="13614"/>
                  <a:pt x="27800" y="30200"/>
                  <a:pt x="27800" y="49783"/>
                </a:cubicBezTo>
                <a:cubicBezTo>
                  <a:pt x="27800" y="69583"/>
                  <a:pt x="21551" y="86372"/>
                  <a:pt x="9080" y="100190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7" name="Freeform 3"/>
          <p:cNvSpPr/>
          <p:nvPr/>
        </p:nvSpPr>
        <p:spPr>
          <a:xfrm>
            <a:off x="1473120" y="3330360"/>
            <a:ext cx="2233080" cy="254880"/>
          </a:xfrm>
          <a:custGeom>
            <a:avLst/>
            <a:gdLst>
              <a:gd name="textAreaLeft" fmla="*/ 0 w 2233080"/>
              <a:gd name="textAreaRight" fmla="*/ 2233440 w 2233080"/>
              <a:gd name="textAreaTop" fmla="*/ 0 h 254880"/>
              <a:gd name="textAreaBottom" fmla="*/ 255240 h 254880"/>
            </a:gdLst>
            <a:ahLst/>
            <a:rect l="textAreaLeft" t="textAreaTop" r="textAreaRight" b="textAreaBottom"/>
            <a:pathLst>
              <a:path w="2233498" h="255092">
                <a:moveTo>
                  <a:pt x="2233498" y="95973"/>
                </a:moveTo>
                <a:lnTo>
                  <a:pt x="2233307" y="60997"/>
                </a:lnTo>
                <a:lnTo>
                  <a:pt x="2233307" y="60756"/>
                </a:lnTo>
                <a:lnTo>
                  <a:pt x="2233307" y="60502"/>
                </a:lnTo>
                <a:cubicBezTo>
                  <a:pt x="2233104" y="56057"/>
                  <a:pt x="2232710" y="52438"/>
                  <a:pt x="2232126" y="49136"/>
                </a:cubicBezTo>
                <a:cubicBezTo>
                  <a:pt x="2231745" y="47104"/>
                  <a:pt x="2231288" y="45173"/>
                  <a:pt x="2230704" y="43243"/>
                </a:cubicBezTo>
                <a:cubicBezTo>
                  <a:pt x="2230158" y="41376"/>
                  <a:pt x="2229497" y="39471"/>
                  <a:pt x="2228697" y="37680"/>
                </a:cubicBezTo>
                <a:cubicBezTo>
                  <a:pt x="2227173" y="34010"/>
                  <a:pt x="2225255" y="30441"/>
                  <a:pt x="2223020" y="27190"/>
                </a:cubicBezTo>
                <a:cubicBezTo>
                  <a:pt x="2220798" y="23837"/>
                  <a:pt x="2218245" y="20739"/>
                  <a:pt x="2215438" y="17919"/>
                </a:cubicBezTo>
                <a:cubicBezTo>
                  <a:pt x="2209876" y="12356"/>
                  <a:pt x="2203056" y="7797"/>
                  <a:pt x="2195665" y="4736"/>
                </a:cubicBezTo>
                <a:cubicBezTo>
                  <a:pt x="2188337" y="1689"/>
                  <a:pt x="2180450" y="101"/>
                  <a:pt x="2172576" y="101"/>
                </a:cubicBezTo>
                <a:lnTo>
                  <a:pt x="2172385" y="126"/>
                </a:lnTo>
                <a:lnTo>
                  <a:pt x="1893950" y="126"/>
                </a:lnTo>
                <a:lnTo>
                  <a:pt x="1617675" y="126"/>
                </a:lnTo>
                <a:lnTo>
                  <a:pt x="1479562" y="126"/>
                </a:lnTo>
                <a:lnTo>
                  <a:pt x="1341424" y="126"/>
                </a:lnTo>
                <a:lnTo>
                  <a:pt x="1203312" y="126"/>
                </a:lnTo>
                <a:lnTo>
                  <a:pt x="1065187" y="126"/>
                </a:lnTo>
                <a:lnTo>
                  <a:pt x="927049" y="126"/>
                </a:lnTo>
                <a:lnTo>
                  <a:pt x="788949" y="126"/>
                </a:lnTo>
                <a:lnTo>
                  <a:pt x="650798" y="126"/>
                </a:lnTo>
                <a:lnTo>
                  <a:pt x="581710" y="126"/>
                </a:lnTo>
                <a:lnTo>
                  <a:pt x="512673" y="126"/>
                </a:lnTo>
                <a:lnTo>
                  <a:pt x="443598" y="126"/>
                </a:lnTo>
                <a:lnTo>
                  <a:pt x="374573" y="126"/>
                </a:lnTo>
                <a:lnTo>
                  <a:pt x="305485" y="126"/>
                </a:lnTo>
                <a:lnTo>
                  <a:pt x="270967" y="126"/>
                </a:lnTo>
                <a:lnTo>
                  <a:pt x="236435" y="126"/>
                </a:lnTo>
                <a:lnTo>
                  <a:pt x="201904" y="126"/>
                </a:lnTo>
                <a:lnTo>
                  <a:pt x="167373" y="126"/>
                </a:lnTo>
                <a:lnTo>
                  <a:pt x="155867" y="126"/>
                </a:lnTo>
                <a:lnTo>
                  <a:pt x="144360" y="126"/>
                </a:lnTo>
                <a:lnTo>
                  <a:pt x="132829" y="126"/>
                </a:lnTo>
                <a:lnTo>
                  <a:pt x="115557" y="101"/>
                </a:lnTo>
                <a:lnTo>
                  <a:pt x="104533" y="126"/>
                </a:lnTo>
                <a:lnTo>
                  <a:pt x="97599" y="126"/>
                </a:lnTo>
                <a:lnTo>
                  <a:pt x="90703" y="126"/>
                </a:lnTo>
                <a:lnTo>
                  <a:pt x="87261" y="126"/>
                </a:lnTo>
                <a:cubicBezTo>
                  <a:pt x="81546" y="126"/>
                  <a:pt x="75819" y="50"/>
                  <a:pt x="69773" y="25"/>
                </a:cubicBezTo>
                <a:lnTo>
                  <a:pt x="65735" y="0"/>
                </a:lnTo>
                <a:cubicBezTo>
                  <a:pt x="61823" y="0"/>
                  <a:pt x="57251" y="101"/>
                  <a:pt x="52768" y="698"/>
                </a:cubicBezTo>
                <a:cubicBezTo>
                  <a:pt x="47066" y="1473"/>
                  <a:pt x="41465" y="3085"/>
                  <a:pt x="36156" y="5410"/>
                </a:cubicBezTo>
                <a:cubicBezTo>
                  <a:pt x="30873" y="7797"/>
                  <a:pt x="25971" y="10896"/>
                  <a:pt x="21615" y="14592"/>
                </a:cubicBezTo>
                <a:cubicBezTo>
                  <a:pt x="17233" y="18338"/>
                  <a:pt x="13385" y="22681"/>
                  <a:pt x="10198" y="27482"/>
                </a:cubicBezTo>
                <a:cubicBezTo>
                  <a:pt x="6883" y="32448"/>
                  <a:pt x="4381" y="37706"/>
                  <a:pt x="2794" y="43040"/>
                </a:cubicBezTo>
                <a:cubicBezTo>
                  <a:pt x="2044" y="45567"/>
                  <a:pt x="1435" y="48348"/>
                  <a:pt x="939" y="51498"/>
                </a:cubicBezTo>
                <a:cubicBezTo>
                  <a:pt x="596" y="53860"/>
                  <a:pt x="342" y="56514"/>
                  <a:pt x="152" y="60108"/>
                </a:cubicBezTo>
                <a:lnTo>
                  <a:pt x="101" y="63474"/>
                </a:lnTo>
                <a:cubicBezTo>
                  <a:pt x="101" y="64998"/>
                  <a:pt x="127" y="66509"/>
                  <a:pt x="127" y="67995"/>
                </a:cubicBezTo>
                <a:lnTo>
                  <a:pt x="152" y="147040"/>
                </a:lnTo>
                <a:lnTo>
                  <a:pt x="152" y="147637"/>
                </a:lnTo>
                <a:lnTo>
                  <a:pt x="152" y="165696"/>
                </a:lnTo>
                <a:lnTo>
                  <a:pt x="127" y="167144"/>
                </a:lnTo>
                <a:lnTo>
                  <a:pt x="0" y="183857"/>
                </a:lnTo>
                <a:lnTo>
                  <a:pt x="0" y="184480"/>
                </a:lnTo>
                <a:lnTo>
                  <a:pt x="50" y="185127"/>
                </a:lnTo>
                <a:lnTo>
                  <a:pt x="2349" y="209803"/>
                </a:lnTo>
                <a:lnTo>
                  <a:pt x="2489" y="211086"/>
                </a:lnTo>
                <a:lnTo>
                  <a:pt x="2844" y="212331"/>
                </a:lnTo>
                <a:cubicBezTo>
                  <a:pt x="3962" y="215874"/>
                  <a:pt x="5499" y="219506"/>
                  <a:pt x="7480" y="223075"/>
                </a:cubicBezTo>
                <a:cubicBezTo>
                  <a:pt x="9626" y="226961"/>
                  <a:pt x="12128" y="230593"/>
                  <a:pt x="14909" y="233819"/>
                </a:cubicBezTo>
                <a:cubicBezTo>
                  <a:pt x="17741" y="237108"/>
                  <a:pt x="20967" y="240144"/>
                  <a:pt x="24485" y="242747"/>
                </a:cubicBezTo>
                <a:cubicBezTo>
                  <a:pt x="27952" y="245376"/>
                  <a:pt x="31724" y="247598"/>
                  <a:pt x="35661" y="249415"/>
                </a:cubicBezTo>
                <a:cubicBezTo>
                  <a:pt x="43599" y="253060"/>
                  <a:pt x="52235" y="254977"/>
                  <a:pt x="60845" y="254977"/>
                </a:cubicBezTo>
                <a:lnTo>
                  <a:pt x="61061" y="254977"/>
                </a:lnTo>
                <a:lnTo>
                  <a:pt x="233057" y="254977"/>
                </a:lnTo>
                <a:lnTo>
                  <a:pt x="332320" y="254977"/>
                </a:lnTo>
                <a:lnTo>
                  <a:pt x="609765" y="254977"/>
                </a:lnTo>
                <a:lnTo>
                  <a:pt x="887247" y="254977"/>
                </a:lnTo>
                <a:lnTo>
                  <a:pt x="1025982" y="254977"/>
                </a:lnTo>
                <a:lnTo>
                  <a:pt x="1164717" y="254977"/>
                </a:lnTo>
                <a:lnTo>
                  <a:pt x="1303464" y="254977"/>
                </a:lnTo>
                <a:lnTo>
                  <a:pt x="1442186" y="254977"/>
                </a:lnTo>
                <a:lnTo>
                  <a:pt x="1511541" y="254977"/>
                </a:lnTo>
                <a:lnTo>
                  <a:pt x="1580934" y="254977"/>
                </a:lnTo>
                <a:lnTo>
                  <a:pt x="1650288" y="254977"/>
                </a:lnTo>
                <a:lnTo>
                  <a:pt x="1719668" y="254977"/>
                </a:lnTo>
                <a:lnTo>
                  <a:pt x="1789036" y="254977"/>
                </a:lnTo>
                <a:lnTo>
                  <a:pt x="1858403" y="254977"/>
                </a:lnTo>
                <a:lnTo>
                  <a:pt x="1927771" y="254977"/>
                </a:lnTo>
                <a:lnTo>
                  <a:pt x="1962454" y="254977"/>
                </a:lnTo>
                <a:lnTo>
                  <a:pt x="1997138" y="254977"/>
                </a:lnTo>
                <a:lnTo>
                  <a:pt x="2031809" y="254977"/>
                </a:lnTo>
                <a:lnTo>
                  <a:pt x="2066505" y="254952"/>
                </a:lnTo>
                <a:lnTo>
                  <a:pt x="2083841" y="254952"/>
                </a:lnTo>
                <a:lnTo>
                  <a:pt x="2101227" y="254977"/>
                </a:lnTo>
                <a:lnTo>
                  <a:pt x="2118537" y="254977"/>
                </a:lnTo>
                <a:lnTo>
                  <a:pt x="2129650" y="254952"/>
                </a:lnTo>
                <a:lnTo>
                  <a:pt x="2138324" y="254952"/>
                </a:lnTo>
                <a:cubicBezTo>
                  <a:pt x="2141207" y="254952"/>
                  <a:pt x="2152523" y="254952"/>
                  <a:pt x="2155367" y="254977"/>
                </a:cubicBezTo>
                <a:lnTo>
                  <a:pt x="2161171" y="255041"/>
                </a:lnTo>
                <a:lnTo>
                  <a:pt x="2164118" y="255066"/>
                </a:lnTo>
                <a:lnTo>
                  <a:pt x="2167445" y="255092"/>
                </a:lnTo>
                <a:lnTo>
                  <a:pt x="2167483" y="255092"/>
                </a:lnTo>
                <a:lnTo>
                  <a:pt x="2167521" y="255092"/>
                </a:lnTo>
                <a:cubicBezTo>
                  <a:pt x="2169261" y="255092"/>
                  <a:pt x="2171039" y="255066"/>
                  <a:pt x="2172741" y="255015"/>
                </a:cubicBezTo>
                <a:cubicBezTo>
                  <a:pt x="2175954" y="254927"/>
                  <a:pt x="2178735" y="254672"/>
                  <a:pt x="2181415" y="254279"/>
                </a:cubicBezTo>
                <a:cubicBezTo>
                  <a:pt x="2184311" y="253860"/>
                  <a:pt x="2187181" y="253212"/>
                  <a:pt x="2189848" y="252412"/>
                </a:cubicBezTo>
                <a:cubicBezTo>
                  <a:pt x="2192553" y="251599"/>
                  <a:pt x="2195309" y="250557"/>
                  <a:pt x="2198039" y="249288"/>
                </a:cubicBezTo>
                <a:cubicBezTo>
                  <a:pt x="2200605" y="248106"/>
                  <a:pt x="2203119" y="246684"/>
                  <a:pt x="2205558" y="245122"/>
                </a:cubicBezTo>
                <a:cubicBezTo>
                  <a:pt x="2207933" y="243585"/>
                  <a:pt x="2210269" y="241820"/>
                  <a:pt x="2212505" y="239890"/>
                </a:cubicBezTo>
                <a:cubicBezTo>
                  <a:pt x="2214715" y="237934"/>
                  <a:pt x="2216772" y="235851"/>
                  <a:pt x="2218524" y="233768"/>
                </a:cubicBezTo>
                <a:cubicBezTo>
                  <a:pt x="2220404" y="231635"/>
                  <a:pt x="2222119" y="229298"/>
                  <a:pt x="2223731" y="226821"/>
                </a:cubicBezTo>
                <a:cubicBezTo>
                  <a:pt x="2225344" y="224332"/>
                  <a:pt x="2226754" y="221779"/>
                  <a:pt x="2227935" y="219201"/>
                </a:cubicBezTo>
                <a:cubicBezTo>
                  <a:pt x="2229192" y="216446"/>
                  <a:pt x="2230196" y="213702"/>
                  <a:pt x="2230907" y="211048"/>
                </a:cubicBezTo>
                <a:cubicBezTo>
                  <a:pt x="2231644" y="208419"/>
                  <a:pt x="2232190" y="205663"/>
                  <a:pt x="2232634" y="202488"/>
                </a:cubicBezTo>
                <a:cubicBezTo>
                  <a:pt x="2232964" y="199808"/>
                  <a:pt x="2233218" y="196951"/>
                  <a:pt x="2233307" y="193878"/>
                </a:cubicBezTo>
                <a:cubicBezTo>
                  <a:pt x="2233459" y="190994"/>
                  <a:pt x="2233498" y="188099"/>
                  <a:pt x="2233498" y="185191"/>
                </a:cubicBezTo>
                <a:lnTo>
                  <a:pt x="2233472" y="167119"/>
                </a:lnTo>
                <a:cubicBezTo>
                  <a:pt x="2233472" y="167119"/>
                  <a:pt x="2233498" y="166966"/>
                  <a:pt x="2233498" y="166890"/>
                </a:cubicBezTo>
                <a:lnTo>
                  <a:pt x="2233498" y="166547"/>
                </a:lnTo>
                <a:lnTo>
                  <a:pt x="2233472" y="147294"/>
                </a:lnTo>
                <a:lnTo>
                  <a:pt x="2233498" y="96443"/>
                </a:lnTo>
                <a:lnTo>
                  <a:pt x="2233498" y="95973"/>
                </a:lnTo>
              </a:path>
            </a:pathLst>
          </a:custGeom>
          <a:solidFill>
            <a:srgbClr val="07090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Freeform 3"/>
          <p:cNvSpPr/>
          <p:nvPr/>
        </p:nvSpPr>
        <p:spPr>
          <a:xfrm>
            <a:off x="2579760" y="3173760"/>
            <a:ext cx="1381680" cy="264600"/>
          </a:xfrm>
          <a:custGeom>
            <a:avLst/>
            <a:gdLst>
              <a:gd name="textAreaLeft" fmla="*/ 0 w 1381680"/>
              <a:gd name="textAreaRight" fmla="*/ 1382040 w 1381680"/>
              <a:gd name="textAreaTop" fmla="*/ 0 h 264600"/>
              <a:gd name="textAreaBottom" fmla="*/ 264960 h 264600"/>
            </a:gdLst>
            <a:ahLst/>
            <a:rect l="textAreaLeft" t="textAreaTop" r="textAreaRight" b="textAreaBottom"/>
            <a:pathLst>
              <a:path w="1381988" h="264959">
                <a:moveTo>
                  <a:pt x="6350" y="258609"/>
                </a:moveTo>
                <a:lnTo>
                  <a:pt x="6350" y="10541"/>
                </a:lnTo>
                <a:lnTo>
                  <a:pt x="1375638" y="6350"/>
                </a:lnTo>
              </a:path>
            </a:pathLst>
          </a:custGeom>
          <a:noFill/>
          <a:ln w="12700">
            <a:solidFill>
              <a:srgbClr val="6a6d7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4113000" y="3811680"/>
            <a:ext cx="86760" cy="63000"/>
          </a:xfrm>
          <a:custGeom>
            <a:avLst/>
            <a:gdLst>
              <a:gd name="textAreaLeft" fmla="*/ 0 w 86760"/>
              <a:gd name="textAreaRight" fmla="*/ 87120 w 86760"/>
              <a:gd name="textAreaTop" fmla="*/ 0 h 63000"/>
              <a:gd name="textAreaBottom" fmla="*/ 63360 h 63000"/>
            </a:gdLst>
            <a:ahLst/>
            <a:rect l="textAreaLeft" t="textAreaTop" r="textAreaRight" b="textAreaBottom"/>
            <a:pathLst>
              <a:path w="87109" h="63487">
                <a:moveTo>
                  <a:pt x="0" y="0"/>
                </a:moveTo>
                <a:lnTo>
                  <a:pt x="87109" y="0"/>
                </a:lnTo>
                <a:cubicBezTo>
                  <a:pt x="86410" y="14693"/>
                  <a:pt x="85712" y="25984"/>
                  <a:pt x="85001" y="33858"/>
                </a:cubicBezTo>
                <a:cubicBezTo>
                  <a:pt x="84226" y="44182"/>
                  <a:pt x="78181" y="49364"/>
                  <a:pt x="66865" y="49364"/>
                </a:cubicBezTo>
                <a:cubicBezTo>
                  <a:pt x="60185" y="49364"/>
                  <a:pt x="54698" y="49148"/>
                  <a:pt x="50406" y="48729"/>
                </a:cubicBezTo>
                <a:cubicBezTo>
                  <a:pt x="49987" y="45351"/>
                  <a:pt x="49428" y="42290"/>
                  <a:pt x="48717" y="39547"/>
                </a:cubicBezTo>
                <a:cubicBezTo>
                  <a:pt x="54838" y="40525"/>
                  <a:pt x="60540" y="41020"/>
                  <a:pt x="65811" y="41020"/>
                </a:cubicBezTo>
                <a:cubicBezTo>
                  <a:pt x="72631" y="41020"/>
                  <a:pt x="76250" y="37731"/>
                  <a:pt x="76669" y="31114"/>
                </a:cubicBezTo>
                <a:cubicBezTo>
                  <a:pt x="77304" y="25831"/>
                  <a:pt x="77825" y="18033"/>
                  <a:pt x="78257" y="7696"/>
                </a:cubicBezTo>
                <a:lnTo>
                  <a:pt x="35966" y="7696"/>
                </a:lnTo>
                <a:lnTo>
                  <a:pt x="35966" y="63487"/>
                </a:lnTo>
                <a:lnTo>
                  <a:pt x="27216" y="63487"/>
                </a:lnTo>
                <a:lnTo>
                  <a:pt x="27216" y="7696"/>
                </a:lnTo>
                <a:lnTo>
                  <a:pt x="0" y="7696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4107960" y="3771720"/>
            <a:ext cx="103320" cy="33120"/>
          </a:xfrm>
          <a:custGeom>
            <a:avLst/>
            <a:gdLst>
              <a:gd name="textAreaLeft" fmla="*/ 0 w 103320"/>
              <a:gd name="textAreaRight" fmla="*/ 103680 w 1033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03581" h="33439">
                <a:moveTo>
                  <a:pt x="0" y="13919"/>
                </a:moveTo>
                <a:lnTo>
                  <a:pt x="29222" y="13919"/>
                </a:lnTo>
                <a:lnTo>
                  <a:pt x="29222" y="0"/>
                </a:lnTo>
                <a:lnTo>
                  <a:pt x="37655" y="0"/>
                </a:lnTo>
                <a:lnTo>
                  <a:pt x="37655" y="13919"/>
                </a:lnTo>
                <a:lnTo>
                  <a:pt x="65925" y="13919"/>
                </a:lnTo>
                <a:lnTo>
                  <a:pt x="65925" y="0"/>
                </a:lnTo>
                <a:lnTo>
                  <a:pt x="74358" y="0"/>
                </a:lnTo>
                <a:lnTo>
                  <a:pt x="74358" y="13919"/>
                </a:lnTo>
                <a:lnTo>
                  <a:pt x="103581" y="13919"/>
                </a:lnTo>
                <a:lnTo>
                  <a:pt x="103581" y="21628"/>
                </a:lnTo>
                <a:lnTo>
                  <a:pt x="74358" y="21628"/>
                </a:lnTo>
                <a:lnTo>
                  <a:pt x="74358" y="33439"/>
                </a:lnTo>
                <a:lnTo>
                  <a:pt x="65925" y="33439"/>
                </a:lnTo>
                <a:lnTo>
                  <a:pt x="65925" y="21628"/>
                </a:lnTo>
                <a:lnTo>
                  <a:pt x="37655" y="21628"/>
                </a:lnTo>
                <a:lnTo>
                  <a:pt x="37655" y="33337"/>
                </a:lnTo>
                <a:lnTo>
                  <a:pt x="29222" y="33337"/>
                </a:lnTo>
                <a:lnTo>
                  <a:pt x="29222" y="21628"/>
                </a:lnTo>
                <a:lnTo>
                  <a:pt x="0" y="21628"/>
                </a:lnTo>
                <a:lnTo>
                  <a:pt x="0" y="13919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Freeform 3"/>
          <p:cNvSpPr/>
          <p:nvPr/>
        </p:nvSpPr>
        <p:spPr>
          <a:xfrm>
            <a:off x="4431960" y="3981960"/>
            <a:ext cx="103320" cy="1036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3680"/>
              <a:gd name="textAreaBottom" fmla="*/ 104040 h 103680"/>
            </a:gdLst>
            <a:ahLst/>
            <a:rect l="textAreaLeft" t="textAreaTop" r="textAreaRight" b="textAreaBottom"/>
            <a:pathLst>
              <a:path w="103784" h="104101">
                <a:moveTo>
                  <a:pt x="0" y="96507"/>
                </a:moveTo>
                <a:cubicBezTo>
                  <a:pt x="25209" y="87541"/>
                  <a:pt x="40233" y="74638"/>
                  <a:pt x="45084" y="57797"/>
                </a:cubicBezTo>
                <a:lnTo>
                  <a:pt x="2108" y="57797"/>
                </a:lnTo>
                <a:lnTo>
                  <a:pt x="2108" y="49784"/>
                </a:lnTo>
                <a:lnTo>
                  <a:pt x="46621" y="49784"/>
                </a:lnTo>
                <a:cubicBezTo>
                  <a:pt x="46761" y="48272"/>
                  <a:pt x="46837" y="41554"/>
                  <a:pt x="46837" y="29641"/>
                </a:cubicBezTo>
                <a:lnTo>
                  <a:pt x="8331" y="29641"/>
                </a:lnTo>
                <a:lnTo>
                  <a:pt x="8331" y="21628"/>
                </a:lnTo>
                <a:lnTo>
                  <a:pt x="33642" y="21628"/>
                </a:lnTo>
                <a:cubicBezTo>
                  <a:pt x="27597" y="14973"/>
                  <a:pt x="22428" y="9639"/>
                  <a:pt x="18148" y="5600"/>
                </a:cubicBezTo>
                <a:lnTo>
                  <a:pt x="24257" y="101"/>
                </a:lnTo>
                <a:cubicBezTo>
                  <a:pt x="30302" y="5524"/>
                  <a:pt x="35826" y="10693"/>
                  <a:pt x="40817" y="15621"/>
                </a:cubicBezTo>
                <a:lnTo>
                  <a:pt x="34074" y="21628"/>
                </a:lnTo>
                <a:lnTo>
                  <a:pt x="59220" y="21628"/>
                </a:lnTo>
                <a:cubicBezTo>
                  <a:pt x="64668" y="13919"/>
                  <a:pt x="69469" y="6718"/>
                  <a:pt x="73621" y="0"/>
                </a:cubicBezTo>
                <a:lnTo>
                  <a:pt x="82372" y="4851"/>
                </a:lnTo>
                <a:cubicBezTo>
                  <a:pt x="77520" y="11048"/>
                  <a:pt x="73050" y="16636"/>
                  <a:pt x="68973" y="21628"/>
                </a:cubicBezTo>
                <a:lnTo>
                  <a:pt x="95656" y="21628"/>
                </a:lnTo>
                <a:lnTo>
                  <a:pt x="95656" y="29641"/>
                </a:lnTo>
                <a:lnTo>
                  <a:pt x="55791" y="29641"/>
                </a:lnTo>
                <a:cubicBezTo>
                  <a:pt x="55791" y="39979"/>
                  <a:pt x="55740" y="46685"/>
                  <a:pt x="55638" y="49784"/>
                </a:cubicBezTo>
                <a:lnTo>
                  <a:pt x="101879" y="49784"/>
                </a:lnTo>
                <a:lnTo>
                  <a:pt x="101879" y="57797"/>
                </a:lnTo>
                <a:lnTo>
                  <a:pt x="57112" y="57797"/>
                </a:lnTo>
                <a:cubicBezTo>
                  <a:pt x="65366" y="75488"/>
                  <a:pt x="80937" y="87617"/>
                  <a:pt x="103784" y="94183"/>
                </a:cubicBezTo>
                <a:cubicBezTo>
                  <a:pt x="100901" y="97142"/>
                  <a:pt x="98297" y="99986"/>
                  <a:pt x="95973" y="102730"/>
                </a:cubicBezTo>
                <a:cubicBezTo>
                  <a:pt x="74320" y="94284"/>
                  <a:pt x="59601" y="81597"/>
                  <a:pt x="51841" y="64655"/>
                </a:cubicBezTo>
                <a:cubicBezTo>
                  <a:pt x="46101" y="81102"/>
                  <a:pt x="30873" y="94259"/>
                  <a:pt x="6121" y="104101"/>
                </a:cubicBezTo>
                <a:cubicBezTo>
                  <a:pt x="4292" y="101701"/>
                  <a:pt x="2247" y="99174"/>
                  <a:pt x="0" y="96507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2" name="Freeform 3"/>
          <p:cNvSpPr/>
          <p:nvPr/>
        </p:nvSpPr>
        <p:spPr>
          <a:xfrm>
            <a:off x="4323960" y="4221360"/>
            <a:ext cx="103320" cy="1036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3680"/>
              <a:gd name="textAreaBottom" fmla="*/ 104040 h 103680"/>
            </a:gdLst>
            <a:ahLst/>
            <a:rect l="textAreaLeft" t="textAreaTop" r="textAreaRight" b="textAreaBottom"/>
            <a:pathLst>
              <a:path w="103784" h="104102">
                <a:moveTo>
                  <a:pt x="0" y="96507"/>
                </a:moveTo>
                <a:cubicBezTo>
                  <a:pt x="25209" y="87541"/>
                  <a:pt x="40233" y="74638"/>
                  <a:pt x="45085" y="57798"/>
                </a:cubicBezTo>
                <a:lnTo>
                  <a:pt x="2108" y="57798"/>
                </a:lnTo>
                <a:lnTo>
                  <a:pt x="2108" y="49784"/>
                </a:lnTo>
                <a:lnTo>
                  <a:pt x="46621" y="49784"/>
                </a:lnTo>
                <a:cubicBezTo>
                  <a:pt x="46761" y="48273"/>
                  <a:pt x="46837" y="41554"/>
                  <a:pt x="46837" y="29641"/>
                </a:cubicBezTo>
                <a:lnTo>
                  <a:pt x="8331" y="29641"/>
                </a:lnTo>
                <a:lnTo>
                  <a:pt x="8331" y="21628"/>
                </a:lnTo>
                <a:lnTo>
                  <a:pt x="33642" y="21628"/>
                </a:lnTo>
                <a:cubicBezTo>
                  <a:pt x="27597" y="14973"/>
                  <a:pt x="22428" y="9639"/>
                  <a:pt x="18148" y="5600"/>
                </a:cubicBezTo>
                <a:lnTo>
                  <a:pt x="24257" y="101"/>
                </a:lnTo>
                <a:cubicBezTo>
                  <a:pt x="30302" y="5524"/>
                  <a:pt x="35826" y="10693"/>
                  <a:pt x="40818" y="15621"/>
                </a:cubicBezTo>
                <a:lnTo>
                  <a:pt x="34074" y="21628"/>
                </a:lnTo>
                <a:lnTo>
                  <a:pt x="59220" y="21628"/>
                </a:lnTo>
                <a:cubicBezTo>
                  <a:pt x="64668" y="13919"/>
                  <a:pt x="69469" y="6718"/>
                  <a:pt x="73621" y="0"/>
                </a:cubicBezTo>
                <a:lnTo>
                  <a:pt x="82372" y="4851"/>
                </a:lnTo>
                <a:cubicBezTo>
                  <a:pt x="77520" y="11049"/>
                  <a:pt x="73050" y="16637"/>
                  <a:pt x="68973" y="21628"/>
                </a:cubicBezTo>
                <a:lnTo>
                  <a:pt x="95656" y="21628"/>
                </a:lnTo>
                <a:lnTo>
                  <a:pt x="95656" y="29641"/>
                </a:lnTo>
                <a:lnTo>
                  <a:pt x="55791" y="29641"/>
                </a:lnTo>
                <a:cubicBezTo>
                  <a:pt x="55791" y="39979"/>
                  <a:pt x="55740" y="46685"/>
                  <a:pt x="55638" y="49784"/>
                </a:cubicBezTo>
                <a:lnTo>
                  <a:pt x="101879" y="49784"/>
                </a:lnTo>
                <a:lnTo>
                  <a:pt x="101879" y="57798"/>
                </a:lnTo>
                <a:lnTo>
                  <a:pt x="57112" y="57798"/>
                </a:lnTo>
                <a:cubicBezTo>
                  <a:pt x="65366" y="75488"/>
                  <a:pt x="80937" y="87617"/>
                  <a:pt x="103784" y="94183"/>
                </a:cubicBezTo>
                <a:cubicBezTo>
                  <a:pt x="100901" y="97142"/>
                  <a:pt x="98298" y="99987"/>
                  <a:pt x="95973" y="102730"/>
                </a:cubicBezTo>
                <a:cubicBezTo>
                  <a:pt x="74320" y="94284"/>
                  <a:pt x="59601" y="81597"/>
                  <a:pt x="51841" y="64655"/>
                </a:cubicBezTo>
                <a:cubicBezTo>
                  <a:pt x="46101" y="81102"/>
                  <a:pt x="30873" y="94259"/>
                  <a:pt x="6121" y="104102"/>
                </a:cubicBezTo>
                <a:cubicBezTo>
                  <a:pt x="4292" y="101701"/>
                  <a:pt x="2247" y="99174"/>
                  <a:pt x="0" y="96507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3" name="Freeform 3"/>
          <p:cNvSpPr/>
          <p:nvPr/>
        </p:nvSpPr>
        <p:spPr>
          <a:xfrm>
            <a:off x="2458080" y="3436920"/>
            <a:ext cx="30960" cy="33840"/>
          </a:xfrm>
          <a:custGeom>
            <a:avLst/>
            <a:gdLst>
              <a:gd name="textAreaLeft" fmla="*/ 0 w 30960"/>
              <a:gd name="textAreaRight" fmla="*/ 31320 w 30960"/>
              <a:gd name="textAreaTop" fmla="*/ 0 h 33840"/>
              <a:gd name="textAreaBottom" fmla="*/ 34200 h 33840"/>
            </a:gdLst>
            <a:ahLst/>
            <a:rect l="textAreaLeft" t="textAreaTop" r="textAreaRight" b="textAreaBottom"/>
            <a:pathLst>
              <a:path w="31356" h="34378">
                <a:moveTo>
                  <a:pt x="0" y="0"/>
                </a:moveTo>
                <a:cubicBezTo>
                  <a:pt x="8420" y="9181"/>
                  <a:pt x="16827" y="18326"/>
                  <a:pt x="25234" y="27508"/>
                </a:cubicBezTo>
                <a:lnTo>
                  <a:pt x="2247" y="27508"/>
                </a:lnTo>
                <a:lnTo>
                  <a:pt x="2247" y="34378"/>
                </a:lnTo>
                <a:lnTo>
                  <a:pt x="25234" y="34378"/>
                </a:lnTo>
                <a:cubicBezTo>
                  <a:pt x="25577" y="34353"/>
                  <a:pt x="28955" y="34086"/>
                  <a:pt x="30886" y="31000"/>
                </a:cubicBezTo>
                <a:cubicBezTo>
                  <a:pt x="32842" y="27851"/>
                  <a:pt x="31470" y="24599"/>
                  <a:pt x="31356" y="24333"/>
                </a:cubicBezTo>
                <a:lnTo>
                  <a:pt x="9181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Freeform 3"/>
          <p:cNvSpPr/>
          <p:nvPr/>
        </p:nvSpPr>
        <p:spPr>
          <a:xfrm>
            <a:off x="2494440" y="3422880"/>
            <a:ext cx="6840" cy="48240"/>
          </a:xfrm>
          <a:custGeom>
            <a:avLst/>
            <a:gdLst>
              <a:gd name="textAreaLeft" fmla="*/ 0 w 6840"/>
              <a:gd name="textAreaRight" fmla="*/ 7200 w 6840"/>
              <a:gd name="textAreaTop" fmla="*/ 0 h 48240"/>
              <a:gd name="textAreaBottom" fmla="*/ 48600 h 48240"/>
            </a:gdLst>
            <a:ahLst/>
            <a:rect l="textAreaLeft" t="textAreaTop" r="textAreaRight" b="textAreaBottom"/>
            <a:pathLst>
              <a:path w="7061" h="48437">
                <a:moveTo>
                  <a:pt x="3530" y="0"/>
                </a:moveTo>
                <a:lnTo>
                  <a:pt x="3530" y="4843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3"/>
          <p:cNvSpPr/>
          <p:nvPr/>
        </p:nvSpPr>
        <p:spPr>
          <a:xfrm>
            <a:off x="2502000" y="3436920"/>
            <a:ext cx="23400" cy="33840"/>
          </a:xfrm>
          <a:custGeom>
            <a:avLst/>
            <a:gdLst>
              <a:gd name="textAreaLeft" fmla="*/ 0 w 23400"/>
              <a:gd name="textAreaRight" fmla="*/ 23760 w 23400"/>
              <a:gd name="textAreaTop" fmla="*/ 0 h 33840"/>
              <a:gd name="textAreaBottom" fmla="*/ 34200 h 33840"/>
            </a:gdLst>
            <a:ahLst/>
            <a:rect l="textAreaLeft" t="textAreaTop" r="textAreaRight" b="textAreaBottom"/>
            <a:pathLst>
              <a:path w="23634" h="34378">
                <a:moveTo>
                  <a:pt x="14452" y="0"/>
                </a:moveTo>
                <a:lnTo>
                  <a:pt x="0" y="16078"/>
                </a:lnTo>
                <a:lnTo>
                  <a:pt x="14452" y="34378"/>
                </a:lnTo>
                <a:lnTo>
                  <a:pt x="23634" y="34378"/>
                </a:lnTo>
                <a:lnTo>
                  <a:pt x="8636" y="16078"/>
                </a:lnTo>
                <a:lnTo>
                  <a:pt x="23634" y="0"/>
                </a:lnTo>
                <a:lnTo>
                  <a:pt x="14452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6" name="Freeform 3"/>
          <p:cNvSpPr/>
          <p:nvPr/>
        </p:nvSpPr>
        <p:spPr>
          <a:xfrm>
            <a:off x="2526840" y="3436920"/>
            <a:ext cx="33840" cy="51840"/>
          </a:xfrm>
          <a:custGeom>
            <a:avLst/>
            <a:gdLst>
              <a:gd name="textAreaLeft" fmla="*/ 0 w 33840"/>
              <a:gd name="textAreaRight" fmla="*/ 34200 w 3384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4290" h="52095">
                <a:moveTo>
                  <a:pt x="0" y="0"/>
                </a:moveTo>
                <a:lnTo>
                  <a:pt x="9181" y="0"/>
                </a:lnTo>
                <a:cubicBezTo>
                  <a:pt x="12801" y="4635"/>
                  <a:pt x="16408" y="9257"/>
                  <a:pt x="20027" y="13868"/>
                </a:cubicBezTo>
                <a:cubicBezTo>
                  <a:pt x="22402" y="9257"/>
                  <a:pt x="24764" y="4635"/>
                  <a:pt x="27139" y="0"/>
                </a:cubicBezTo>
                <a:lnTo>
                  <a:pt x="34289" y="0"/>
                </a:lnTo>
                <a:cubicBezTo>
                  <a:pt x="25222" y="17360"/>
                  <a:pt x="16167" y="34696"/>
                  <a:pt x="7124" y="52069"/>
                </a:cubicBezTo>
                <a:cubicBezTo>
                  <a:pt x="4737" y="52069"/>
                  <a:pt x="2374" y="52095"/>
                  <a:pt x="0" y="52095"/>
                </a:cubicBezTo>
                <a:lnTo>
                  <a:pt x="16243" y="2084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Freeform 3"/>
          <p:cNvSpPr/>
          <p:nvPr/>
        </p:nvSpPr>
        <p:spPr>
          <a:xfrm>
            <a:off x="2567520" y="3436920"/>
            <a:ext cx="45360" cy="33840"/>
          </a:xfrm>
          <a:custGeom>
            <a:avLst/>
            <a:gdLst>
              <a:gd name="textAreaLeft" fmla="*/ 0 w 45360"/>
              <a:gd name="textAreaRight" fmla="*/ 45720 w 45360"/>
              <a:gd name="textAreaTop" fmla="*/ 0 h 33840"/>
              <a:gd name="textAreaBottom" fmla="*/ 34200 h 33840"/>
            </a:gdLst>
            <a:ahLst/>
            <a:rect l="textAreaLeft" t="textAreaTop" r="textAreaRight" b="textAreaBottom"/>
            <a:pathLst>
              <a:path w="45605" h="34328">
                <a:moveTo>
                  <a:pt x="0" y="11404"/>
                </a:moveTo>
                <a:lnTo>
                  <a:pt x="0" y="34328"/>
                </a:lnTo>
                <a:lnTo>
                  <a:pt x="5346" y="34328"/>
                </a:lnTo>
                <a:lnTo>
                  <a:pt x="5346" y="11404"/>
                </a:lnTo>
                <a:cubicBezTo>
                  <a:pt x="6133" y="7937"/>
                  <a:pt x="9258" y="5473"/>
                  <a:pt x="12826" y="5524"/>
                </a:cubicBezTo>
                <a:cubicBezTo>
                  <a:pt x="16293" y="5550"/>
                  <a:pt x="19329" y="8001"/>
                  <a:pt x="20129" y="11404"/>
                </a:cubicBezTo>
                <a:lnTo>
                  <a:pt x="20129" y="34328"/>
                </a:lnTo>
                <a:lnTo>
                  <a:pt x="25476" y="34328"/>
                </a:lnTo>
                <a:lnTo>
                  <a:pt x="25476" y="11404"/>
                </a:lnTo>
                <a:cubicBezTo>
                  <a:pt x="26276" y="7937"/>
                  <a:pt x="29374" y="5499"/>
                  <a:pt x="32930" y="5524"/>
                </a:cubicBezTo>
                <a:cubicBezTo>
                  <a:pt x="36410" y="5550"/>
                  <a:pt x="39446" y="8001"/>
                  <a:pt x="40258" y="11404"/>
                </a:cubicBezTo>
                <a:lnTo>
                  <a:pt x="40258" y="34328"/>
                </a:lnTo>
                <a:lnTo>
                  <a:pt x="45605" y="34328"/>
                </a:lnTo>
                <a:lnTo>
                  <a:pt x="45605" y="11404"/>
                </a:lnTo>
                <a:cubicBezTo>
                  <a:pt x="44183" y="4660"/>
                  <a:pt x="38709" y="0"/>
                  <a:pt x="32930" y="0"/>
                </a:cubicBezTo>
                <a:cubicBezTo>
                  <a:pt x="27038" y="25"/>
                  <a:pt x="23329" y="4902"/>
                  <a:pt x="22898" y="5499"/>
                </a:cubicBezTo>
                <a:cubicBezTo>
                  <a:pt x="22440" y="4876"/>
                  <a:pt x="18719" y="25"/>
                  <a:pt x="12801" y="0"/>
                </a:cubicBezTo>
                <a:cubicBezTo>
                  <a:pt x="6984" y="0"/>
                  <a:pt x="1447" y="4635"/>
                  <a:pt x="0" y="11404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8" name="Freeform 3"/>
          <p:cNvSpPr/>
          <p:nvPr/>
        </p:nvSpPr>
        <p:spPr>
          <a:xfrm>
            <a:off x="2656800" y="3436920"/>
            <a:ext cx="25200" cy="33840"/>
          </a:xfrm>
          <a:custGeom>
            <a:avLst/>
            <a:gdLst>
              <a:gd name="textAreaLeft" fmla="*/ 0 w 25200"/>
              <a:gd name="textAreaRight" fmla="*/ 25560 w 25200"/>
              <a:gd name="textAreaTop" fmla="*/ 0 h 33840"/>
              <a:gd name="textAreaBottom" fmla="*/ 34200 h 33840"/>
            </a:gdLst>
            <a:ahLst/>
            <a:rect l="textAreaLeft" t="textAreaTop" r="textAreaRight" b="textAreaBottom"/>
            <a:pathLst>
              <a:path w="25463" h="34353">
                <a:moveTo>
                  <a:pt x="25463" y="11379"/>
                </a:moveTo>
                <a:cubicBezTo>
                  <a:pt x="24726" y="4953"/>
                  <a:pt x="19265" y="12"/>
                  <a:pt x="12801" y="0"/>
                </a:cubicBezTo>
                <a:cubicBezTo>
                  <a:pt x="6337" y="-50"/>
                  <a:pt x="825" y="4800"/>
                  <a:pt x="0" y="11201"/>
                </a:cubicBezTo>
                <a:lnTo>
                  <a:pt x="0" y="34353"/>
                </a:lnTo>
                <a:lnTo>
                  <a:pt x="5346" y="34353"/>
                </a:lnTo>
                <a:lnTo>
                  <a:pt x="5346" y="11379"/>
                </a:lnTo>
                <a:cubicBezTo>
                  <a:pt x="6146" y="7912"/>
                  <a:pt x="9258" y="5448"/>
                  <a:pt x="12801" y="5474"/>
                </a:cubicBezTo>
                <a:cubicBezTo>
                  <a:pt x="16268" y="5499"/>
                  <a:pt x="19354" y="7950"/>
                  <a:pt x="20129" y="11379"/>
                </a:cubicBezTo>
                <a:lnTo>
                  <a:pt x="20129" y="34353"/>
                </a:lnTo>
                <a:lnTo>
                  <a:pt x="25450" y="34353"/>
                </a:lnTo>
                <a:cubicBezTo>
                  <a:pt x="25463" y="26682"/>
                  <a:pt x="25463" y="19024"/>
                  <a:pt x="25463" y="1137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9" name="Freeform 3"/>
          <p:cNvSpPr/>
          <p:nvPr/>
        </p:nvSpPr>
        <p:spPr>
          <a:xfrm>
            <a:off x="2559240" y="3405240"/>
            <a:ext cx="53640" cy="53640"/>
          </a:xfrm>
          <a:custGeom>
            <a:avLst/>
            <a:gdLst>
              <a:gd name="textAreaLeft" fmla="*/ 0 w 53640"/>
              <a:gd name="textAreaRight" fmla="*/ 54000 w 536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4165" h="54127">
                <a:moveTo>
                  <a:pt x="54165" y="27063"/>
                </a:moveTo>
                <a:cubicBezTo>
                  <a:pt x="54165" y="42024"/>
                  <a:pt x="42037" y="54127"/>
                  <a:pt x="27101" y="54127"/>
                </a:cubicBezTo>
                <a:cubicBezTo>
                  <a:pt x="12128" y="54127"/>
                  <a:pt x="0" y="42024"/>
                  <a:pt x="0" y="27063"/>
                </a:cubicBezTo>
                <a:cubicBezTo>
                  <a:pt x="0" y="12103"/>
                  <a:pt x="12128" y="0"/>
                  <a:pt x="27101" y="0"/>
                </a:cubicBezTo>
                <a:cubicBezTo>
                  <a:pt x="42037" y="0"/>
                  <a:pt x="54165" y="12103"/>
                  <a:pt x="54165" y="27063"/>
                </a:cubicBezTo>
              </a:path>
            </a:pathLst>
          </a:custGeom>
          <a:solidFill>
            <a:srgbClr val="6a6d7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0" name="Freeform 3"/>
          <p:cNvSpPr/>
          <p:nvPr/>
        </p:nvSpPr>
        <p:spPr>
          <a:xfrm>
            <a:off x="10030680" y="506880"/>
            <a:ext cx="12960" cy="12960"/>
          </a:xfrm>
          <a:custGeom>
            <a:avLst/>
            <a:gdLst>
              <a:gd name="textAreaLeft" fmla="*/ 0 w 12960"/>
              <a:gd name="textAreaRight" fmla="*/ 13320 w 1296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487" h="13487">
                <a:moveTo>
                  <a:pt x="13486" y="6743"/>
                </a:moveTo>
                <a:cubicBezTo>
                  <a:pt x="13486" y="10464"/>
                  <a:pt x="10490" y="13487"/>
                  <a:pt x="6743" y="13487"/>
                </a:cubicBezTo>
                <a:cubicBezTo>
                  <a:pt x="3022" y="13487"/>
                  <a:pt x="0" y="10464"/>
                  <a:pt x="0" y="6743"/>
                </a:cubicBezTo>
                <a:cubicBezTo>
                  <a:pt x="0" y="3009"/>
                  <a:pt x="3022" y="0"/>
                  <a:pt x="6743" y="0"/>
                </a:cubicBezTo>
                <a:cubicBezTo>
                  <a:pt x="10490" y="0"/>
                  <a:pt x="13486" y="3009"/>
                  <a:pt x="13486" y="674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Freeform 3"/>
          <p:cNvSpPr/>
          <p:nvPr/>
        </p:nvSpPr>
        <p:spPr>
          <a:xfrm>
            <a:off x="344160" y="589680"/>
            <a:ext cx="4677840" cy="18360"/>
          </a:xfrm>
          <a:custGeom>
            <a:avLst/>
            <a:gdLst>
              <a:gd name="textAreaLeft" fmla="*/ 0 w 4677840"/>
              <a:gd name="textAreaRight" fmla="*/ 4678200 w 4677840"/>
              <a:gd name="textAreaTop" fmla="*/ 0 h 18360"/>
              <a:gd name="textAreaBottom" fmla="*/ 18720 h 18360"/>
            </a:gdLst>
            <a:ahLst/>
            <a:rect l="textAreaLeft" t="textAreaTop" r="textAreaRight" b="textAreaBottom"/>
            <a:pathLst>
              <a:path w="4678095" h="18796">
                <a:moveTo>
                  <a:pt x="6350" y="6350"/>
                </a:moveTo>
                <a:lnTo>
                  <a:pt x="4671745" y="6350"/>
                </a:lnTo>
              </a:path>
            </a:pathLst>
          </a:custGeom>
          <a:noFill/>
          <a:ln w="12700">
            <a:solidFill>
              <a:srgbClr val="76798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"/>
          <p:cNvSpPr/>
          <p:nvPr/>
        </p:nvSpPr>
        <p:spPr>
          <a:xfrm>
            <a:off x="344160" y="590400"/>
            <a:ext cx="4677840" cy="18360"/>
          </a:xfrm>
          <a:custGeom>
            <a:avLst/>
            <a:gdLst>
              <a:gd name="textAreaLeft" fmla="*/ 0 w 4677840"/>
              <a:gd name="textAreaRight" fmla="*/ 4678200 w 4677840"/>
              <a:gd name="textAreaTop" fmla="*/ 0 h 18360"/>
              <a:gd name="textAreaBottom" fmla="*/ 18720 h 18360"/>
            </a:gdLst>
            <a:ahLst/>
            <a:rect l="textAreaLeft" t="textAreaTop" r="textAreaRight" b="textAreaBottom"/>
            <a:pathLst>
              <a:path w="4678070" h="18796">
                <a:moveTo>
                  <a:pt x="6350" y="6350"/>
                </a:moveTo>
                <a:lnTo>
                  <a:pt x="4671720" y="6350"/>
                </a:lnTo>
              </a:path>
            </a:pathLst>
          </a:custGeom>
          <a:noFill/>
          <a:ln w="12700">
            <a:solidFill>
              <a:srgbClr val="76798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3"/>
          <p:cNvSpPr/>
          <p:nvPr/>
        </p:nvSpPr>
        <p:spPr>
          <a:xfrm>
            <a:off x="372960" y="441360"/>
            <a:ext cx="47160" cy="51840"/>
          </a:xfrm>
          <a:custGeom>
            <a:avLst/>
            <a:gdLst>
              <a:gd name="textAreaLeft" fmla="*/ 0 w 47160"/>
              <a:gd name="textAreaRight" fmla="*/ 47520 w 4716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47675" h="52285">
                <a:moveTo>
                  <a:pt x="0" y="0"/>
                </a:moveTo>
                <a:cubicBezTo>
                  <a:pt x="12801" y="13931"/>
                  <a:pt x="25603" y="27863"/>
                  <a:pt x="38379" y="41795"/>
                </a:cubicBezTo>
                <a:lnTo>
                  <a:pt x="3403" y="41795"/>
                </a:lnTo>
                <a:lnTo>
                  <a:pt x="3403" y="52285"/>
                </a:lnTo>
                <a:lnTo>
                  <a:pt x="38379" y="52285"/>
                </a:lnTo>
                <a:cubicBezTo>
                  <a:pt x="38900" y="52222"/>
                  <a:pt x="44056" y="51816"/>
                  <a:pt x="46951" y="47142"/>
                </a:cubicBezTo>
                <a:cubicBezTo>
                  <a:pt x="49961" y="42354"/>
                  <a:pt x="47853" y="37388"/>
                  <a:pt x="47675" y="36982"/>
                </a:cubicBezTo>
                <a:cubicBezTo>
                  <a:pt x="36436" y="24638"/>
                  <a:pt x="25184" y="12344"/>
                  <a:pt x="13944" y="0"/>
                </a:cubicBez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4" name="Freeform 3"/>
          <p:cNvSpPr/>
          <p:nvPr/>
        </p:nvSpPr>
        <p:spPr>
          <a:xfrm>
            <a:off x="428760" y="420120"/>
            <a:ext cx="10440" cy="73440"/>
          </a:xfrm>
          <a:custGeom>
            <a:avLst/>
            <a:gdLst>
              <a:gd name="textAreaLeft" fmla="*/ 0 w 10440"/>
              <a:gd name="textAreaRight" fmla="*/ 10800 w 10440"/>
              <a:gd name="textAreaTop" fmla="*/ 0 h 73440"/>
              <a:gd name="textAreaBottom" fmla="*/ 73800 h 73440"/>
            </a:gdLst>
            <a:ahLst/>
            <a:rect l="textAreaLeft" t="textAreaTop" r="textAreaRight" b="textAreaBottom"/>
            <a:pathLst>
              <a:path w="10718" h="73634">
                <a:moveTo>
                  <a:pt x="5359" y="0"/>
                </a:moveTo>
                <a:lnTo>
                  <a:pt x="5359" y="73634"/>
                </a:lnTo>
              </a:path>
            </a:pathLst>
          </a:custGeom>
          <a:noFill/>
          <a:ln w="0">
            <a:solidFill>
              <a:srgbClr val="231f2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440280" y="441360"/>
            <a:ext cx="35640" cy="51840"/>
          </a:xfrm>
          <a:custGeom>
            <a:avLst/>
            <a:gdLst>
              <a:gd name="textAreaLeft" fmla="*/ 0 w 35640"/>
              <a:gd name="textAreaRight" fmla="*/ 36000 w 3564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5915" h="52285">
                <a:moveTo>
                  <a:pt x="21970" y="0"/>
                </a:moveTo>
                <a:cubicBezTo>
                  <a:pt x="14630" y="8153"/>
                  <a:pt x="7315" y="16256"/>
                  <a:pt x="0" y="24422"/>
                </a:cubicBezTo>
                <a:cubicBezTo>
                  <a:pt x="7315" y="33693"/>
                  <a:pt x="14630" y="42976"/>
                  <a:pt x="21970" y="52285"/>
                </a:cubicBezTo>
                <a:lnTo>
                  <a:pt x="35915" y="52285"/>
                </a:lnTo>
                <a:cubicBezTo>
                  <a:pt x="28320" y="42976"/>
                  <a:pt x="20688" y="33693"/>
                  <a:pt x="13119" y="24422"/>
                </a:cubicBezTo>
                <a:cubicBezTo>
                  <a:pt x="20688" y="16256"/>
                  <a:pt x="28320" y="8153"/>
                  <a:pt x="35915" y="0"/>
                </a:cubicBezTo>
                <a:lnTo>
                  <a:pt x="2197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6" name="Freeform 3"/>
          <p:cNvSpPr/>
          <p:nvPr/>
        </p:nvSpPr>
        <p:spPr>
          <a:xfrm>
            <a:off x="477720" y="441360"/>
            <a:ext cx="51840" cy="78840"/>
          </a:xfrm>
          <a:custGeom>
            <a:avLst/>
            <a:gdLst>
              <a:gd name="textAreaLeft" fmla="*/ 0 w 51840"/>
              <a:gd name="textAreaRight" fmla="*/ 52200 w 518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52146" h="79209">
                <a:moveTo>
                  <a:pt x="0" y="0"/>
                </a:moveTo>
                <a:lnTo>
                  <a:pt x="13944" y="0"/>
                </a:lnTo>
                <a:cubicBezTo>
                  <a:pt x="19443" y="7035"/>
                  <a:pt x="24955" y="14046"/>
                  <a:pt x="30429" y="21056"/>
                </a:cubicBezTo>
                <a:cubicBezTo>
                  <a:pt x="34061" y="14046"/>
                  <a:pt x="37655" y="7035"/>
                  <a:pt x="41275" y="0"/>
                </a:cubicBezTo>
                <a:lnTo>
                  <a:pt x="52146" y="0"/>
                </a:lnTo>
                <a:lnTo>
                  <a:pt x="10820" y="79184"/>
                </a:lnTo>
                <a:cubicBezTo>
                  <a:pt x="7213" y="79184"/>
                  <a:pt x="3594" y="79184"/>
                  <a:pt x="0" y="79209"/>
                </a:cubicBezTo>
                <a:lnTo>
                  <a:pt x="24726" y="31673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39640" y="441360"/>
            <a:ext cx="69120" cy="51840"/>
          </a:xfrm>
          <a:custGeom>
            <a:avLst/>
            <a:gdLst>
              <a:gd name="textAreaLeft" fmla="*/ 0 w 69120"/>
              <a:gd name="textAreaRight" fmla="*/ 69480 w 691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69354" h="52184">
                <a:moveTo>
                  <a:pt x="0" y="17335"/>
                </a:moveTo>
                <a:lnTo>
                  <a:pt x="0" y="52184"/>
                </a:lnTo>
                <a:lnTo>
                  <a:pt x="8115" y="52184"/>
                </a:lnTo>
                <a:lnTo>
                  <a:pt x="8115" y="17310"/>
                </a:lnTo>
                <a:cubicBezTo>
                  <a:pt x="9347" y="12052"/>
                  <a:pt x="14109" y="8356"/>
                  <a:pt x="19469" y="8381"/>
                </a:cubicBezTo>
                <a:cubicBezTo>
                  <a:pt x="24777" y="8458"/>
                  <a:pt x="29400" y="12153"/>
                  <a:pt x="30606" y="17335"/>
                </a:cubicBezTo>
                <a:lnTo>
                  <a:pt x="30606" y="52184"/>
                </a:lnTo>
                <a:lnTo>
                  <a:pt x="38747" y="52184"/>
                </a:lnTo>
                <a:lnTo>
                  <a:pt x="38747" y="17335"/>
                </a:lnTo>
                <a:cubicBezTo>
                  <a:pt x="39954" y="12077"/>
                  <a:pt x="44704" y="8356"/>
                  <a:pt x="50076" y="8381"/>
                </a:cubicBezTo>
                <a:cubicBezTo>
                  <a:pt x="55346" y="8432"/>
                  <a:pt x="60032" y="12153"/>
                  <a:pt x="61239" y="17335"/>
                </a:cubicBezTo>
                <a:lnTo>
                  <a:pt x="61239" y="52184"/>
                </a:lnTo>
                <a:lnTo>
                  <a:pt x="69354" y="52184"/>
                </a:lnTo>
                <a:lnTo>
                  <a:pt x="69354" y="17335"/>
                </a:lnTo>
                <a:cubicBezTo>
                  <a:pt x="67221" y="7086"/>
                  <a:pt x="58864" y="-25"/>
                  <a:pt x="50076" y="0"/>
                </a:cubicBezTo>
                <a:cubicBezTo>
                  <a:pt x="41097" y="38"/>
                  <a:pt x="35496" y="7454"/>
                  <a:pt x="34798" y="8356"/>
                </a:cubicBezTo>
                <a:cubicBezTo>
                  <a:pt x="34112" y="7429"/>
                  <a:pt x="28448" y="63"/>
                  <a:pt x="19443" y="0"/>
                </a:cubicBezTo>
                <a:cubicBezTo>
                  <a:pt x="10617" y="-25"/>
                  <a:pt x="2184" y="7061"/>
                  <a:pt x="0" y="17335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8" name="Freeform 3"/>
          <p:cNvSpPr/>
          <p:nvPr/>
        </p:nvSpPr>
        <p:spPr>
          <a:xfrm>
            <a:off x="675360" y="441360"/>
            <a:ext cx="38520" cy="51840"/>
          </a:xfrm>
          <a:custGeom>
            <a:avLst/>
            <a:gdLst>
              <a:gd name="textAreaLeft" fmla="*/ 0 w 38520"/>
              <a:gd name="textAreaRight" fmla="*/ 38880 w 3852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38722" h="52222">
                <a:moveTo>
                  <a:pt x="38722" y="17297"/>
                </a:moveTo>
                <a:cubicBezTo>
                  <a:pt x="37630" y="7543"/>
                  <a:pt x="29298" y="50"/>
                  <a:pt x="19431" y="0"/>
                </a:cubicBezTo>
                <a:cubicBezTo>
                  <a:pt x="9626" y="-88"/>
                  <a:pt x="1219" y="7302"/>
                  <a:pt x="0" y="17043"/>
                </a:cubicBezTo>
                <a:lnTo>
                  <a:pt x="0" y="52222"/>
                </a:lnTo>
                <a:lnTo>
                  <a:pt x="8115" y="52222"/>
                </a:lnTo>
                <a:lnTo>
                  <a:pt x="8115" y="17297"/>
                </a:lnTo>
                <a:cubicBezTo>
                  <a:pt x="9334" y="12014"/>
                  <a:pt x="14071" y="8293"/>
                  <a:pt x="19431" y="8318"/>
                </a:cubicBezTo>
                <a:cubicBezTo>
                  <a:pt x="24739" y="8343"/>
                  <a:pt x="29425" y="12090"/>
                  <a:pt x="30607" y="17297"/>
                </a:cubicBezTo>
                <a:lnTo>
                  <a:pt x="30607" y="52222"/>
                </a:lnTo>
                <a:lnTo>
                  <a:pt x="38696" y="52222"/>
                </a:lnTo>
                <a:cubicBezTo>
                  <a:pt x="38722" y="40589"/>
                  <a:pt x="38722" y="28930"/>
                  <a:pt x="38722" y="17297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Freeform 3"/>
          <p:cNvSpPr/>
          <p:nvPr/>
        </p:nvSpPr>
        <p:spPr>
          <a:xfrm>
            <a:off x="4702680" y="508680"/>
            <a:ext cx="12960" cy="12960"/>
          </a:xfrm>
          <a:custGeom>
            <a:avLst/>
            <a:gdLst>
              <a:gd name="textAreaLeft" fmla="*/ 0 w 12960"/>
              <a:gd name="textAreaRight" fmla="*/ 13320 w 1296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3487" h="13487">
                <a:moveTo>
                  <a:pt x="13487" y="6743"/>
                </a:moveTo>
                <a:cubicBezTo>
                  <a:pt x="13487" y="10477"/>
                  <a:pt x="10477" y="13487"/>
                  <a:pt x="6743" y="13487"/>
                </a:cubicBezTo>
                <a:cubicBezTo>
                  <a:pt x="3022" y="13487"/>
                  <a:pt x="0" y="10477"/>
                  <a:pt x="0" y="6743"/>
                </a:cubicBezTo>
                <a:cubicBezTo>
                  <a:pt x="0" y="3009"/>
                  <a:pt x="3022" y="0"/>
                  <a:pt x="6743" y="0"/>
                </a:cubicBezTo>
                <a:cubicBezTo>
                  <a:pt x="10477" y="0"/>
                  <a:pt x="13487" y="3009"/>
                  <a:pt x="13487" y="6743"/>
                </a:cubicBez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80" name="Picture 3" descr=""/>
          <p:cNvPicPr/>
          <p:nvPr/>
        </p:nvPicPr>
        <p:blipFill>
          <a:blip r:embed="rId1"/>
          <a:stretch/>
        </p:blipFill>
        <p:spPr>
          <a:xfrm>
            <a:off x="546120" y="266760"/>
            <a:ext cx="317160" cy="317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2"/>
          <a:stretch/>
        </p:blipFill>
        <p:spPr>
          <a:xfrm>
            <a:off x="4432320" y="469800"/>
            <a:ext cx="266400" cy="88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"/>
          <p:cNvPicPr/>
          <p:nvPr/>
        </p:nvPicPr>
        <p:blipFill>
          <a:blip r:embed="rId3"/>
          <a:stretch/>
        </p:blipFill>
        <p:spPr>
          <a:xfrm>
            <a:off x="4724280" y="469800"/>
            <a:ext cx="253800" cy="88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4"/>
          <a:stretch/>
        </p:blipFill>
        <p:spPr>
          <a:xfrm>
            <a:off x="431640" y="711360"/>
            <a:ext cx="672840" cy="126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"/>
          <p:cNvPicPr/>
          <p:nvPr/>
        </p:nvPicPr>
        <p:blipFill>
          <a:blip r:embed="rId5"/>
          <a:stretch/>
        </p:blipFill>
        <p:spPr>
          <a:xfrm>
            <a:off x="1359000" y="71136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6"/>
          <a:stretch/>
        </p:blipFill>
        <p:spPr>
          <a:xfrm>
            <a:off x="1701720" y="723960"/>
            <a:ext cx="151920" cy="1011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"/>
          <p:cNvPicPr/>
          <p:nvPr/>
        </p:nvPicPr>
        <p:blipFill>
          <a:blip r:embed="rId7"/>
          <a:stretch/>
        </p:blipFill>
        <p:spPr>
          <a:xfrm>
            <a:off x="1879560" y="723960"/>
            <a:ext cx="75960" cy="101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8"/>
          <a:stretch/>
        </p:blipFill>
        <p:spPr>
          <a:xfrm>
            <a:off x="2031840" y="711360"/>
            <a:ext cx="558360" cy="12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"/>
          <p:cNvPicPr/>
          <p:nvPr/>
        </p:nvPicPr>
        <p:blipFill>
          <a:blip r:embed="rId9"/>
          <a:stretch/>
        </p:blipFill>
        <p:spPr>
          <a:xfrm>
            <a:off x="431640" y="901800"/>
            <a:ext cx="444240" cy="139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10"/>
          <a:stretch/>
        </p:blipFill>
        <p:spPr>
          <a:xfrm>
            <a:off x="2895480" y="91440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" descr=""/>
          <p:cNvPicPr/>
          <p:nvPr/>
        </p:nvPicPr>
        <p:blipFill>
          <a:blip r:embed="rId11"/>
          <a:stretch/>
        </p:blipFill>
        <p:spPr>
          <a:xfrm>
            <a:off x="355680" y="1104840"/>
            <a:ext cx="2361960" cy="17521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12"/>
          <a:stretch/>
        </p:blipFill>
        <p:spPr>
          <a:xfrm>
            <a:off x="2895480" y="1346040"/>
            <a:ext cx="2069640" cy="1383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"/>
          <p:cNvPicPr/>
          <p:nvPr/>
        </p:nvPicPr>
        <p:blipFill>
          <a:blip r:embed="rId13"/>
          <a:stretch/>
        </p:blipFill>
        <p:spPr>
          <a:xfrm>
            <a:off x="4114800" y="273060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14"/>
          <a:stretch/>
        </p:blipFill>
        <p:spPr>
          <a:xfrm>
            <a:off x="444600" y="3022560"/>
            <a:ext cx="888480" cy="126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"/>
          <p:cNvPicPr/>
          <p:nvPr/>
        </p:nvPicPr>
        <p:blipFill>
          <a:blip r:embed="rId15"/>
          <a:stretch/>
        </p:blipFill>
        <p:spPr>
          <a:xfrm>
            <a:off x="2603520" y="3429000"/>
            <a:ext cx="63000" cy="5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"/>
          <p:cNvPicPr/>
          <p:nvPr/>
        </p:nvPicPr>
        <p:blipFill>
          <a:blip r:embed="rId16"/>
          <a:stretch/>
        </p:blipFill>
        <p:spPr>
          <a:xfrm>
            <a:off x="4089240" y="3111480"/>
            <a:ext cx="456840" cy="1393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17"/>
          <a:stretch/>
        </p:blipFill>
        <p:spPr>
          <a:xfrm>
            <a:off x="698400" y="3645000"/>
            <a:ext cx="3288960" cy="10411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"/>
          <p:cNvPicPr/>
          <p:nvPr/>
        </p:nvPicPr>
        <p:blipFill>
          <a:blip r:embed="rId18"/>
          <a:stretch/>
        </p:blipFill>
        <p:spPr>
          <a:xfrm>
            <a:off x="3987720" y="375912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19"/>
          <a:stretch/>
        </p:blipFill>
        <p:spPr>
          <a:xfrm>
            <a:off x="4203720" y="375912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0"/>
          <a:stretch/>
        </p:blipFill>
        <p:spPr>
          <a:xfrm>
            <a:off x="3987720" y="397512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"/>
          <p:cNvPicPr/>
          <p:nvPr/>
        </p:nvPicPr>
        <p:blipFill>
          <a:blip r:embed="rId21"/>
          <a:stretch/>
        </p:blipFill>
        <p:spPr>
          <a:xfrm>
            <a:off x="4521240" y="3975120"/>
            <a:ext cx="139320" cy="126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"/>
          <p:cNvPicPr/>
          <p:nvPr/>
        </p:nvPicPr>
        <p:blipFill>
          <a:blip r:embed="rId22"/>
          <a:stretch/>
        </p:blipFill>
        <p:spPr>
          <a:xfrm>
            <a:off x="3987720" y="4203720"/>
            <a:ext cx="342720" cy="139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3"/>
          <a:stretch/>
        </p:blipFill>
        <p:spPr>
          <a:xfrm>
            <a:off x="431640" y="4863960"/>
            <a:ext cx="672840" cy="126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"/>
          <p:cNvPicPr/>
          <p:nvPr/>
        </p:nvPicPr>
        <p:blipFill>
          <a:blip r:embed="rId24"/>
          <a:stretch/>
        </p:blipFill>
        <p:spPr>
          <a:xfrm>
            <a:off x="1359000" y="486396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5"/>
          <a:stretch/>
        </p:blipFill>
        <p:spPr>
          <a:xfrm>
            <a:off x="1701720" y="4876920"/>
            <a:ext cx="151920" cy="101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"/>
          <p:cNvPicPr/>
          <p:nvPr/>
        </p:nvPicPr>
        <p:blipFill>
          <a:blip r:embed="rId26"/>
          <a:stretch/>
        </p:blipFill>
        <p:spPr>
          <a:xfrm>
            <a:off x="1879560" y="4863960"/>
            <a:ext cx="571320" cy="1267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"/>
          <p:cNvPicPr/>
          <p:nvPr/>
        </p:nvPicPr>
        <p:blipFill>
          <a:blip r:embed="rId27"/>
          <a:stretch/>
        </p:blipFill>
        <p:spPr>
          <a:xfrm>
            <a:off x="431640" y="5054760"/>
            <a:ext cx="444240" cy="12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"/>
          <p:cNvPicPr/>
          <p:nvPr/>
        </p:nvPicPr>
        <p:blipFill>
          <a:blip r:embed="rId28"/>
          <a:stretch/>
        </p:blipFill>
        <p:spPr>
          <a:xfrm>
            <a:off x="2895480" y="506736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"/>
          <p:cNvPicPr/>
          <p:nvPr/>
        </p:nvPicPr>
        <p:blipFill>
          <a:blip r:embed="rId29"/>
          <a:stretch/>
        </p:blipFill>
        <p:spPr>
          <a:xfrm>
            <a:off x="355680" y="5257800"/>
            <a:ext cx="2539800" cy="17521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"/>
          <p:cNvPicPr/>
          <p:nvPr/>
        </p:nvPicPr>
        <p:blipFill>
          <a:blip r:embed="rId30"/>
          <a:stretch/>
        </p:blipFill>
        <p:spPr>
          <a:xfrm>
            <a:off x="2895480" y="5499000"/>
            <a:ext cx="2069640" cy="1510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31"/>
          <a:stretch/>
        </p:blipFill>
        <p:spPr>
          <a:xfrm>
            <a:off x="2616120" y="7162920"/>
            <a:ext cx="75960" cy="1011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32"/>
          <a:stretch/>
        </p:blipFill>
        <p:spPr>
          <a:xfrm>
            <a:off x="5867280" y="266760"/>
            <a:ext cx="329760" cy="317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"/>
          <p:cNvPicPr/>
          <p:nvPr/>
        </p:nvPicPr>
        <p:blipFill>
          <a:blip r:embed="rId33"/>
          <a:stretch/>
        </p:blipFill>
        <p:spPr>
          <a:xfrm>
            <a:off x="9766440" y="469800"/>
            <a:ext cx="253800" cy="88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34"/>
          <a:stretch/>
        </p:blipFill>
        <p:spPr>
          <a:xfrm>
            <a:off x="10058400" y="469800"/>
            <a:ext cx="253800" cy="885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"/>
          <p:cNvPicPr/>
          <p:nvPr/>
        </p:nvPicPr>
        <p:blipFill>
          <a:blip r:embed="rId35"/>
          <a:stretch/>
        </p:blipFill>
        <p:spPr>
          <a:xfrm>
            <a:off x="5664240" y="736560"/>
            <a:ext cx="596520" cy="1648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36"/>
          <a:stretch/>
        </p:blipFill>
        <p:spPr>
          <a:xfrm>
            <a:off x="5829480" y="939960"/>
            <a:ext cx="1104480" cy="139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37"/>
          <a:stretch/>
        </p:blipFill>
        <p:spPr>
          <a:xfrm>
            <a:off x="5715000" y="1104840"/>
            <a:ext cx="2514240" cy="139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"/>
          <p:cNvPicPr/>
          <p:nvPr/>
        </p:nvPicPr>
        <p:blipFill>
          <a:blip r:embed="rId38"/>
          <a:stretch/>
        </p:blipFill>
        <p:spPr>
          <a:xfrm>
            <a:off x="8318520" y="1104840"/>
            <a:ext cx="456840" cy="1393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39"/>
          <a:stretch/>
        </p:blipFill>
        <p:spPr>
          <a:xfrm>
            <a:off x="8864640" y="1117440"/>
            <a:ext cx="126720" cy="126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"/>
          <p:cNvPicPr/>
          <p:nvPr/>
        </p:nvPicPr>
        <p:blipFill>
          <a:blip r:embed="rId40"/>
          <a:stretch/>
        </p:blipFill>
        <p:spPr>
          <a:xfrm>
            <a:off x="9080640" y="1104840"/>
            <a:ext cx="596520" cy="1393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"/>
          <p:cNvPicPr/>
          <p:nvPr/>
        </p:nvPicPr>
        <p:blipFill>
          <a:blip r:embed="rId41"/>
          <a:stretch/>
        </p:blipFill>
        <p:spPr>
          <a:xfrm>
            <a:off x="9728280" y="1104840"/>
            <a:ext cx="571320" cy="1393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42"/>
          <a:stretch/>
        </p:blipFill>
        <p:spPr>
          <a:xfrm>
            <a:off x="5715000" y="125748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"/>
          <p:cNvPicPr/>
          <p:nvPr/>
        </p:nvPicPr>
        <p:blipFill>
          <a:blip r:embed="rId43"/>
          <a:stretch/>
        </p:blipFill>
        <p:spPr>
          <a:xfrm>
            <a:off x="6261120" y="1257480"/>
            <a:ext cx="228240" cy="126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44"/>
          <a:stretch/>
        </p:blipFill>
        <p:spPr>
          <a:xfrm>
            <a:off x="6578640" y="125748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"/>
          <p:cNvPicPr/>
          <p:nvPr/>
        </p:nvPicPr>
        <p:blipFill>
          <a:blip r:embed="rId45"/>
          <a:stretch/>
        </p:blipFill>
        <p:spPr>
          <a:xfrm>
            <a:off x="7238880" y="1257480"/>
            <a:ext cx="774360" cy="126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"/>
          <p:cNvPicPr/>
          <p:nvPr/>
        </p:nvPicPr>
        <p:blipFill>
          <a:blip r:embed="rId46"/>
          <a:stretch/>
        </p:blipFill>
        <p:spPr>
          <a:xfrm>
            <a:off x="8102520" y="125748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"/>
          <p:cNvPicPr/>
          <p:nvPr/>
        </p:nvPicPr>
        <p:blipFill>
          <a:blip r:embed="rId47"/>
          <a:stretch/>
        </p:blipFill>
        <p:spPr>
          <a:xfrm>
            <a:off x="8534520" y="1257480"/>
            <a:ext cx="380520" cy="126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48"/>
          <a:stretch/>
        </p:blipFill>
        <p:spPr>
          <a:xfrm>
            <a:off x="8978760" y="1257480"/>
            <a:ext cx="1104480" cy="1267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49"/>
          <a:stretch/>
        </p:blipFill>
        <p:spPr>
          <a:xfrm>
            <a:off x="10159920" y="1257480"/>
            <a:ext cx="139320" cy="126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50"/>
          <a:stretch/>
        </p:blipFill>
        <p:spPr>
          <a:xfrm>
            <a:off x="5715000" y="1397160"/>
            <a:ext cx="228240" cy="1267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51"/>
          <a:stretch/>
        </p:blipFill>
        <p:spPr>
          <a:xfrm>
            <a:off x="6045120" y="1397160"/>
            <a:ext cx="228240" cy="1267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52"/>
          <a:stretch/>
        </p:blipFill>
        <p:spPr>
          <a:xfrm>
            <a:off x="6311880" y="1409760"/>
            <a:ext cx="240840" cy="1011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"/>
          <p:cNvPicPr/>
          <p:nvPr/>
        </p:nvPicPr>
        <p:blipFill>
          <a:blip r:embed="rId53"/>
          <a:stretch/>
        </p:blipFill>
        <p:spPr>
          <a:xfrm>
            <a:off x="6642000" y="1397160"/>
            <a:ext cx="1320480" cy="126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54"/>
          <a:stretch/>
        </p:blipFill>
        <p:spPr>
          <a:xfrm>
            <a:off x="8064360" y="1473120"/>
            <a:ext cx="50400" cy="50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55"/>
          <a:stretch/>
        </p:blipFill>
        <p:spPr>
          <a:xfrm>
            <a:off x="5715000" y="1536840"/>
            <a:ext cx="228240" cy="1393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56"/>
          <a:stretch/>
        </p:blipFill>
        <p:spPr>
          <a:xfrm>
            <a:off x="6032520" y="1536840"/>
            <a:ext cx="456840" cy="139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"/>
          <p:cNvPicPr/>
          <p:nvPr/>
        </p:nvPicPr>
        <p:blipFill>
          <a:blip r:embed="rId57"/>
          <a:stretch/>
        </p:blipFill>
        <p:spPr>
          <a:xfrm>
            <a:off x="6578640" y="1536840"/>
            <a:ext cx="888480" cy="1393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"/>
          <p:cNvPicPr/>
          <p:nvPr/>
        </p:nvPicPr>
        <p:blipFill>
          <a:blip r:embed="rId58"/>
          <a:stretch/>
        </p:blipFill>
        <p:spPr>
          <a:xfrm>
            <a:off x="7569360" y="1536840"/>
            <a:ext cx="444240" cy="1393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"/>
          <p:cNvPicPr/>
          <p:nvPr/>
        </p:nvPicPr>
        <p:blipFill>
          <a:blip r:embed="rId59"/>
          <a:stretch/>
        </p:blipFill>
        <p:spPr>
          <a:xfrm>
            <a:off x="8204040" y="1536840"/>
            <a:ext cx="355320" cy="1393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60"/>
          <a:stretch/>
        </p:blipFill>
        <p:spPr>
          <a:xfrm>
            <a:off x="8648640" y="153684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"/>
          <p:cNvPicPr/>
          <p:nvPr/>
        </p:nvPicPr>
        <p:blipFill>
          <a:blip r:embed="rId61"/>
          <a:stretch/>
        </p:blipFill>
        <p:spPr>
          <a:xfrm>
            <a:off x="8966160" y="1536840"/>
            <a:ext cx="139320" cy="126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62"/>
          <a:stretch/>
        </p:blipFill>
        <p:spPr>
          <a:xfrm>
            <a:off x="9182160" y="1536840"/>
            <a:ext cx="456840" cy="139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"/>
          <p:cNvPicPr/>
          <p:nvPr/>
        </p:nvPicPr>
        <p:blipFill>
          <a:blip r:embed="rId63"/>
          <a:stretch/>
        </p:blipFill>
        <p:spPr>
          <a:xfrm>
            <a:off x="9728280" y="1536840"/>
            <a:ext cx="571320" cy="139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64"/>
          <a:stretch/>
        </p:blipFill>
        <p:spPr>
          <a:xfrm>
            <a:off x="5931000" y="1689120"/>
            <a:ext cx="342720" cy="126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65"/>
          <a:stretch/>
        </p:blipFill>
        <p:spPr>
          <a:xfrm>
            <a:off x="6362640" y="168912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66"/>
          <a:stretch/>
        </p:blipFill>
        <p:spPr>
          <a:xfrm>
            <a:off x="6692760" y="1689120"/>
            <a:ext cx="672840" cy="1267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67"/>
          <a:stretch/>
        </p:blipFill>
        <p:spPr>
          <a:xfrm>
            <a:off x="7454880" y="168912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68"/>
          <a:stretch/>
        </p:blipFill>
        <p:spPr>
          <a:xfrm>
            <a:off x="7988400" y="1689120"/>
            <a:ext cx="456840" cy="126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"/>
          <p:cNvPicPr/>
          <p:nvPr/>
        </p:nvPicPr>
        <p:blipFill>
          <a:blip r:embed="rId69"/>
          <a:stretch/>
        </p:blipFill>
        <p:spPr>
          <a:xfrm>
            <a:off x="8648640" y="1689120"/>
            <a:ext cx="558360" cy="126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"/>
          <p:cNvPicPr/>
          <p:nvPr/>
        </p:nvPicPr>
        <p:blipFill>
          <a:blip r:embed="rId70"/>
          <a:stretch/>
        </p:blipFill>
        <p:spPr>
          <a:xfrm>
            <a:off x="9245520" y="1689120"/>
            <a:ext cx="774360" cy="126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71"/>
          <a:stretch/>
        </p:blipFill>
        <p:spPr>
          <a:xfrm>
            <a:off x="10109160" y="168912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72"/>
          <a:stretch/>
        </p:blipFill>
        <p:spPr>
          <a:xfrm>
            <a:off x="5715000" y="182880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73"/>
          <a:stretch/>
        </p:blipFill>
        <p:spPr>
          <a:xfrm>
            <a:off x="6032520" y="182880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"/>
          <p:cNvPicPr/>
          <p:nvPr/>
        </p:nvPicPr>
        <p:blipFill>
          <a:blip r:embed="rId74"/>
          <a:stretch/>
        </p:blipFill>
        <p:spPr>
          <a:xfrm>
            <a:off x="6362640" y="1828800"/>
            <a:ext cx="240840" cy="126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75"/>
          <a:stretch/>
        </p:blipFill>
        <p:spPr>
          <a:xfrm>
            <a:off x="6692760" y="1828800"/>
            <a:ext cx="2006280" cy="126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76"/>
          <a:stretch/>
        </p:blipFill>
        <p:spPr>
          <a:xfrm>
            <a:off x="5702400" y="2108160"/>
            <a:ext cx="4597200" cy="3809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"/>
          <p:cNvPicPr/>
          <p:nvPr/>
        </p:nvPicPr>
        <p:blipFill>
          <a:blip r:embed="rId77"/>
          <a:stretch/>
        </p:blipFill>
        <p:spPr>
          <a:xfrm>
            <a:off x="7950240" y="7162920"/>
            <a:ext cx="139320" cy="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438920" cy="72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362960" cy="72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雨林木风</cp:lastModifiedBy>
  <dcterms:modified xsi:type="dcterms:W3CDTF">2010-04-24T16:48:41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